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4BD-3A11-4AF2-984F-DD49E556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689-EC67-4F97-B36C-AA597069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216-AD6C-46D1-A1BD-B405A513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F07-4035-44E0-A84E-02D91164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E127-C571-42B5-A964-6BB106FF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0B3F-631E-4D4C-9A9B-4FE885FB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6C26-95D6-487B-868B-8ECC3705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167A-4ED7-4FFC-BE68-FE3223B2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829C-928B-40E9-8450-A6093900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8BD5-DF2E-4E37-B912-A3FDA552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5491-0BAB-409D-B64E-A16AE86B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2AC-7EDB-49BB-8465-5E3EE8B4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1AB1-B272-4DB1-AE87-67BAE96B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5884-30DA-4C3E-81C0-033475D5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3D42-4F64-4EA4-8F05-617B4600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231C-DD9B-498F-9E48-184EA688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D474-BDE6-4A22-89F0-E918EE96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CC5-1A9F-4574-8794-6EF642FF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1CB-2591-47DD-99F6-01BFE5F3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C04-AAB9-4866-B6D1-460E565B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08E-ACBE-4234-8377-5E7D938E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7BD-E78C-47F4-88AA-3FDFD13E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659-1E85-41D0-96A3-26D3562E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822-9C5D-476E-8E73-BEAD9461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371600"/>
            <a:ext cx="5116680" cy="1522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43040" y="6629400"/>
            <a:ext cx="3795480" cy="2271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f1e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Jezične tehnologij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i hrvatski jezik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o Tadić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arko.tadic@ffzg.hr, www.hnk.ffzg.hr/m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ozofski fakultet Sveučilišta u Zagrebu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dsjek za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lingvistiku i 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d za lingvisti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Jota, Ljubljan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2004-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rimjeri uporabe jezičnih tehnologij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ću bijelo rublje oprano sutra do 21:00!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338880" y="1219320"/>
            <a:ext cx="2805120" cy="28191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1592280" cy="21337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380880" y="21337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ću kavu sutra u 6:45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4495680"/>
            <a:ext cx="4114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oji je izlaz z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j let i koliko još imam vremena do polaska?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5191200" y="4343400"/>
            <a:ext cx="3495600" cy="23367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76320" y="586728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ligentni ambij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200" indent="-17820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cijsko društvo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U 20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JT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za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»mal</a:t>
            </a: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« jezik</a:t>
            </a: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ključivanje »malih« jezika u nadnacionalne asocijacije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(tj. EU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veza razvitka jezičnih tehnologija za svaki pojedini jez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nema informacijskoga društva bez razvijenih JT za tu društvenu zajednic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»mali« jezik neće preživjeti konzerviranjem u 20. stoljeću, nego adaptiranjem na 21. stoljeć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situacija s hrvatski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Upozorenja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tko neće riješiti JT za hrvatski osim n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ć kasnimo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rvatski će jezik postati funkcionalno nepismen zbog nemogućnosti sudjelovanja u digitalnim komunikacijskim kanalima 21. stoljeć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T za hrvatski morale bi imati status 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Arial"/>
              </a:rPr>
              <a:t>temeljnog istraživanja u humanističkim znanosti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Upozorenja 2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T za hrvatski moraju postati jedan od osnovnih strategijskih pravaca u Strategiji informatizacije R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aju s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vatiti kao njezin nezaobilazan di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aju biti izrijekom navedene i razrađene, a ne samo spomenute u jednoj rečenici (Budin i sur. 2001:19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aknuti istraživanja o hrvatskom jeziku i govoru potrebna za razvoj sučeljavanja s nacionalnim sad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žajima na informacijskoj i komunikacijskoj infrastrukturi.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tirati kao jedan od prioriteta (Česi, Slovenci, Madžari, Poljaci, EU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cijsko društvo neće moći u Hrvatsku ako se za hrvatski ne razviju J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JT za hrvatski jezik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JT kroz perspektivu postojećih znanos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jezikoslovlje: jezik + računal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fonetika: govor + računal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informacijske znanosti: računalo + jezik/gov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što je od JT za hrvatski u tim znanostima bilo prisutno krajem stoljeća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JT za hrvatski jezik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jezikoslovl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Zavod za lingvistiku FFZG-a: tradicija korpusnolingvističkih istraživanj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Osman, 1967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Filipovićev/Bujasov paralelni korpus u kontrastivnim istraživanjima, 1968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Stari pisci hrvatski, ’70-’80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Mogušev 1-milijunski korpus hrvatskoga književnoga jezika,</a:t>
            </a:r>
            <a:br>
              <a:rPr sz="1800"/>
            </a:b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1976-199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Hrvatski čestotni rječnik, 1999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Hrvatski nacionalni korpus (HNK) 1998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fonetik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dsjek za fonetiku FFZG-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razna statistička istraživanja govo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baza difona za hrvatski jezik, 1998-1999. (projekt MBROL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JT za hrvatski jezik 2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informacijske znanos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dsjek za informacijske znanosti FFZG-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digitalizacija tekstova (dokumentalistika i arhivistik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umjetni jezici (formalne gramatik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računalna obradba prirodnoga jezik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protipni označivač SOLAH: Žubrinić, 1995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segmentacija teksta na rečenice: Boras, 1998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Rječnička baza hrvatskoga književnoga jezika: Boras, rane ‘90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Fakultet elektrotehnike i računarstva ZG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obradba govora kao obradba signal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statistika, HMM..., kasne ‘90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što učiniti s tako nedovoljno razvijenim područje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ortal JTHJ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al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Jezične tehnologije za hrvatski jez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-proje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janje: od 2000-11 do 2001-1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pora MZT RH pod brojem 00-8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veza održavanje podataka: 3 daljnje god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ni katalo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itucij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k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zičnih resursa i al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zanih uz područje (hrvatskih) J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hnk.ffzg.hr/jth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dić &amp; Simeon (2001)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uilding the Croatian Language Technologies Portal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UC2001 CD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(http://www.carnet.hr/CU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7772400" y="152280"/>
            <a:ext cx="1187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ortaj JTHJ 2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Portal JTHJ </a:t>
            </a:r>
            <a:r>
              <a:rPr b="0" lang="hr-HR" sz="3600" spc="-1" strike="noStrike">
                <a:solidFill>
                  <a:srgbClr val="cbcbc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osnovna područj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tivna sastavn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aktivna sastavn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vigacijska trak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ktura svakog popi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rh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vke relevantne za hrvatsk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redina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vke relevantne za ostale jezi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no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anice sa sličnim poveznicam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772400" y="152280"/>
            <a:ext cx="1187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lan izlaganj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strijalizacija prirodnoga jezik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pektive »malih« jezika u (digitalnim) komunikacijskim kanalima 21. stoljeć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reba za jezičnim tehnologijama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cijsko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ruštv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stanje JT-a za hrvatski jez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ostojeći i planirani projek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Portal JTHJ 3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Portal JTHJ 4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Portal JTHJ 5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ituacija s JT za hrvatski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zični resurs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rpusi (Zavod za lingvistiku, FFZ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i nacionalni korpus (www.hnk.ffzg.hr) (MZT 130718, 0130418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bna inačica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, www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 pretraživo &gt;12 Mw, skupljeno 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140 Mw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Bonito: pretraživ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50 Mw (hnk2.ffzg.hr, korisnik: gost, bez zapork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ma 100 Mw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NK 1: 30m i HET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NK 2: pretraživanje tajk*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6108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NK 3: konkordancija#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HNK s Bonito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ituacija s JT za hrvatski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zični resurs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rpusi (Zavod za lingvistiku, FFZ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i nacionalni korpus (www.hnk.ffzg.hr) (MZT 130718, 0130418, potpora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bna inačica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, www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 pretraživo &gt;12 Mw, skupljeno 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140 Mw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Bonito: pretraživ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50 Mw (hnk2.ffzg.hr, korisnik: gost, bez zapork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ma 100 Mw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o-engleski paralelni korp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,5 Mw prijevoda (HR: 1,6; EN: 1,9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ravnjeno 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ligne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 na rečeničnoj razin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R-EN paralelni korpus: pretraga 1:1#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763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Industrijalizacija jezik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strijalizacija = zamjena ljudskoga rada strojn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jske revoluci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strijalizacija ljudske komunikacije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(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obzirom na proizvodnju teks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sa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saći stro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obzirom na udaljenost komunikaci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gnali (dimni, svjetlosni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glasnic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oš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zoja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fon, telefa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e mreže (Internet i njegovi servisi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žemo li industrijalizirati uporabu prirodnoga jezika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ituacija s JT za hrvatski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zični resurs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rpusi (Zavod za lingvistiku, FFZ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i nacionalni korpus (www.hnk.ffzg.hr) (MZT 130718, 0130418, potpora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bna inačica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, www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 pretraživo &gt;12 Mw, skupljeno 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140 Mw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Bonito: pretraživ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50 Mw (hnk2.ffzg.hr, korisnik: gost, bez zapork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ma 100 Mw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o-engleski paralelni korp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,5 Mw prijevoda (HR: 1,6; EN: 1,9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ravnjeno 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ligne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 na rečeničnoj razin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o-slovenski paralelni korp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iran na  1 Mw prijevoda (HR: 0,5; SI: 0,5)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MZT 130821)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, 2000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kupljeno oko 0,4 Mw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in statu nascendi</a:t>
            </a:r>
            <a:r>
              <a:rPr b="1" i="1" lang="hr-HR" sz="1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prekonzervativno postavljeni korpusni parametr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ituacija s JT za hrvatski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zični resurs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rpusi (Zavod za lingvistiku, FFZ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i nacionalni korpus (www.hnk.ffzg.hr) (MZT 130718, 0130418, potpora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bna inačica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, www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 pretraživo &gt;12 Mw, skupljeno 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140 Mw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Bonito: pretraživ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50 Mw (hnk2.ffzg.hr, korisnik: gost, bez zapork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ma 100 Mw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o-engleski paralelni korp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,5 Mw prijevoda (HR: 1,6; EN: 1,9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ravnjeno 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ligne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 na rečeničnoj razin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o-slovenski paralelni korp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iran na  1 Mw prijevoda (HR: 0,5; SI: 0,5)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MZT 130821)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, 2000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kupljeno oko 0,4 Mw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in statu nascendi</a:t>
            </a:r>
            <a:r>
              <a:rPr b="1" i="1" lang="hr-HR" sz="1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prekonzervativno postavljeni korpusni parametr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ječnici / leksikoni / tezaurus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i morfološki leksiko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www.hnk.ffzg.hr/hm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0 natuknica s generiranim svim oblicima i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MSD-ovim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ML: pretraga leme jedrenj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457200" y="47520"/>
          <a:ext cx="8153280" cy="680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7520"/>
                    <a:ext cx="8153280" cy="68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ML: rezultati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457200" y="47520"/>
          <a:ext cx="8153280" cy="680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7520"/>
                    <a:ext cx="8153280" cy="68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ML: Goog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52280" y="-9360"/>
            <a:ext cx="762948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ML: pretraga oblika žen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457200" y="47520"/>
          <a:ext cx="8153280" cy="680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7520"/>
                    <a:ext cx="8153280" cy="68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ML: rezultati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7200" y="47520"/>
          <a:ext cx="8153280" cy="680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7520"/>
                    <a:ext cx="8153280" cy="68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ituacija s JT za hrvatski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zični resurs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korpus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1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i nacionalni korpus (www.hnk.ffzg.hr) (MZT 130718, 0130418, potpora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bna inačica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, www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 pretraživo &gt;12 Mw, skupljeno 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140 Mw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Bonito: pretraživ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50 Mw (hnk2.ffzg.hr, korisnik: gost, bez zapork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ma 100 Mw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o-engleski paralelni korp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,5 Mw prijevoda (HR: 1,6; EN: 1,9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ravnjeno 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ligne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 na rečeničnoj razin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o-slovenski paralelni korp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iran na  1 Mw prijevoda (HR: 0,5; SI: 0,5)(MZT 130821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kupljeno oko 0,4 Mw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in statu nascendi</a:t>
            </a:r>
            <a:r>
              <a:rPr b="1" i="1" lang="hr-HR" sz="1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prekonzervativno postavljeni korpusni parametr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ječnici / leksikoni / tezaurus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i morfološki leksiko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www.hnk.ffzg.hr/hm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0 natuknica s generiranim svim oblicima i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MSD-ovim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prvi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-Hr rječnik na CD-u: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Anić, 4. izdanje, 2003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Screenshot Anićeva rječnik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ms4479_06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ituacija s JT za hrvatski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zični resurs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korpus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11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i nacionalni korpus (www.hnk.ffzg.hr) (MZT 130718, 0130418, potpora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bna inačica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, www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 pretraživo &gt;12 Mw, skupljeno 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140 Mw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Bonito: pretraživ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50 Mw (hnk2.ffzg.hr, korisnik: gost, bez zapork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ma 100 Mw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o-engleski paralelni korp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,5 Mw prijevoda (HR: 1,6; EN: 1,9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ravnjeno 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ligne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 na rečeničnoj razin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o-slovenski paralelni korp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iran na  1 Mw prijevoda (HR: 0,5; SI: 0,5)(MZT 130821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kupljeno oko 0,4 Mw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in statu nascendi</a:t>
            </a:r>
            <a:r>
              <a:rPr b="1" i="1" lang="hr-HR" sz="1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prekonzervativno postavljeni korpusni parametr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ječnici / leksikoni / tezaurus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i morfološki leksiko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www.hnk.ffzg.hr/hm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6.000 natuknica s generiranim svim oblicima i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MSD-ovim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prvi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-Hr rječnik na CD-u: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Anić, 4. izdanje, 2003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tezauru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UROVOC, 2000., 4. izdanje (www.hidra.h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Industrijalizacija jezika 2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omunikacijski kanali 21. stoljeć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ni (GSM telefoni, HDTV, digitalni sateliti, Internet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čunalno upravljani/posredovan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ze znanj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ve više multimedijs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!ali većina ljudskoga znanja još uvijek predstavlje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lasičnim tekstom (na papiru) ili e-tekstom (digitaln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raba prirodnoga jezik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 oba područja nezamjenlji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že li se ta uporaba olakšati, pospješiti, ubrzati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raba kojega prirodnog jezika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gleski (u sveprisutnoj globalizacij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tali jezici? (oko 600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»mali« jezici? (po broju govornik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EUROVOC Hidra#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ituacija s JT za hrvatski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zični resursi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(javne ustanove i tvrtk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korpus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11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i nacionalni korpus (www.hnk.ffzg.hr) (MZT 130718, 0130418, potpora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bna inačica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, www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 pretraživo &gt;12 Mw, skupljeno 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140 Mw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Bonito: pretraživ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50 Mw (hnk2.ffzg.hr, korisnik: gost, bez zapork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ma 100 Mw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o-engleski paralelni korp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,5 Mw prijevoda (HR: 1,6; EN: 1,9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ravnjeno 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ligne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 na rečeničnoj razin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o-slovenski paralelni korpu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iran na  1 Mw prijevoda (HR: 0,5; SI: 0,5)(MZT 130821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kupljeno oko 0,4 Mw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in statu nascendi</a:t>
            </a:r>
            <a:r>
              <a:rPr b="1" i="1" lang="hr-HR" sz="1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prekonzervativno postavljeni korpusni parametr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ječnici / leksikoni / tezaurus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vatski morfološki leksiko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www.hnk.ffzg.hr/hm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6.000 natuknica s generiranim svim oblicima i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MSD-ovim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prvi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-Hr rječnik na CD-u: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Anić, 4. izdanje, 2003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tezauru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UROVOC, 2000., 4. izdanje (www.hidra.hr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stali rječnici: malo natuknica, visoko specijalizirani, amaterski.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ituacija s JT za hrvatski 2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zični alati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 (javne ustanov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rada morfologi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tor: Tadić (1994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ma analizator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Boras (1990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ma označivača/lematizatora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POS tagger)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Žubrinić (1995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rada sintak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ma prepoznavanja dijelova rečenic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hunker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Boras (1998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ma prepoznavanja naziva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! Bekavac (2005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ma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robustnog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sera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      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jan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 2003., primjena LFG-ja na hrvatski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mantička obra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ma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 općejezičnoga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zaurus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HR MS Office 2003?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ma leksi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čke semantike tj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mantičkih mreža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! HrWN / CEWN?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ma prepoznavanja rečeničnog značenja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! Vučković (2004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ojno (potpomognuto) prevođen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paralelni korpusi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ojno (potpomognuto) učenje hrvatsko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rada govo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UX za slabovidn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ituacija s JT za hrvatski 3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mercijalni proizvodi za hrvatski jezik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(tvrtk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vopisni provjernici (5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), MS Office 1997., i-spell 2000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vi opći jednojezični hrvatski rječnik na CD-u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, Anić 4. izdanje,</a:t>
            </a:r>
            <a:br>
              <a:rPr sz="1800"/>
            </a:b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Nov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liber, 2003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zaurus u izradi (najavljen za MS-Office 2003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a provjernika gramatike i/li stil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a sustava za prirodnojezično pretraživanje teks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a sustava za automatsko diktiranje ili spikiran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a sustava za strojno prevođenj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Word Translator?, NeuroTran?, PalmTran?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čunalni sustav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a učenje hrvatskoga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(licenca), 2004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Planirani i započeti projekti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HN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značavanje i lematizacija, tagset: MTE (adaptiran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unigramska razi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izrazita “unutarnja” homografija, mala “vanjska” homografij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razrješivanje homografa (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disambiguation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3733920" y="-209520"/>
            <a:ext cx="3781440" cy="70675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-209520"/>
            <a:ext cx="37814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Planirani i započeti projekti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HN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značavanje i lematizacija, tagset: MTE (adaptiran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unigramska razi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izrazita “unutarnja” homografija, mala “vanjska” homografij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razrješivanje homografa (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disambiguation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Institut za hrvatski jezik i jezikoslovl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javni instit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lanira izgradnju hr. korpus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za potrebe sastavljanja jednojezičnoga hr. rječn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50 Mw, lematiziran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Planirani i započeti projekti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HNK (</a:t>
            </a: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Razvitak hrvatskih jezičnih resursa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, 013041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značavanje i lematizacija, tagset: MTE (adaptiran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unigramska razi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izrazita “unutarnja” homografija, mala “vanjska” homografij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razrješivanje homografa (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disambiguation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Institut za hrvatski jezik i jezikoslovl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javni instit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lanira izgradnju hr. korpus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za potrebe sastavljanja jednojezičnoga hr. rječn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50 Mw, lematiziran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lanirani i zapo</a:t>
            </a: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četi projekti 2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Hrvatska rječnička baština i prikaz rječničkoga znanj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FFZG: Damir Bor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upire: MZT i UNESC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digitalizacije (slik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digitalizacija u boji (24-48 bita), rezolucija oko 400 dp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nekomprimira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upisa (tekst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doslovan prijepis teksta (fon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rema stranicama, prema reci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transkripci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jednoznačna transliteracija (primjer Vrančić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doslovna automatsko preobličavanje na modernu grafij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ručna prilagodba na suvremeni pravop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rijevod na današnji hrvatski jez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hrana leksikografskih polja u bazu podata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bcbcb"/>
                </a:solidFill>
                <a:latin typeface="Times New Roman"/>
              </a:rPr>
              <a:t>Planirani i započeti projekti 2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dubinska analiza teksta (</a:t>
            </a: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text-mining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) i klasifikacija dokumen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FER: ZEMRIS, Dalbelo-Bašić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FOI: Jasminka Dobša (Hr-S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A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HIDRA, FFZG, F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e-Hrvat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reporuke za normiranje formata zapisa službene dokumentacije R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suradnja s JRC-om iz Isp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jena broja izvornih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ornika jezika pisanih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inic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vijet u brojka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zaik knjiga, Zagreb 1999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4360" y="0"/>
            <a:ext cx="287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Procjena broja izvornih govorni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78320" y="40320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lan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44240" y="40320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6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79040" y="60480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44240" y="60480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8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77960" y="80640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ki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98800" y="8064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78680" y="100800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98800" y="10080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5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8320" y="120960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e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98800" y="12096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9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78680" y="1411200"/>
            <a:ext cx="6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98800" y="14112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5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78680" y="160668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b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98800" y="1606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4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77960" y="1808280"/>
            <a:ext cx="60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tav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98800" y="18082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7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79040" y="200988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rve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98800" y="20098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79040" y="221148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dav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98800" y="22114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79040" y="2411280"/>
            <a:ext cx="6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rvat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98800" y="24112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79040" y="2612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98800" y="26128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1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79760" y="2814480"/>
            <a:ext cx="56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98800" y="28144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8320" y="301608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3840" y="30160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4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77960" y="321804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atal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03840" y="321804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79040" y="341964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ve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3840" y="341964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8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78680" y="362124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dža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04840" y="36212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79400" y="3822840"/>
            <a:ext cx="44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češ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04840" y="38228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77960" y="402444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izozem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04840" y="40244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.9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78680" y="4226040"/>
            <a:ext cx="70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la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04840" y="42260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.1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79400" y="442764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mun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04840" y="44276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.7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78680" y="462924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04840" y="46292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8.6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7960" y="483084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vahi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04840" y="48308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0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77600" y="502596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lij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04840" y="50259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7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79760" y="522756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04840" y="5227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1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77600" y="5429160"/>
            <a:ext cx="97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jetnam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04840" y="54291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3.5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78680" y="563076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ancu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01600" y="56307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5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79040" y="583236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jem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01600" y="58323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1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78320" y="603396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uga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02960" y="603396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8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77960" y="623556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panjo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02960" y="623556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10.8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78680" y="643572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gle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06200" y="643572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0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-42840" y="0"/>
            <a:ext cx="922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Jezične tehnologij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i hrvatski jezik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20574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o Tadić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arko.tadic@ffzg.hr, www.hnk.ffzg.hr/m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ozofski fakultet Sveučilišta u Zagrebu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dsjek za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lingvistiku i 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d za lingvisti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Jota, Ljubljan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2004-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20000"/>
              </a:lnSpc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jena broja riječi za jezike pisane latinicom na www-stranicama dohvatljivim Altavistom 2001-03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Kilgariff &amp; Grefenstette: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ntroduction to the Special Issue on the Web as Corpu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Computational Linguistics 3/29, 2003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20000"/>
              </a:lnSpc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j riječi na www-stranicama za pojedini jezik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okazatelj njegove industrijaliziranosti/digitalizira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040" y="0"/>
            <a:ext cx="343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Procjena broja riječi na www-stranic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1760" y="20160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b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20000" y="2016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33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2120" y="40320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0000" y="4032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.70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2120" y="60480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l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0000" y="6048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.99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1040" y="806400"/>
            <a:ext cx="60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tav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3240" y="8064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5.42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1760" y="1008000"/>
            <a:ext cx="6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23240" y="1008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9.679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1400" y="120960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lan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23240" y="12096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3.94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1040" y="141120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ki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23240" y="14112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.34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1400" y="1606680"/>
            <a:ext cx="61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ti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23240" y="16066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.94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2480" y="18082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pera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23240" y="18082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7.15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2480" y="200988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mun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23240" y="20098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6.39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2840" y="2211480"/>
            <a:ext cx="36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23240" y="22114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8.28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2120" y="241128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23240" y="24112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8.06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1760" y="26128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e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24600" y="261288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9.15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2120" y="2814480"/>
            <a:ext cx="6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rvat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24600" y="281448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6.07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1760" y="3016080"/>
            <a:ext cx="70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la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29280" y="301608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7.24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2840" y="321804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29280" y="32180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7.35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1040" y="341964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atal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29280" y="34196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3.59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1760" y="362124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29280" y="36212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6.59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1760" y="382284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29280" y="38228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22.28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480" y="402444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29280" y="40244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26.379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2840" y="4226040"/>
            <a:ext cx="56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29280" y="42260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46.94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2120" y="442764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dža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29280" y="44276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57.52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840" y="4629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če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29280" y="46292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20.18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2480" y="483084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rve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29280" y="48308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9.93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2120" y="502596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ve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0960" y="50259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03.07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1400" y="522756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izozem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0960" y="52275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63.01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1400" y="542916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uga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0960" y="54291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333.66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0680" y="563076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lij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77720" y="56307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845.02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1400" y="583236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panjo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77720" y="58323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658.63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2120" y="603396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ancu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77720" y="60339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836.87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2120" y="623556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jem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77720" y="62355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035.85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1760" y="643572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gle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82320" y="643572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6.598.718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0040" y="0"/>
            <a:ext cx="343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Procjena broja riječi na www-stranic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1760" y="20160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b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20000" y="2016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33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2120" y="40320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20000" y="4032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.70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2120" y="60480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l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20000" y="6048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.99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1040" y="806400"/>
            <a:ext cx="60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tav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23240" y="8064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5.42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1760" y="1008000"/>
            <a:ext cx="6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23240" y="1008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9.679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1400" y="120960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lan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23240" y="12096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3.94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1040" y="141120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ki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23240" y="14112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.34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1400" y="1606680"/>
            <a:ext cx="61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ti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23240" y="16066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.94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2480" y="18082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pera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23240" y="18082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7.15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480" y="200988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mun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23240" y="20098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6.39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840" y="2211480"/>
            <a:ext cx="36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23240" y="22114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8.28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2120" y="241128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23240" y="24112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8.06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1760" y="26128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e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24600" y="261288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9.15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120" y="2814480"/>
            <a:ext cx="6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rvat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24600" y="281448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6.07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1760" y="3016080"/>
            <a:ext cx="70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la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29280" y="301608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7.24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840" y="321804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29280" y="32180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7.35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1040" y="341964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atal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29280" y="34196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3.59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1760" y="362124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29280" y="36212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6.59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1760" y="382284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29280" y="38228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22.28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2480" y="402444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29280" y="40244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26.379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2840" y="4226040"/>
            <a:ext cx="56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29280" y="42260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46.94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" y="442764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dža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29280" y="44276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57.52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629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če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29280" y="46292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20.18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2480" y="483084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rve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29280" y="48308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9.93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" y="502596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ve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0960" y="50259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03.07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1400" y="522756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izozem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0960" y="52275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63.01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1400" y="542916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uga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0960" y="54291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333.66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0680" y="563076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lij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77720" y="56307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845.02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1400" y="583236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panjo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77720" y="58323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658.63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2120" y="603396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ancu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77720" y="60339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836.87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2120" y="623556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jem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77720" y="62355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035.85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1760" y="643572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gle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82320" y="643572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6.598.718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4360" y="0"/>
            <a:ext cx="287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Procjena broja izvornih govorni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78320" y="40320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lan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44240" y="40320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6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79040" y="60480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44240" y="60480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8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77960" y="80640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ki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98800" y="8064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78680" y="100800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98800" y="10080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5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78320" y="120960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e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98800" y="12096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9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78680" y="1411200"/>
            <a:ext cx="6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98800" y="14112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5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78680" y="160668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b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98800" y="1606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4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77960" y="1808280"/>
            <a:ext cx="60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tav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98800" y="18082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7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79040" y="200988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rve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98800" y="20098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9040" y="221148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dav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98800" y="22114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79040" y="2411280"/>
            <a:ext cx="6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rvat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98800" y="24112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79040" y="2612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98800" y="26128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1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79760" y="2814480"/>
            <a:ext cx="56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98800" y="28144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78320" y="301608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03840" y="30160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4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77960" y="321804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atal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03840" y="321804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79040" y="341964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ve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03840" y="341964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8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78680" y="362124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dža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404840" y="36212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79400" y="3822840"/>
            <a:ext cx="44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češ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04840" y="38228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77960" y="402444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izozem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404840" y="40244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.9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78680" y="4226040"/>
            <a:ext cx="70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la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404840" y="42260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.1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79400" y="442764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mun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04840" y="44276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.7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78680" y="462924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04840" y="46292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8.6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77960" y="483084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vahi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04840" y="48308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0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77600" y="502596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lij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04840" y="50259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7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79760" y="522756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04840" y="5227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1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77600" y="5429160"/>
            <a:ext cx="97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jetnam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04840" y="54291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3.5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78680" y="563076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ancu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01600" y="56307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5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79040" y="583236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jem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1600" y="58323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1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78320" y="603396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uga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02960" y="603396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8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77960" y="623556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panjo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02960" y="623556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10.8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78680" y="643572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gle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06200" y="643572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86.7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0040" y="0"/>
            <a:ext cx="343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Procjena broja riječi na www-stranic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760" y="20160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b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20000" y="2016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33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2120" y="40320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20000" y="4032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.70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2120" y="60480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l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20000" y="6048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.99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1040" y="806400"/>
            <a:ext cx="60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tav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23240" y="8064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5.42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1760" y="1008000"/>
            <a:ext cx="6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23240" y="10080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9.679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1400" y="120960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lan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23240" y="12096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3.94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1040" y="141120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ki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23240" y="141120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.34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1400" y="1606680"/>
            <a:ext cx="61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ti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23240" y="16066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.94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2480" y="180828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pera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23240" y="18082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7.15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2480" y="200988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mun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23240" y="20098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6.39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2840" y="2211480"/>
            <a:ext cx="36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23240" y="22114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8.28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2120" y="241128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23240" y="24112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8.06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1760" y="26128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e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24600" y="261288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9.15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2120" y="2814480"/>
            <a:ext cx="6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rvat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24600" y="281448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6.07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1760" y="3016080"/>
            <a:ext cx="70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la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29280" y="301608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7.24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2840" y="321804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29280" y="32180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7.35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1040" y="341964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atal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29280" y="34196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3.59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1760" y="362124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29280" y="36212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6.59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1760" y="382284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29280" y="38228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22.283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2480" y="402444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29280" y="40244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26.379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840" y="4226040"/>
            <a:ext cx="56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29280" y="42260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46.94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2120" y="442764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dža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29280" y="44276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57.52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02840" y="4629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če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29280" y="46292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20.18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2480" y="483084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rve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29280" y="483084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9.93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2120" y="502596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ve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0960" y="50259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03.07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1400" y="522756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izozem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0960" y="52275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63.01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1400" y="542916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uga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0960" y="54291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333.66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0680" y="563076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lij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77720" y="56307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845.026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1400" y="583236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panjo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77720" y="58323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658.631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2120" y="603396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ancu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77720" y="60339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836.874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2120" y="623556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jem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77720" y="6235560"/>
            <a:ext cx="114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035.85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1760" y="643572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gle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82320" y="643572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6.598.718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360" y="0"/>
            <a:ext cx="287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Procjena broja izvornih govorni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78320" y="40320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lan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44240" y="40320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6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79040" y="60480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44240" y="60480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8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77960" y="80640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ki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98800" y="8064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78680" y="100800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98800" y="10080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5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78320" y="120960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e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98800" y="12096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9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78680" y="1411200"/>
            <a:ext cx="6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to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98800" y="14112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5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78680" y="160668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b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98800" y="1606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4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77960" y="1808280"/>
            <a:ext cx="60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tav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498800" y="18082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7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79040" y="200988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rveš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98800" y="20098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79040" y="221148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dav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98800" y="22114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79040" y="2411280"/>
            <a:ext cx="6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rvat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98800" y="24112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79040" y="2612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98800" y="26128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1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79760" y="2814480"/>
            <a:ext cx="56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98800" y="28144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78320" y="301608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lov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03840" y="30160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4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77960" y="321804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atal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03840" y="321804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79040" y="341964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ved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03840" y="341964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8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78680" y="362124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dža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04840" y="36212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79400" y="3822840"/>
            <a:ext cx="44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češ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04840" y="38228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77960" y="402444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izozem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04840" y="40244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.9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78680" y="4226040"/>
            <a:ext cx="70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la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04840" y="42260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.1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79400" y="442764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mun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404840" y="44276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.7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78680" y="462924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j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04840" y="46292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8.6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77960" y="483084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vahi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04840" y="48308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0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77600" y="502596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lijan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04840" y="50259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7.2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9760" y="522756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04840" y="5227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1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77600" y="5429160"/>
            <a:ext cx="97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jetnam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04840" y="54291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3.5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78680" y="563076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ancu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401600" y="56307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5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79040" y="583236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jemač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01600" y="58323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1.0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8320" y="603396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uga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2960" y="603396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8.3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77960" y="623556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španjol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02960" y="623556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10.8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78680" y="6435720"/>
            <a:ext cx="71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glesk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306200" y="643572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86.70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6553080"/>
            <a:ext cx="167616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05320" y="5943600"/>
            <a:ext cx="1676160" cy="3808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505320" y="5715000"/>
            <a:ext cx="1676160" cy="3808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5320" y="5943600"/>
            <a:ext cx="1676160" cy="3808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505320" y="5181480"/>
            <a:ext cx="1676160" cy="5335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05320" y="5562720"/>
            <a:ext cx="1676160" cy="6094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505320" y="4190760"/>
            <a:ext cx="1676160" cy="11430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505320" y="3581280"/>
            <a:ext cx="1676160" cy="15242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505320" y="2133720"/>
            <a:ext cx="1676160" cy="27432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505320" y="3962520"/>
            <a:ext cx="1676160" cy="7617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505320" y="3733920"/>
            <a:ext cx="1676160" cy="7617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505320" y="2971800"/>
            <a:ext cx="1676160" cy="12952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505320" y="2743200"/>
            <a:ext cx="1676160" cy="12952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3886200"/>
            <a:ext cx="1676160" cy="8380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05320" y="3124080"/>
            <a:ext cx="1676160" cy="6098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505320" y="3352680"/>
            <a:ext cx="1676160" cy="1526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5320" y="3352680"/>
            <a:ext cx="1676160" cy="19814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5320" y="3124080"/>
            <a:ext cx="1676160" cy="12193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505320" y="2514600"/>
            <a:ext cx="1676160" cy="3808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505320" y="1371600"/>
            <a:ext cx="1676160" cy="12952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05320" y="1143000"/>
            <a:ext cx="1676160" cy="12952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2133720"/>
            <a:ext cx="1676160" cy="23619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505320" y="533520"/>
            <a:ext cx="1676160" cy="7617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05320" y="1066680"/>
            <a:ext cx="1676160" cy="4572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914400"/>
            <a:ext cx="1676160" cy="10666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05320" y="304920"/>
            <a:ext cx="1676160" cy="14475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05320" y="914040"/>
            <a:ext cx="1676160" cy="6094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05320" y="533520"/>
            <a:ext cx="1676160" cy="1522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ezične tehnologije (JT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ed množine tekstova na www-stranicama za neki jez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ja razviti i pomagala za uporabu tog jezika u računalnokomunikacijskome okružj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12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hnologija = “skup metoda i postupaka za preradbu sirovina u proizvode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rvatski opći leksik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LZMK, 1996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što je sirovina, a što proizvod u slučaju jezičnih tehnologija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rovina: jezik tj. podatci o jez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izvodi: sustavi koji korisniku omogućuju jednostavn(ij)u uporabu prirodnoga jezika u računalnome okružj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4:01:18Z</dcterms:created>
  <dc:creator>Marko Tadic</dc:creator>
  <dc:description/>
  <dc:language>en-US</dc:language>
  <cp:lastModifiedBy>Marko Tadić</cp:lastModifiedBy>
  <cp:lastPrinted>2000-02-23T17:27:40Z</cp:lastPrinted>
  <dcterms:modified xsi:type="dcterms:W3CDTF">2004-12-14T10:55:16Z</dcterms:modified>
  <cp:revision>152</cp:revision>
  <dc:subject/>
  <dc:title>Procedures in building Croatian-English parallel corpus</dc:title>
</cp:coreProperties>
</file>