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F99-885D-4D85-B386-4FFF9439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E47-62C8-4979-8F65-B5468670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C37-0774-4A8C-93DA-FEB7542B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CA4-D0DD-4D69-85AE-AEEF65BD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F85-296B-416E-BC8B-0BCC1C47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421-3B0F-45A3-A67C-0B78CBE5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722-0476-4442-8E99-7F93287D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95A-34B5-4EB6-A451-34167417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5EE-50CF-4BAF-A58B-60BD2DC3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D8D-7BCA-43A5-BFA7-BE4F2100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A06-03F1-4706-8F2F-AAEB288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396-E6D2-45F6-A987-90DCF6BD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E8C8-524C-4674-8ACD-DBB2D5B8F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421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SNOVNA ŠOLA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CIRKULANE - ZAVR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1857240" cy="780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3640" y="4508640"/>
            <a:ext cx="24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redstavitev pripravil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Diana Bohak – Sab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Alojzija Krz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Ivo Zupani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757840"/>
            <a:ext cx="48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Predstavitev je dosegljiva tudi na spletni strani šo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http://www2.arnes.si/~mboscir2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692280"/>
            <a:ext cx="8569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VENTIVNO DELOVANJE OB GIBALNIH AKTIVNOST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940360" y="5661000"/>
            <a:ext cx="1857600" cy="781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3645000"/>
            <a:ext cx="874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ODELOVANJE Z NEVLADNIMI ORGANIZACIJ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0200" y="4653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UNICEF – delavnice in prodaja izdelko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Amnesty international – delav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70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T Sloveni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Zlati sonče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rp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učimo se plava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Šolska športna tekmov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69228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UGE DEJAVNOSTI NA Š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0360" y="5084640"/>
            <a:ext cx="18576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557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troški parla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resne dejavnos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ladinske delavni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68360" y="3139920"/>
            <a:ext cx="38944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č sodelovanj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69228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DRAVA ŠOLA – izvedeni projek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11640" y="3933720"/>
            <a:ext cx="1857240" cy="781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5573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ladi in alkoh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uševno zdrav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si različni - vsi enako vključ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ibanje in zdrava prehr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umani medosebni odno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čutimo se va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69228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DSTAVITEV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92360" y="5300640"/>
            <a:ext cx="185724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403280" y="1268280"/>
            <a:ext cx="6048360" cy="609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SI RAZLIČNI 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SI ENAKO VKLJUČEN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4973760" y="5129280"/>
            <a:ext cx="3821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orda je to, kar mi počnem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amo kaplja vode v morj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toda v primeru, da tega ne bi poče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bi manjkala tudi ta naša kapl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Don Pierino Gelm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33336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ILJI PROJEK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5877000"/>
            <a:ext cx="1857600" cy="780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1052640"/>
            <a:ext cx="8640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učenje kulture odnosov med vsemi učenci in do vseh učence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ustvarjanje ustrezne klime za vzpodbujanje odgovornosti in sodelovanja v razredu z vsemi učenc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razvijanje strpnosti in tolerance do drugačnos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spoznati in spoštovati sošol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ozaveščanje učencev, staršev, učiteljev o pravicah otrok s posebnimi potreb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ridobiti si znanje o tem, kako pomagati otrokom s posebnimi potrebami, da se bodo v skupini vrstnikov dobro počutil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učenje sprejemanja samega sebe z vsemi pozitivnimi in negativnimi lastnost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učenje socialnih veščin in pridobivanje izkušenj v igri z drugi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dejavniki za razvoj vsestransko oblikovane osebnos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oglobiti vedenja o gluhoti in naglušnosti, o slepoti in slabovidnosti, o cerebralni paraliz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omen glasbe in prostega časa za duševno zdravje ljud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učencem predstaviti knjige Veveriček posebne sorte, Grdi raček, Rožnati slonček, Drugačen, Tema ni en črn plaš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srečanje s skupino Slepi potnik iz Ljubljane, s člani društva Sonček iz Ptuja, s člani društva slepih in slabovidnih s Ptuja in s člani društva gluhih in naglušnih iz Marib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33336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JAVNOSTI PROJEKTA – za uč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16720" y="2349360"/>
            <a:ext cx="1857240" cy="781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1052640"/>
            <a:ext cx="8640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socialne igre – učenje strpnega vedenj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družabne ig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izdelovanje plakatov- o delu in počutju v projektnih skupina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interakcijska vaja za mladostnike o samopodob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risanje dreves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iskanje informacij na interne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učenje abecede gluhi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ogovor s tolmačem za gluh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ogovor s člani društva Sonče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ogovor s člani iz društva slepih in slabovidnih s Ptuj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bela palica – spremljevalka slepih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ogovor s krajanom, ki je slep že veliko l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razstava o nasilj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učenci razredne stopnje so organizirali proslavo v domu starejših v Muretinci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učenci likovnega krožka so izdelali darila za vodje zdravih šol za mariborsko regij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vsi učenci od 1. do 4. razreda so kupili knjigo Veveriček posebne sor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sodelovanje na Dnevu š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33336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JAVNOSTI PROJEKTA – za starš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00360" y="5734080"/>
            <a:ext cx="1857240" cy="781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052640"/>
            <a:ext cx="864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eznanitev staršev s projekt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davanje zdravnice: Načela dobre družine in Komunikacija v družini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odelovanje staršev v projektnih skupina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azstava izdelkov članov društva Sonček s Ptuj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azstava predmetov, ki jih uporabljajo slepi in slabovidni pri delu, v prostem času, pri špor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92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JAVNOSTI PROJEKTA – za učitel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716280"/>
            <a:ext cx="864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seznanjanje s strokovno literatu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redavanje predstavnika iz Zavoda za šolstvo v Ljubljani – Otroci s posebnimi potrebami in individualizirani progr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obisk v šoli Ljudevita Pivka v Ptuj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redavanje otroške zdravnice in fizioterapevtke o gibalno oviranem otrok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redavanje psihologa – Govorica otroške ris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85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5877000"/>
            <a:ext cx="1857600" cy="780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33336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JEKTNE SK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981000"/>
          <a:ext cx="8281800" cy="3727440"/>
        </p:xfrm>
        <a:graphic>
          <a:graphicData uri="http://schemas.openxmlformats.org/drawingml/2006/table">
            <a:tbl>
              <a:tblPr/>
              <a:tblGrid>
                <a:gridCol w="360360"/>
                <a:gridCol w="2400120"/>
                <a:gridCol w="1381320"/>
                <a:gridCol w="466560"/>
                <a:gridCol w="2293920"/>
                <a:gridCol w="137952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iljna skupin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M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iljna skupin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DI RAČEK JE NAŠEL SREČ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in 2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SIZEM IN NESTRPNOST DO DRUGA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ILI SMO MAJH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OJSTNI DAN – PRAZNOVANJE S SOŠOL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DRAVJE JE NAŠE NAJVEČJE BOGASTV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STENKE – GLASBA IN DUŠEVNO ZRAV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AMO SE RA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LEPOTA IN SLABOVID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IJAZNI UČENCI – PRIJAZNI RAZREDI, Učimo so 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ZLIČNE KUL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RUGAČ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in 4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SIHOLOGIJA RIS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J PROSTI Č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LUHI IN NAGLUŠ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LO DRUGAČE O CEREBRALNI PARALIZ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 raz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53320" y="4869000"/>
            <a:ext cx="66924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azredne u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aravoslovni dan v Cirkulanah in v Zavrč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an šole v Cirkulanah in v Zavrču – predstavitev projekta jav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48428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VALV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03640" y="4653000"/>
            <a:ext cx="1857600" cy="780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2637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govori z učenci, s starši, z učitel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Zapiski spremljanja in opazovanja dejavnos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java prispevkov v šolskem in občinskem glasi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33336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AKLJU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1857240" cy="78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105264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Projekt VSI RAZLIČNI  - VSI ENAKO VKLJUČENI so mentorji izvajali na razrednih urah vse šolsko leto in ga zaključili v okviru naravoslovnega dne v prej imenovanih projektnih skupinah. Pedagoški kolektiv je obiskal šolo s prilagojenim programom OŠ Ljudevita Pivka na Ptuju. Seznanili smo se z njihovo dejavnostjo in v skupinah prisostvovali tudi pri pouku. Na pedagoški konferenci nam je predavala dr. Antonija Potočnik, ki se v ptujski bolnišnici ukvarja z zdravljenjem otrok s posebnimi potrebami. Omenjeno tematiko smo vključili tudi na roditeljskih sestankih, izvajalci pa so bili mobilna pedagoginja – defektologinja OŠ Ljudevita Pivka Ptuj, zdravstveni delavci Zdravstvenega doma Ptuj in šolska svetovalna delavka. Vrhunec je predstavljala prireditev ob dnevu šole v Cirkulanah – 222. obletnica šole maja 2002 in prireditev ob dnevu šole v Zavrču septembra 2002, kjer smo predstavili svoje celoletno delo. Gostje prireditve v Zavrču so bili skupina SLEPI POTNIK iz Zavoda za slepo in slabovidno mladino iz Ljubljane, otroci s cerebralno paralizo društva SONČEK iz Ptuja ter slepi Društva slepih in slabovidnih iz Ptuja. Pri izvedbi projekta nam je pomagala tudi Zveza društev za cerebralno paralizo Sloven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539640" y="56610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1258920" y="47973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33336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AKLJU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03640" y="4653000"/>
            <a:ext cx="1857600" cy="78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1052640"/>
            <a:ext cx="86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pazili in začutili smo, da so učenci začeli drugače razmišljati o svojih vrstnikih, ki morajo premagovati težave, za katere se njim ni niti sanjalo. Ob razgovoru s slepimi in ob razstavi pripomočkov, ki jih uporabljajo slepi, so podoživeli njihovo vživljanje v življenje, prav tako ob seznanjanju z govorico gluhih,  povsem sprejeli medse otroka s cerebralno paralizo, ki ga imamo v Zavrču, drugače začeli gledati na učence, ki imajo učne težave, ali kakšne druge… O vsem tem so drugače začeli razmišljati starši, pa tudi delavci šole, v lokalni skupnosti pa so bili takoj pripravljeni za pomoč pri prilagoditvi pohištva za otroka s cerebralno paraliz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40240" y="1557360"/>
            <a:ext cx="2728800" cy="41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33336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DSTAVITEV PROJEKTA JA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547640" y="1557360"/>
            <a:ext cx="6336000" cy="421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932360" y="4726080"/>
            <a:ext cx="1857240" cy="78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403280" y="1557360"/>
            <a:ext cx="6624720" cy="4322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332000" y="1557360"/>
            <a:ext cx="6819840" cy="4498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1403280" y="1557360"/>
            <a:ext cx="6983640" cy="465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1258920" y="1557360"/>
            <a:ext cx="7128000" cy="4776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187280" y="1557360"/>
            <a:ext cx="7345440" cy="4883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1042920" y="1557360"/>
            <a:ext cx="7632720" cy="502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179280" y="321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1042920" y="1557360"/>
            <a:ext cx="7632720" cy="507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900000" y="1341360"/>
            <a:ext cx="78487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6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7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35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25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1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500"/>
                            </p:stCondLst>
                            <p:childTnLst>
                              <p:par>
                                <p:cTn id="382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9500"/>
                            </p:stCondLst>
                            <p:childTnLst>
                              <p:par>
                                <p:cTn id="386" nodeType="after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8500"/>
                            </p:stCondLst>
                            <p:childTnLst>
                              <p:par>
                                <p:cTn id="390" nodeType="after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7500"/>
                            </p:stCondLst>
                            <p:childTnLst>
                              <p:par>
                                <p:cTn id="394" nodeType="after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6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650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91689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39640" y="56610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258920" y="47973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692360" y="2060640"/>
            <a:ext cx="4317840" cy="280656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732720" y="5661000"/>
            <a:ext cx="18572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539640" y="56610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1258920" y="47973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3213000"/>
            <a:ext cx="4317840" cy="290844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020000" y="5805360"/>
            <a:ext cx="18572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SNOVNA ŠOL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CIRKULANE - ZAVR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997000"/>
            <a:ext cx="793116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ola deluje na dveh lokacijah, v dveh občinah (Gorišnica in Zavrč), na vsaki lokaciji  sta tudi dva oddelka vrt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27640" y="5300640"/>
            <a:ext cx="18572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 šolskem letu 2004/2005 je na obeh šol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3068640"/>
            <a:ext cx="36687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IRKU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60 učenc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9 oddel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 oddelka O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 oddelka vrt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2 otr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2720" y="3068640"/>
            <a:ext cx="3322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AVR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50 učenc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9 oddel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 oddelka O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 oddelka vrt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2 ot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916280"/>
            <a:ext cx="7777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54 zaposleni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32 strokovnih delavcev v šoli, 4 v vrtc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76360" y="5877000"/>
            <a:ext cx="18572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692280"/>
            <a:ext cx="878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PREČEVANJE NASILJA NA NAŠI Š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628640"/>
            <a:ext cx="87138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ZDRAVA Š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EVENTIVNO DEL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ZITIVNA SOCIALNA KLIMA NA Š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ALNO STROKOVNO SPOPOLNJEVANJE STROKOVNIH DELAVC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DELOVANJE Z LOKALNO SKUPN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EVENTIVNO DELOVANJE OB GIBALNIH AKTIVNOS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DELOVANJE Z NEVLADNIMI ORGANIZACIJ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RUGE DEJAVNOSTI NA Š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08720" y="5445000"/>
            <a:ext cx="18572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69228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VENTIVNO DEL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413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 izvajanju pouka, razširjenega programa, med odmori, pred in po pou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80000" y="5373720"/>
            <a:ext cx="1857600" cy="780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8920" y="249228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ZITIVNA SOCIALNA KLIMA NA Š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0200" y="328464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radimo pozitivne odnose med učenci in učitel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ulturno veden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odimo prijatel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ijazni učenci – prijazni razred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krivnosti odraščan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čenje socialnih vešč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69228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TALNO STROKOVNO SPOPOLNJE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76720" y="5516640"/>
            <a:ext cx="1857600" cy="780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920" y="335772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ODELOVANJE Z LOKALNO SKUPNOST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0200" y="414972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rušt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lici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Zdravstveni do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vetovalni center za otroke in mladostnike Marib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rokovne ustanove in organizac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484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Komunikacijski treningi (dr. Brajš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Stres v šoli (Zora Burni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Osebnost kot dejavnik vedenja v šoli (dr. Janek Muse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Timsko delo (mag. Tanja Bezić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Promocija čustvenega in duševnega zdravja (IVZ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Gibanje za zdravje (FIT Slovenij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5:09:48Z</dcterms:created>
  <dc:creator>Ivo</dc:creator>
  <dc:description/>
  <dc:language>en-US</dc:language>
  <cp:lastModifiedBy>SOLA</cp:lastModifiedBy>
  <dcterms:modified xsi:type="dcterms:W3CDTF">2004-11-05T13:37:20Z</dcterms:modified>
  <cp:revision>51</cp:revision>
  <dc:subject/>
  <dc:title>Diapozitiv 1</dc:title>
</cp:coreProperties>
</file>