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818-C408-472D-A7FE-336E9967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8EF-611F-4A91-87F5-09F17002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0C8-8074-4225-A5E3-387A5E49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082-0339-4469-A0B3-2B58866C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EBD8-49A4-422D-8E3A-36645D4C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C3CE-58F2-4D93-B992-D9111819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BF3-1A05-4F22-BA34-D87BF1A3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2463-D7E8-462D-BA59-D898416B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CFFE-771A-4395-8B8B-1D39A703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6C99-4ECC-4E08-951B-49E252A5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E952-EC75-4DE2-884C-710B427D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7B8-318F-4BF9-BA33-42B355AB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502E-8DF1-41C8-A361-771701D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C015-4234-49C6-B09E-CBA64E8B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C49E-C854-46A7-8C6D-AD069A7D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7B51-0419-4FD0-A207-D2F47617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ED89-B5D8-487A-B456-6D32CD37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C43-816D-4E2C-9DA1-775550BD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205-4E04-4BFD-B7F9-893124D4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450-6AE0-4052-BCF4-A1A50540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704-09E9-46A5-8F90-DF7A9BF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8B6-BA4D-4CCF-84DD-9C14525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C37-C422-4C26-BEFA-7325B5FD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9B7-3D2C-4902-8684-F54C0C16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EB8C-9581-4129-B45F-ADFD2747E34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0612-FC8D-4BF3-9755-742E20F42D7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0" y="4876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a učence 6. razredo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Š Cirkul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583160" cy="2698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200" spc="-1" strike="noStrike">
                <a:solidFill>
                  <a:srgbClr val="cc9900"/>
                </a:solidFill>
                <a:latin typeface="Tahoma"/>
              </a:rPr>
              <a:t>UVO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826000" y="132876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učno vsebino 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KOSTANJ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1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JESE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2" name="1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0524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HRA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4" name="1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82616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GABE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6" name="1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95324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PLASTI DREVESNEGA DEBL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1905120"/>
            <a:ext cx="1828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1. skor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2. lič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3. kamb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4. bel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5. črn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1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496548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45200" cy="3962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VIDNE POSEBNOSTI LES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606888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02777"/>
              <a:gd name="adj5" fmla="val -579263"/>
              <a:gd name="adj6" fmla="val 143101"/>
            </a:avLst>
          </a:prstGeom>
          <a:solidFill>
            <a:srgbClr val="cc990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ženov tr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3480" y="5970600"/>
            <a:ext cx="259092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2939"/>
              <a:gd name="adj5" fmla="val -610875"/>
              <a:gd name="adj6" fmla="val -28421"/>
            </a:avLst>
          </a:prstGeom>
          <a:solidFill>
            <a:srgbClr val="cc990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ženov žar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1523880"/>
            <a:ext cx="15238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000"/>
              <a:gd name="adj5" fmla="val 228634"/>
              <a:gd name="adj6" fmla="val -95509"/>
            </a:avLst>
          </a:prstGeom>
          <a:solidFill>
            <a:srgbClr val="cc990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ra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25146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78402"/>
              <a:gd name="adj6" fmla="val -58435"/>
            </a:avLst>
          </a:prstGeom>
          <a:solidFill>
            <a:srgbClr val="cc990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amb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3581280"/>
            <a:ext cx="1428840" cy="4597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333"/>
              <a:gd name="adj5" fmla="val -85680"/>
              <a:gd name="adj6" fmla="val -93324"/>
            </a:avLst>
          </a:prstGeom>
          <a:solidFill>
            <a:srgbClr val="cc990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bel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SEČNJA DREV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65800" y="594360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odja za sek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04360" y="594360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ljasto - stožčasto deli deb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1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413080" cy="3962160"/>
          </a:xfrm>
          <a:prstGeom prst="rect">
            <a:avLst/>
          </a:prstGeom>
          <a:ln w="0">
            <a:noFill/>
          </a:ln>
        </p:spPr>
      </p:pic>
      <p:pic>
        <p:nvPicPr>
          <p:cNvPr id="131" name="1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2336760" cy="39621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OD DEBLA DO DESK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3" name="1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340080" cy="4317840"/>
          </a:xfrm>
          <a:prstGeom prst="rect">
            <a:avLst/>
          </a:prstGeom>
          <a:ln w="0">
            <a:noFill/>
          </a:ln>
        </p:spPr>
      </p:pic>
      <p:pic>
        <p:nvPicPr>
          <p:cNvPr id="134" name="1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1536840" cy="4317840"/>
          </a:xfrm>
          <a:prstGeom prst="rect">
            <a:avLst/>
          </a:prstGeom>
          <a:ln w="0">
            <a:noFill/>
          </a:ln>
        </p:spPr>
      </p:pic>
      <p:pic>
        <p:nvPicPr>
          <p:cNvPr id="135" name="1" descr=""/>
          <p:cNvPicPr/>
          <p:nvPr/>
        </p:nvPicPr>
        <p:blipFill>
          <a:blip r:embed="rId3"/>
          <a:stretch/>
        </p:blipFill>
        <p:spPr>
          <a:xfrm>
            <a:off x="6858000" y="1676520"/>
            <a:ext cx="1346040" cy="431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DELOVANJE POLIZDELKOV GLEDE NA LEGO V DEBLU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7" name="hlod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505320" cy="4317840"/>
          </a:xfrm>
          <a:prstGeom prst="rect">
            <a:avLst/>
          </a:prstGeom>
          <a:ln w="0">
            <a:noFill/>
          </a:ln>
        </p:spPr>
      </p:pic>
      <p:pic>
        <p:nvPicPr>
          <p:cNvPr id="138" name="rezi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2666880" cy="431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00240" y="7621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NEKAJ IZDELKOV IZ LES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40" name="izdelki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403440" cy="5397480"/>
          </a:xfrm>
          <a:prstGeom prst="rect">
            <a:avLst/>
          </a:prstGeom>
          <a:ln w="0">
            <a:noFill/>
          </a:ln>
        </p:spPr>
      </p:pic>
      <p:pic>
        <p:nvPicPr>
          <p:cNvPr id="141" name="parket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238560" cy="1803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90680"/>
            <a:ext cx="7086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05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 je naravno organsko gradivo. Tvorijo ga olesenele celice rastlin - drevesnih v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1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401292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200" spc="-1" strike="noStrike">
                <a:solidFill>
                  <a:srgbClr val="cc9900"/>
                </a:solidFill>
                <a:latin typeface="Tahoma"/>
              </a:rPr>
              <a:t>GOZDOVI SO NAŠE BOGASTVO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furnir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1625760" cy="539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IZDELAVA FURNIRJ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981080"/>
            <a:ext cx="190512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4000"/>
              <a:gd name="adj5" fmla="val 8916"/>
              <a:gd name="adj6" fmla="val -95898"/>
            </a:avLst>
          </a:prstGeom>
          <a:solidFill>
            <a:srgbClr val="cc990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žag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429000"/>
            <a:ext cx="1943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3921"/>
              <a:gd name="adj5" fmla="val 138495"/>
              <a:gd name="adj6" fmla="val -77847"/>
            </a:avLst>
          </a:prstGeom>
          <a:solidFill>
            <a:srgbClr val="cc990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z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5402160"/>
            <a:ext cx="20001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3810"/>
              <a:gd name="adj5" fmla="val 84972"/>
              <a:gd name="adj6" fmla="val -97208"/>
            </a:avLst>
          </a:prstGeom>
          <a:solidFill>
            <a:srgbClr val="cc990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uplj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furnir2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2489400" cy="359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IZDELAVA VEZANE PLOŠČ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734360" y="3048120"/>
            <a:ext cx="367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zana plošč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e zleplj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z neparnega števi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rižno položenih kos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upljene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urnirj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vezana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3035160" cy="53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57440" y="609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IZDELAVA PANELNE PLOŠČ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618440" y="2928960"/>
            <a:ext cx="389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Panelno ploščo sestavl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sredica iz let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mehkega les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obložena z furnirj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vezana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3429000" cy="539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Untitled-1%20copy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26035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200" spc="-1" strike="noStrike">
                <a:solidFill>
                  <a:srgbClr val="cc9900"/>
                </a:solidFill>
                <a:latin typeface="Tahoma"/>
              </a:rPr>
              <a:t>SMREK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Untitled-1%20copy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743200" cy="3962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200" spc="-1" strike="noStrike">
                <a:solidFill>
                  <a:srgbClr val="cc9900"/>
                </a:solidFill>
                <a:latin typeface="Tahoma"/>
              </a:rPr>
              <a:t>B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Untitled-1%20copy" descr=""/>
          <p:cNvPicPr/>
          <p:nvPr/>
        </p:nvPicPr>
        <p:blipFill>
          <a:blip r:embed="rId1"/>
          <a:stretch/>
        </p:blipFill>
        <p:spPr>
          <a:xfrm>
            <a:off x="3035160" y="1447920"/>
            <a:ext cx="3073680" cy="396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200" spc="-1" strike="noStrike">
                <a:solidFill>
                  <a:srgbClr val="cc9900"/>
                </a:solidFill>
                <a:latin typeface="Tahoma"/>
              </a:rPr>
              <a:t>MACESE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JELK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02" name="Untitled-1%20copy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11148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936960" cy="3962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200" spc="-1" strike="noStrike">
                <a:solidFill>
                  <a:srgbClr val="cc9900"/>
                </a:solidFill>
                <a:latin typeface="Tahoma"/>
              </a:rPr>
              <a:t>LIP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BUKEV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06" name="1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327120" cy="3962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Tahoma"/>
              </a:rPr>
              <a:t>OREH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08" name="1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822840" cy="3962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21:54:17Z</dcterms:created>
  <dc:creator>IVO ZUPANIČ</dc:creator>
  <dc:description/>
  <dc:language>en-US</dc:language>
  <cp:lastModifiedBy>Administrator</cp:lastModifiedBy>
  <dcterms:modified xsi:type="dcterms:W3CDTF">2000-11-28T17:58:46Z</dcterms:modified>
  <cp:revision>17</cp:revision>
  <dc:subject/>
  <dc:title>No Slide Title</dc:title>
</cp:coreProperties>
</file>