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72A6-BD2B-4086-998A-8F252C50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CD24C-C523-4FC7-9B6D-69D822D3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2A7F-9249-4824-B876-CE0BCC91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9967D-0B27-4503-B743-EFB5C783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3D8F-0E34-4842-8EBC-B1218AF7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F703-D067-4231-B737-E3EF8578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0024-4DDF-4B6B-A00C-D15C0AD9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DCF5-A49D-42DE-9693-8C87E353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482E-6320-4405-820E-F960F31B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0290-99B3-4207-B6E9-944FFFBE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0628-6256-4823-9492-F7595444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CF85-BD59-465F-9C75-1096AB2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798E-C362-4FD0-A843-4F3C7AD8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4ED6-2E81-402B-8DED-36F6E0B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BBB4-FC97-44BB-B51F-BE1724A6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B5B-7FB7-4D60-96EC-200E2F1C1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DCD5-177D-4C91-A514-FAA07B48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9856-C25C-4F7E-A8AA-EF11106D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6C047-E6E9-4E97-8CA9-E62A96BA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7C1D-736B-4A19-9961-2ADDA1E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96B4A-A789-4512-853C-6D780FA1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A353-326E-45A8-AB79-F486ADB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8A40-F7D7-4FBA-A6DB-B13F3008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A308-FF34-4F9F-9555-246742C0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26a69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d6463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34847"/>
                </a:gs>
                <a:gs pos="100000">
                  <a:srgbClr val="acba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39A4-0A62-42C5-B318-647E0055C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f8f4"/>
                </a:gs>
                <a:gs pos="100000">
                  <a:srgbClr val="d0e0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a727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54a4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919c9a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f7876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757e7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8b9693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778481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98a4a2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bbcac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9d9d5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c2d1c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4c2b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a7674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717d7a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a0b2ae"/>
                </a:gs>
                <a:gs pos="100000">
                  <a:srgbClr val="c5dbd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48e8c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7c8684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9faca9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adbab7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0e0dd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9605f"/>
                </a:gs>
                <a:gs pos="100000">
                  <a:srgbClr val="e6f8f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C7EF-C759-4D4E-AFA1-DA967EF90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f7876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80629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66cc"/>
                </a:solidFill>
                <a:latin typeface="Verdana"/>
              </a:rPr>
              <a:t>KRMILJENJE V ELEKTRIČNEM KROGU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40360" y="274320"/>
            <a:ext cx="100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42920" y="5157720"/>
            <a:ext cx="70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Na izlet se lahko peljemo če imamo avto IN gorivo.</a:t>
            </a: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403280" y="1890720"/>
            <a:ext cx="6337440" cy="2851200"/>
          </a:xfrm>
          <a:prstGeom prst="rect">
            <a:avLst/>
          </a:prstGeom>
          <a:ln w="38160">
            <a:solidFill>
              <a:srgbClr val="3c00e4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42920" y="5157720"/>
            <a:ext cx="70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Verdana"/>
              </a:rPr>
              <a:t>Na izlet se lahko peljemo če imamo avto ALI kolo.</a:t>
            </a: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905440" cy="2584440"/>
          </a:xfrm>
          <a:prstGeom prst="rect">
            <a:avLst/>
          </a:prstGeom>
          <a:ln w="38160">
            <a:solidFill>
              <a:srgbClr val="3c00e4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IN - 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185080" cy="3903840"/>
          </a:xfrm>
          <a:prstGeom prst="rect">
            <a:avLst/>
          </a:prstGeom>
          <a:ln w="38160">
            <a:solidFill>
              <a:srgbClr val="3c00e4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76360" y="4005000"/>
            <a:ext cx="181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2635200" cy="199224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900000" y="1844640"/>
            <a:ext cx="2908440" cy="208116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26" name=""/>
          <p:cNvSpPr/>
          <p:nvPr/>
        </p:nvSpPr>
        <p:spPr>
          <a:xfrm>
            <a:off x="6012000" y="1916280"/>
            <a:ext cx="181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2960640" cy="568944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5148360" y="3141720"/>
            <a:ext cx="3240000" cy="231912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7270"/>
            </a:gs>
            <a:gs pos="100000">
              <a:srgbClr val="e6f8f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Verdana"/>
              </a:rPr>
              <a:t>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622440" y="1413000"/>
            <a:ext cx="3646440" cy="482436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219640" y="3213000"/>
            <a:ext cx="3240000" cy="2286000"/>
          </a:xfrm>
          <a:prstGeom prst="rect">
            <a:avLst/>
          </a:prstGeom>
          <a:ln w="38160">
            <a:solidFill>
              <a:srgbClr val="996633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1T08:16:30Z</dcterms:created>
  <dc:creator>Ivo Zupanic</dc:creator>
  <dc:description/>
  <dc:language>en-US</dc:language>
  <cp:lastModifiedBy>Ivo</cp:lastModifiedBy>
  <dcterms:modified xsi:type="dcterms:W3CDTF">2003-06-28T13:13:43Z</dcterms:modified>
  <cp:revision>14</cp:revision>
  <dc:subject/>
  <dc:title>ZGRADBA RACUNALNIKA</dc:title>
</cp:coreProperties>
</file>