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0AF-D10E-45AE-A920-DDD45D8C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5A4-C75D-452F-8283-8EBE8B68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F6B-9323-46D5-B0AA-B28276B6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1A8B-7D63-4804-B244-326B3FAE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62DF-70F0-48BE-BAEF-2E1417D0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E675-2618-44A8-8402-A95FC20B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54F6-7341-4308-8372-BC300D61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5198-5B09-408A-8325-180FB4B9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B870-B927-41EC-9CC5-F3098530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E3FA-73E9-4D81-A496-7253CAAD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EEA0-1E95-4B38-8B43-6F3DCAA5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9DA5-052F-4BD1-8B45-0DC7353A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5D6B-7DC5-4909-AAE3-3F1ADB2D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8B9E-32CD-4B84-A24C-D08F4396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2DD9-69BA-4943-9E35-445FE0E5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64D6-8D4D-4BDF-B4A3-546C976A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9A45-4CB4-4DD8-9B9A-7FE150AA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9DA-DD4D-4888-834A-C68714D6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F3B-7733-405C-A515-AF571746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251-67F8-43E0-B36C-12B30130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A7F3-6D50-4C3D-9B7C-E3F9775C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1C1F-F9E3-4D1E-8C10-BF3FC63E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EE2-9C03-4D46-8359-EBFA2844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394F-C265-47D6-92EC-7060017A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DE97-4A8C-4FE0-80D2-BE688C905689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7A99-0507-4CA2-BE57-26E2BF9D22E1}" type="slidenum">
              <a:rPr b="0" lang="sl-SI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o.zrsss.si/projekti/medanticnimibogovi/leksikon/viri.htm&apos;,%20&apos;novo&apos;,%20&apos;width=630,height=350,toolbar=0,location=0,directories=0,status=0,menuBar=0,scrollBars=1,resizable=0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o.zrsss.si/projekti/medanticnimibogovi/leksikon/viri.htm&apos;,%20&apos;novo&apos;,%20&apos;width=630,height=350,toolbar=0,location=0,directories=0,status=0,menuBar=0,scrollBars=1,resizable=0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o.zrsss.si/projekti/medanticnimibogovi/leksikon/viri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o.zrsss.si/projekti/medanticnimibogovi/leksikon/viri.htm&apos;,%20&apos;novo&apos;,%20&apos;width=630,height=350,toolbar=0,location=0,directories=0,status=0,menuBar=0,scrollBars=1,resizable=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o.zrsss.si/projekti/medanticnimibogovi/leksikon/viri.htm&apos;,%20&apos;novo&apos;,%20&apos;width=630,height=350,toolbar=0,location=0,directories=0,status=0,menuBar=0,scrollBars=1,resizable=0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GRŠKI BOGOVI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000000"/>
                </a:solidFill>
                <a:latin typeface="Tahoma"/>
              </a:rPr>
              <a:t>GRŠKI BOGOVI</a:t>
            </a:r>
            <a:endParaRPr b="0" lang="en-US" sz="6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DEME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Boginja rodovitnosti in poljedels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Viri slikovnega gradiva - slika39"/>
          <p:cNvPicPr/>
          <p:nvPr/>
        </p:nvPicPr>
        <p:blipFill>
          <a:blip r:embed="rId1"/>
          <a:stretch/>
        </p:blipFill>
        <p:spPr>
          <a:xfrm>
            <a:off x="1692360" y="1981080"/>
            <a:ext cx="2328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000000"/>
                </a:solidFill>
                <a:latin typeface="Tahoma"/>
              </a:rPr>
              <a:t>GRŠKI BOGOVI</a:t>
            </a:r>
            <a:endParaRPr b="0" lang="en-US" sz="6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l-SI" sz="3600" spc="-1" strike="noStrike">
                <a:solidFill>
                  <a:srgbClr val="000000"/>
                </a:solidFill>
                <a:latin typeface="Tahoma"/>
              </a:rPr>
              <a:t>AT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Najljubša Zeusova h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Boginja modrosti in obr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Njena sveta žival je s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Upodobljena je s sulico in s šči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2087640"/>
            <a:ext cx="37339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000000"/>
                </a:solidFill>
                <a:latin typeface="Tahoma"/>
              </a:rPr>
              <a:t>GRŠKI BOGOVI</a:t>
            </a:r>
            <a:endParaRPr b="0" lang="en-US" sz="6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l-SI" sz="3600" spc="-1" strike="noStrike">
                <a:solidFill>
                  <a:srgbClr val="000000"/>
                </a:solidFill>
                <a:latin typeface="Tahoma"/>
              </a:rPr>
              <a:t>AFRODI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Boginja ljubezni in lep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2035080"/>
            <a:ext cx="373392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000000"/>
                </a:solidFill>
                <a:latin typeface="Tahoma"/>
              </a:rPr>
              <a:t>GRŠKI BOGOVI</a:t>
            </a:r>
            <a:endParaRPr b="0" lang="en-US" sz="6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ahoma"/>
              </a:rPr>
              <a:t>ARTEMI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Apolonova dvojč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Boginja 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Spremlja jo košu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Je zaščitnica gozdov, travnikov in pol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44640" y="1981080"/>
            <a:ext cx="27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000000"/>
                </a:solidFill>
                <a:latin typeface="Tahoma"/>
              </a:rPr>
              <a:t>GRŠKI BOGOVI</a:t>
            </a:r>
            <a:endParaRPr b="0" lang="en-US" sz="6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ahoma"/>
              </a:rPr>
              <a:t>HEST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Je boginja domačega ognjiš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Zaščitnica mirnega življenja  in pregnanc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33440" y="1981080"/>
            <a:ext cx="2008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000000"/>
                </a:solidFill>
                <a:latin typeface="Tahoma"/>
              </a:rPr>
              <a:t>GRŠKI BOGOVI</a:t>
            </a:r>
            <a:endParaRPr b="0" lang="en-US" sz="6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Živijo na gori Oli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ripisujejo jim človeške last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So nesmrt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Imajo nadnaravno mo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Hrana - ambrozija, pijača - nek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75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75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000000"/>
                </a:solidFill>
                <a:latin typeface="Tahoma"/>
              </a:rPr>
              <a:t>GRŠKI BOGOVI</a:t>
            </a:r>
            <a:endParaRPr b="0" lang="en-US" sz="6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ZEV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Vrhovni b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Vladar neba in zeml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Varuh r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rožje:  blisk in g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veta žival: or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12840" y="1981080"/>
            <a:ext cx="2251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000000"/>
                </a:solidFill>
                <a:latin typeface="Tahoma"/>
              </a:rPr>
              <a:t>GRŠKI BOGOVI</a:t>
            </a:r>
            <a:endParaRPr b="0" lang="en-US" sz="6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ahoma"/>
              </a:rPr>
              <a:t>APOL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Bog svetlobe in pesništ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premlja ga 9 m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Ima liro ( simbol pesništ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Je bog prerokovanja in vedeže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Je oče Orfeja- grški mitološki pev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Viri slikovnega gradiva - slika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78120" y="1981080"/>
            <a:ext cx="2720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000000"/>
                </a:solidFill>
                <a:latin typeface="Tahoma"/>
              </a:rPr>
              <a:t>GRŠKI BOGOVI</a:t>
            </a:r>
            <a:endParaRPr b="0" lang="en-US" sz="6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ahoma"/>
              </a:rPr>
              <a:t>POZEJ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Zevsov br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Bog mor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Upodobljem je s trizob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Velik prepirljiv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Njegovi posvečeni živali sta konj in del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Viri slikovnega gradiva - slika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222640"/>
            <a:ext cx="373392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000000"/>
                </a:solidFill>
                <a:latin typeface="Tahoma"/>
              </a:rPr>
              <a:t>GRŠKI BOGOVI</a:t>
            </a:r>
            <a:endParaRPr b="0" lang="en-US" sz="6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Sin Zevsa in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Je bog vojne, divjega vojsko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Je divji in nasilen b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Viri slikovnega gradiva - slika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14440" y="1981080"/>
            <a:ext cx="364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000000"/>
                </a:solidFill>
                <a:latin typeface="Tahoma"/>
              </a:rPr>
              <a:t>GRŠKI BOGOVI</a:t>
            </a:r>
            <a:endParaRPr b="0" lang="en-US" sz="6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HER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in Zev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Bog trgovcev in popotnik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premljevalec mrtvih v podzeml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Upodobljen je s klobukom, krilatimi čevlji in glasniško pa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Viri slikovnega gradiva - slika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27160" y="1981080"/>
            <a:ext cx="242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000000"/>
                </a:solidFill>
                <a:latin typeface="Tahoma"/>
              </a:rPr>
              <a:t>GRŠKI BOGOVI</a:t>
            </a:r>
            <a:endParaRPr b="0" lang="en-US" sz="6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HEFAJ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Sin Zevsa in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Bog ognja in kov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Viri slikovnega gradiva - slika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181240"/>
            <a:ext cx="373392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000000"/>
                </a:solidFill>
                <a:latin typeface="Tahoma"/>
              </a:rPr>
              <a:t>GRŠKI BOGOVI</a:t>
            </a:r>
            <a:endParaRPr b="0" lang="en-US" sz="6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H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Zeusova ž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zaščitnica družine in zak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Viri slikovnega gradiva - slika56"/>
          <p:cNvPicPr/>
          <p:nvPr/>
        </p:nvPicPr>
        <p:blipFill>
          <a:blip r:embed="rId1"/>
          <a:stretch/>
        </p:blipFill>
        <p:spPr>
          <a:xfrm>
            <a:off x="1839960" y="1981080"/>
            <a:ext cx="2795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09:02:09Z</dcterms:created>
  <dc:creator>SUZANA</dc:creator>
  <dc:description/>
  <dc:language>en-US</dc:language>
  <cp:lastModifiedBy>Ivo</cp:lastModifiedBy>
  <dcterms:modified xsi:type="dcterms:W3CDTF">2005-01-07T12:21:30Z</dcterms:modified>
  <cp:revision>21</cp:revision>
  <dc:subject/>
  <dc:title>GRŠKI BOGOVI</dc:title>
</cp:coreProperties>
</file>