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1FA-91DD-4EC1-97D1-F3364253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B25-E685-4E48-A547-9CAEFC83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43B-2E92-475F-943D-0D57E01C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510-02BA-4A56-8332-C4931827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B006-EA5F-4D06-A6AB-40346921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B10-8298-47C6-8185-C2122C92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E7B7-9FD4-487B-9550-E4E1214C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D0D0-E34A-4D8A-8B3A-09433F7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3297-42B5-4C7D-BB5C-46456E14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A2FB-BBF2-449D-A805-2FC945FA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B639-9E66-47CE-9895-26E8D1F2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1FD-319F-4B22-8DA8-ECEE624A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6DDB-1A5E-4C7B-B10C-BFDC173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A94-141A-4FB6-8606-F01C013E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D3FC-DC1E-4E95-9A0F-A98E9A3B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B075-E93E-4862-A8A3-7F7227B0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773B-A2B3-4810-8D9A-38349435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EC6-0321-4928-B38E-C716323B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B48-F21C-4B54-91F8-0304876A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5FD-10C2-4ACA-8B12-9F6D0CC7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7AF-FD24-4CA1-B86D-C50E642F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F65-7EB5-4F1A-9106-5ADE19E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D20-854A-4861-985F-971B145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5EA-AD28-459F-9D09-E4445785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9D12-7394-4FD8-B5C6-E8B428669AF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E4A5-E758-47DF-869B-98235F9AF94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). L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ahko je rečni ali srajčni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rokav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464520" cy="431820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0).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Žaba je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zaba_zelena_fotka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854680" cy="431820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0" name="zelena%20_zaba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2286000" cy="165096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1). Sinji……je največja živ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2" name="kit_sinji_fotka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905440" cy="4318200"/>
          </a:xfrm>
          <a:prstGeom prst="rect">
            <a:avLst/>
          </a:prstGeom>
          <a:ln w="57240">
            <a:solidFill>
              <a:srgbClr val="c9ddf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2). Reka , ki teče skozi Ptuj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Petovio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3651120"/>
          </a:xfrm>
          <a:prstGeom prst="rect">
            <a:avLst/>
          </a:prstGeom>
          <a:ln w="57240">
            <a:solidFill>
              <a:srgbClr val="fac16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3). Proces pri katerem voda izginja v zrak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voda_para_fotka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829480" cy="431784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4). Mlaka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je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…… vod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8" name="mlaka_okolje_fotka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553440" cy="428148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47960" y="1066680"/>
            <a:ext cx="4190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5). Potok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je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…… vod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0" name="potok_fotka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3458880" cy="529596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7).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Bel cvet, ki raste na vodi je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lokvanj_beli_fotka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438960" cy="431784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7). Podvodni špor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potapljac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5397480" cy="3670200"/>
          </a:xfrm>
          <a:prstGeom prst="rect">
            <a:avLst/>
          </a:prstGeom>
          <a:ln w="57240">
            <a:solidFill>
              <a:srgbClr val="c9ddf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48320" y="106632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8). Padajoča tekoča voda iz višine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slap_savica_fotka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3619440" cy="540072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2). P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reko reke je speljan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3" name="SlikaSolkanskiMost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61320" cy="401328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76560" y="1294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3). Objekt za zajemanje vode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5" name="vodnjak_veselja" descr=""/>
          <p:cNvPicPr/>
          <p:nvPr/>
        </p:nvPicPr>
        <p:blipFill>
          <a:blip r:embed="rId1"/>
          <a:stretch/>
        </p:blipFill>
        <p:spPr>
          <a:xfrm>
            <a:off x="781200" y="1066680"/>
            <a:ext cx="4060800" cy="541044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2a3d7a"/>
                </a:solidFill>
                <a:latin typeface="Times New Roman"/>
              </a:rPr>
              <a:t>4). …...ima levi in desni breg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bregova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626080" cy="3797280"/>
          </a:xfrm>
          <a:prstGeom prst="rect">
            <a:avLst/>
          </a:prstGeom>
          <a:ln w="57240">
            <a:solidFill>
              <a:srgbClr val="fac16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5). Velika slana vod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morje_okolje_fotka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476760" cy="463068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6). Bela vodna ptic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1" name="galeb_rumenonogi_fotka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765760" cy="431784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7). Vodni špor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3" name="plavalci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740560" cy="431784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8).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Ladji na paro pravimo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5" name="parnik_crno_bel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969160" cy="4317840"/>
          </a:xfrm>
          <a:prstGeom prst="rect">
            <a:avLst/>
          </a:prstGeom>
          <a:ln w="57240">
            <a:solidFill>
              <a:srgbClr val="5b524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9). Velika stoječa voda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jezero_bled_fotka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578640" cy="431820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1-24T18:09:13Z</dcterms:modified>
  <cp:revision>16</cp:revision>
  <dc:subject/>
  <dc:title>1). Lahko je rečni ali srajčni</dc:title>
</cp:coreProperties>
</file>