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D3C-84E9-4385-86DA-3D9B06E9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76E-05FD-4FAD-A9CE-D02425A5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83F-C157-460C-A5F6-6435923F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DA2-522A-4987-AC92-E5BF3F63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D7B8-027D-410E-AD8C-6B367FEE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99E2-179E-4D46-9CA0-14E28ED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CF1-EABF-4E88-8D8D-94D16B08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33CA-B039-4842-82B3-AE9D8FB1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7671-C3C6-44FE-A6D2-3C3D776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2FCB-061B-480E-B3AC-2B62B4D0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8EB4-8914-4B52-81D5-613E2C6D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70B-C6E4-4109-8A88-829B629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EA08-0B9A-46D3-9B29-A05ED54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195-948E-465B-87C7-27E65E25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AE95-361F-4CE7-98B4-EF67AADF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04DE-A528-43BC-804D-ECB6FDC7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0516-0442-4658-AC8D-4E769F73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0DF-1F41-470B-B11D-415A89FD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868-D3F1-4A1F-8E33-7A2F1E8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BC2-56F1-489B-A88A-180713CF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FBF-A74C-47E5-B252-0098B08B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CB8-322A-4181-81BC-B38168BC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872-9940-44BD-A968-1BEDB7D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BCD-5BC1-4B11-8A1E-BC0EC8F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049A-C4ED-4B26-9600-7DB4B66D6D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F75-2F39-4EE6-B857-552768FB56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599840"/>
            <a:ext cx="8353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c00e4"/>
                </a:solidFill>
                <a:latin typeface="Verdana"/>
              </a:rPr>
              <a:t>HIDROELETRAR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Prečrpalna hidroelektrar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4357800" cy="464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5508720" y="1844640"/>
            <a:ext cx="3456000" cy="360360"/>
          </a:xfrm>
          <a:prstGeom prst="borderCallout1">
            <a:avLst>
              <a:gd name="adj1" fmla="val 18750"/>
              <a:gd name="adj2" fmla="val -8333"/>
              <a:gd name="adj3" fmla="val 413217"/>
              <a:gd name="adj4" fmla="val -72439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Fanciscova turbina poganj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08720" y="1341360"/>
            <a:ext cx="3456000" cy="360360"/>
          </a:xfrm>
          <a:prstGeom prst="borderCallout1">
            <a:avLst>
              <a:gd name="adj1" fmla="val 18750"/>
              <a:gd name="adj2" fmla="val -8333"/>
              <a:gd name="adj3" fmla="val 357708"/>
              <a:gd name="adj4" fmla="val -71013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ktrični gener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2349360"/>
            <a:ext cx="3456000" cy="865440"/>
          </a:xfrm>
          <a:prstGeom prst="borderCallout1">
            <a:avLst>
              <a:gd name="adj1" fmla="val 18750"/>
              <a:gd name="adj2" fmla="val -8333"/>
              <a:gd name="adj3" fmla="val 280185"/>
              <a:gd name="adj4" fmla="val -71013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 so centrifugalne črpalke odklopljene deluje postrojenje kot navadna hidroelektra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08720" y="3357720"/>
            <a:ext cx="3456000" cy="1296720"/>
          </a:xfrm>
          <a:prstGeom prst="borderCallout1">
            <a:avLst>
              <a:gd name="adj1" fmla="val 18750"/>
              <a:gd name="adj2" fmla="val -8333"/>
              <a:gd name="adj3" fmla="val 63157"/>
              <a:gd name="adj4" fmla="val -75240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 vključijo sklopko, turbina požene vodne črpalke. Generator se priključi na električno omrežje in deluje kot motor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08720" y="4797360"/>
            <a:ext cx="34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7953"/>
              <a:gd name="adj5" fmla="val -331509"/>
              <a:gd name="adj6" fmla="val -9572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tok vode v turbino se zapr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08720" y="5516640"/>
            <a:ext cx="344628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49837"/>
              <a:gd name="adj5" fmla="val -142699"/>
              <a:gd name="adj6" fmla="val -99449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pre pa se zasun na črpalki in voda ponovno priteka v j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Hidroelektrarna na bibavic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155760" cy="5068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732720" y="400536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39" y="4000"/>
                </a:moveTo>
                <a:lnTo>
                  <a:pt x="22920" y="4000"/>
                </a:lnTo>
                <a:lnTo>
                  <a:pt x="22920" y="-15188"/>
                </a:lnTo>
                <a:lnTo>
                  <a:pt x="-23829" y="-34481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por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5640" y="1628640"/>
            <a:ext cx="158436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33638"/>
                </a:lnTo>
                <a:lnTo>
                  <a:pt x="34370" y="4404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5640" y="400536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33638"/>
                </a:lnTo>
                <a:lnTo>
                  <a:pt x="34370" y="4404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1658880"/>
            <a:ext cx="2303280" cy="1409760"/>
          </a:xfrm>
          <a:prstGeom prst="borderCallout2">
            <a:avLst>
              <a:gd name="adj1" fmla="val 18750"/>
              <a:gd name="adj2" fmla="val -8333"/>
              <a:gd name="adj3" fmla="val 8106"/>
              <a:gd name="adj4" fmla="val -52310"/>
              <a:gd name="adj5" fmla="val 120495"/>
              <a:gd name="adj6" fmla="val -103171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ebna turbina, ki jih lahko žene vodni tok, ki priteka zdaj iz ene zdaj iz druge smer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Dravske elektrar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136000" cy="5065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84360" y="234936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av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40000" y="126828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uh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112536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1773360"/>
            <a:ext cx="194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iborski o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236000" y="278136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Verdana"/>
              </a:rPr>
              <a:t>For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2000" y="386064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uze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16360" y="494172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žba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16360" y="465300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latolič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Hidroelektra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760" y="251280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Hidroelektrarne so objekti, v katerih se potencialna energija vode pretvarja s pomočjo vodnih in električnih generatorjev v električno energij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Sestavni del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480360" cy="43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7740720" y="1628640"/>
            <a:ext cx="121896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105990"/>
              <a:gd name="adj5" fmla="val 609092"/>
              <a:gd name="adj6" fmla="val -20963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ina i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56360" y="5950080"/>
            <a:ext cx="273672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34861"/>
              <a:gd name="adj5" fmla="val -262388"/>
              <a:gd name="adj6" fmla="val -6850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onski tlačni cevov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40720" y="2349360"/>
            <a:ext cx="1218960" cy="35892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75523"/>
              <a:gd name="adj5" fmla="val 347347"/>
              <a:gd name="adj6" fmla="val -111981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oj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40720" y="2852640"/>
            <a:ext cx="1218960" cy="107964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-40495"/>
              <a:gd name="adj5" fmla="val 106324"/>
              <a:gd name="adj6" fmla="val -7148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sokonapetostni električni vo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740720" y="4064040"/>
            <a:ext cx="1218960" cy="588960"/>
          </a:xfrm>
          <a:prstGeom prst="borderCallout2">
            <a:avLst>
              <a:gd name="adj1" fmla="val 18750"/>
              <a:gd name="adj2" fmla="val -8333"/>
              <a:gd name="adj3" fmla="val 19407"/>
              <a:gd name="adj4" fmla="val -55078"/>
              <a:gd name="adj5" fmla="val 104314"/>
              <a:gd name="adj6" fmla="val -76041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ztok 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80000" y="5950080"/>
            <a:ext cx="121896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74481"/>
              <a:gd name="adj5" fmla="val -696458"/>
              <a:gd name="adj6" fmla="val -14531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por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5950080"/>
            <a:ext cx="1782720" cy="35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23" y="6881"/>
                </a:moveTo>
                <a:lnTo>
                  <a:pt x="22773" y="6881"/>
                </a:lnTo>
                <a:lnTo>
                  <a:pt x="22773" y="-67954"/>
                </a:lnTo>
                <a:lnTo>
                  <a:pt x="17272" y="-142981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šetke in fil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Od vodnega kolesa do turb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779480"/>
            <a:ext cx="8229600" cy="417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4643280" y="1341360"/>
            <a:ext cx="2089440" cy="35892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50379"/>
              <a:gd name="adj5" fmla="val 236282"/>
              <a:gd name="adj6" fmla="val -9954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da čez k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32000" y="6237360"/>
            <a:ext cx="236700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172166"/>
              <a:gd name="adj5" fmla="val -227875"/>
              <a:gd name="adj6" fmla="val 244467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da pod koles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Delovanje turb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727360" y="1600200"/>
            <a:ext cx="3687840" cy="45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8" name=""/>
          <p:cNvSpPr/>
          <p:nvPr/>
        </p:nvSpPr>
        <p:spPr>
          <a:xfrm>
            <a:off x="7093080" y="4354560"/>
            <a:ext cx="18000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120"/>
              <a:gd name="adj5" fmla="val 395671"/>
              <a:gd name="adj6" fmla="val -132009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ztok 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3357720"/>
            <a:ext cx="178272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68032"/>
              <a:gd name="adj5" fmla="val 127402"/>
              <a:gd name="adj6" fmla="val -13419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inska g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93080" y="3860640"/>
            <a:ext cx="179532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64458"/>
              <a:gd name="adj5" fmla="val 270194"/>
              <a:gd name="adj6" fmla="val -23085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tok 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93080" y="2492280"/>
            <a:ext cx="179532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59856"/>
              <a:gd name="adj5" fmla="val 66666"/>
              <a:gd name="adj6" fmla="val -11750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gneti na rotor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93080" y="1700280"/>
            <a:ext cx="179532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91421"/>
              <a:gd name="adj5" fmla="val 172175"/>
              <a:gd name="adj6" fmla="val -182050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vitje na stator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Franciscova reakcijska turb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413080" y="1706400"/>
            <a:ext cx="431640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Kaplanova aksialna turb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413080" y="1706400"/>
            <a:ext cx="431640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Peltonova impulzna turb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413080" y="1706400"/>
            <a:ext cx="431640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Gener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235240" y="1706400"/>
            <a:ext cx="467208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7020000" y="101124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39" y="4000"/>
                </a:moveTo>
                <a:lnTo>
                  <a:pt x="22920" y="4000"/>
                </a:lnTo>
                <a:lnTo>
                  <a:pt x="22920" y="48544"/>
                </a:lnTo>
                <a:lnTo>
                  <a:pt x="-12034" y="9309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r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119700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40556"/>
                </a:lnTo>
                <a:lnTo>
                  <a:pt x="52463" y="77063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gneti rotor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299736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34763"/>
                </a:lnTo>
                <a:lnTo>
                  <a:pt x="63999" y="6564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vitje stator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9040" y="6122880"/>
            <a:ext cx="309060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4189"/>
              <a:gd name="adj5" fmla="val -161537"/>
              <a:gd name="adj6" fmla="val -46740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izvedena elektr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1T08:16:30Z</dcterms:created>
  <dc:creator>Ivo Zupanic</dc:creator>
  <dc:description/>
  <dc:language>en-US</dc:language>
  <cp:lastModifiedBy>Ivo</cp:lastModifiedBy>
  <dcterms:modified xsi:type="dcterms:W3CDTF">2004-02-19T08:19:55Z</dcterms:modified>
  <cp:revision>16</cp:revision>
  <dc:subject/>
  <dc:title>ZGRADBA RACUNALNIKA</dc:title>
</cp:coreProperties>
</file>