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41C-D86A-47A5-9027-83277F28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602-B87D-47AE-8F99-D3A251F0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8D6-A143-46BB-BDF8-BDF70FB8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A602-634C-4BDE-B2EF-783D3F1C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1838-D068-4CB3-B674-269F5F8B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D8B8-B79E-44A0-A4D3-78B679B0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D0E3-259E-4752-9137-87651353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7044-CE85-4A64-816B-DB76151F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9F4A-EE6B-426B-BF61-BE7F56C3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894E-FFBC-453D-91DC-410DD83B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8088-FB95-488B-B93F-71E36830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57C-1C66-4381-A7FA-E2522674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BAEE-0909-4D79-9F87-3E88F132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75BA-6361-480F-96AD-911D62DA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36FD-83F1-4E46-8753-9E194D9C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16B3-1A90-4E55-8602-FB84973E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E90D-2F82-4170-9399-BDE94C18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F81E-5EFD-40D0-809A-0AC205D2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83A-3D3A-4A4D-BEFF-80794F15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6A37-66F4-4C0C-A9A6-042BB3F0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F8C7-65D3-403B-9915-67430D63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CB9-2C41-498E-B271-2665D4C8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9DA-1533-4213-8F69-C27EA278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B2E-A535-42EB-96E2-51574859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6B46-0140-44C8-ACDE-38CC21421A1D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F49C-3140-4D9E-849E-52EE6048785F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76720" y="1980720"/>
            <a:ext cx="5486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Vlada naj en sam, vsi drugi naj ubogajo.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d54f41"/>
                </a:solidFill>
                <a:latin typeface="Times New Roman"/>
              </a:rPr>
              <a:t>RAZSVETLJENI ABSOLUTISTI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884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339933"/>
                </a:solidFill>
                <a:latin typeface="Times New Roman"/>
              </a:rPr>
              <a:t>MARIJA TEREZ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vlada v habsburški monarhiji v letih        1740-17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prta s Friderikom II. Prusk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e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marija_treza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3508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9933"/>
                </a:solidFill>
                <a:latin typeface="Times New Roman"/>
              </a:rPr>
              <a:t>DRUŽINA MARIJE TEREZIJ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05" name="304" descr=""/>
          <p:cNvPicPr/>
          <p:nvPr/>
        </p:nvPicPr>
        <p:blipFill>
          <a:blip r:embed="rId2"/>
          <a:stretch/>
        </p:blipFill>
        <p:spPr>
          <a:xfrm>
            <a:off x="1371600" y="2273400"/>
            <a:ext cx="3733920" cy="3530520"/>
          </a:xfrm>
          <a:prstGeom prst="rect">
            <a:avLst/>
          </a:prstGeom>
          <a:ln w="57240">
            <a:solidFill>
              <a:srgbClr val="78695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2514600" y="2133720"/>
            <a:ext cx="39625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81480" y="22860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ož Franc Štefan Lotarinš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( 1708- 1756)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z Marijo Terezijo je imel 16 otr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9933"/>
                </a:solidFill>
                <a:latin typeface="Times New Roman"/>
              </a:rPr>
              <a:t>PRVI DOM MARIJE TEREZIJ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120" y="53337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chonbrunska palača na Duna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dunaj-schonbrun-L" descr=""/>
          <p:cNvPicPr/>
          <p:nvPr/>
        </p:nvPicPr>
        <p:blipFill>
          <a:blip r:embed="rId2"/>
          <a:stretch/>
        </p:blipFill>
        <p:spPr>
          <a:xfrm>
            <a:off x="2819520" y="1827360"/>
            <a:ext cx="4800600" cy="3354120"/>
          </a:xfrm>
          <a:prstGeom prst="rect">
            <a:avLst/>
          </a:prstGeom>
          <a:ln w="57240">
            <a:solidFill>
              <a:srgbClr val="7869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9933"/>
                </a:solidFill>
                <a:latin typeface="Times New Roman"/>
              </a:rPr>
              <a:t>DRUŽINA MARIJE TEREZIJ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38320" y="2209320"/>
            <a:ext cx="3124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arija Terezija z možem in naslednikom Jožefom 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303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3733920" cy="3733920"/>
          </a:xfrm>
          <a:prstGeom prst="rect">
            <a:avLst/>
          </a:prstGeom>
          <a:ln w="57240">
            <a:solidFill>
              <a:srgbClr val="7869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9933"/>
                </a:solidFill>
                <a:latin typeface="Times New Roman"/>
              </a:rPr>
              <a:t>DRUŽINA MARIJE TEREZIJ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81480" y="2057040"/>
            <a:ext cx="3353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Cesarska družina na terasi gradu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chonbru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302" descr=""/>
          <p:cNvPicPr/>
          <p:nvPr/>
        </p:nvPicPr>
        <p:blipFill>
          <a:blip r:embed="rId2"/>
          <a:stretch/>
        </p:blipFill>
        <p:spPr>
          <a:xfrm>
            <a:off x="1371600" y="2001960"/>
            <a:ext cx="3733920" cy="4071960"/>
          </a:xfrm>
          <a:prstGeom prst="rect">
            <a:avLst/>
          </a:prstGeom>
          <a:ln cap="sq" w="57240">
            <a:solidFill>
              <a:srgbClr val="7869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9933"/>
                </a:solidFill>
                <a:latin typeface="Times New Roman"/>
              </a:rPr>
              <a:t>REFORME MARIJE TEREZIJ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PRAVNE - ozemlja je razdelila na okrož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AVČNE - z davki obremeni tudi plemič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VOJAŠKE - splošna vojaška obvez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V KORIST KMETU -odpravi triletno kolobarjenje, uvede nove pasme živali, sodi mu sod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ŠTETJE PREBIVALSTVA IN HIŠNE ŠTEVIL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VEDBA SPLOŠNE ŠOLSKE OBVEZ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ZDA KAZENSKI ZAKONIK - odpravi smrtno kazen in muč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d54f41"/>
                </a:solidFill>
                <a:latin typeface="Times New Roman"/>
              </a:rPr>
              <a:t>RAZSVETLJENI ABSOLUTISTI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2520" y="16002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9933"/>
                </a:solidFill>
                <a:latin typeface="Times New Roman"/>
              </a:rPr>
              <a:t>   </a:t>
            </a:r>
            <a:r>
              <a:rPr b="1" lang="sl-SI" sz="3600" spc="-1" strike="noStrike">
                <a:solidFill>
                  <a:srgbClr val="339933"/>
                </a:solidFill>
                <a:latin typeface="Times New Roman"/>
              </a:rPr>
              <a:t>JOŽEF 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in Marije Terezi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vlada v habsburški monarhiji v letih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780 -17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e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francek_jozek%20_mlad" descr=""/>
          <p:cNvPicPr/>
          <p:nvPr/>
        </p:nvPicPr>
        <p:blipFill>
          <a:blip r:embed="rId2"/>
          <a:stretch/>
        </p:blipFill>
        <p:spPr>
          <a:xfrm>
            <a:off x="1965240" y="1371600"/>
            <a:ext cx="2508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9933"/>
                </a:solidFill>
                <a:latin typeface="Times New Roman"/>
              </a:rPr>
              <a:t>DRUŽINA JOŽEFA II.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oproga Marija Izabela  Parm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305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320976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9933"/>
                </a:solidFill>
                <a:latin typeface="Times New Roman"/>
              </a:rPr>
              <a:t>REFORME JOŽEFA II.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NEJEVOLNIŠKI PATENT ali zakon o osebni svobodi km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OLERANČNI PATENT – ZAKON O VERSKI TOLERAN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DPRAVI romanja in božje poti, zapre nekatere bogate samosta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76720" y="213372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Ljudje so bili najprej vsi enaki.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720" y="1371240"/>
            <a:ext cx="5486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Vsak človek ima pravico do življenja, svobode in sreče.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76720" y="213372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Država, to sem jaz!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76720" y="213372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d54f41"/>
                </a:solidFill>
                <a:latin typeface="Times New Roman"/>
              </a:rPr>
              <a:t>RAZSVETLJENI</a:t>
            </a:r>
            <a:r>
              <a:rPr b="1" lang="sl-SI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sl-SI" sz="4800" spc="-1" strike="noStrike">
                <a:solidFill>
                  <a:srgbClr val="d54f41"/>
                </a:solidFill>
                <a:latin typeface="Times New Roman"/>
              </a:rPr>
              <a:t>ABSOLUTIZEM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5640" y="7617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9933"/>
                </a:solidFill>
                <a:latin typeface="Times New Roman"/>
              </a:rPr>
              <a:t>KAJ JE RAZSVETLJENI ABSOLUTIZEM?</a:t>
            </a:r>
            <a:endParaRPr b="0" lang="en-US" sz="40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191120" y="2743200"/>
            <a:ext cx="396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Je vladanje po načelih razsvetljencev</a:t>
            </a:r>
            <a:endParaRPr b="0" lang="en-US" sz="36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7240" y="380880"/>
            <a:ext cx="5181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d54f41"/>
                </a:solidFill>
                <a:latin typeface="Times New Roman"/>
              </a:rPr>
              <a:t>RAZSVETLJENI ABSOLUTISTI</a:t>
            </a:r>
            <a:endParaRPr b="0" lang="en-US" sz="40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1905120"/>
            <a:ext cx="469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9933"/>
                </a:solidFill>
                <a:latin typeface="Times New Roman"/>
              </a:rPr>
              <a:t>FRIDERIK II. PRU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9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9933"/>
                </a:solidFill>
                <a:latin typeface="Times New Roman"/>
              </a:rPr>
              <a:t>KATARINA VEL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3276720"/>
            <a:ext cx="469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9933"/>
                </a:solidFill>
                <a:latin typeface="Times New Roman"/>
              </a:rPr>
              <a:t>MARIJA TEREZ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962520"/>
            <a:ext cx="469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9933"/>
                </a:solidFill>
                <a:latin typeface="Times New Roman"/>
              </a:rPr>
              <a:t>JOŽEF I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d54f41"/>
                </a:solidFill>
                <a:latin typeface="Times New Roman"/>
              </a:rPr>
              <a:t>RAZSVETLJENI ABSOLUTISTI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3735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339933"/>
                </a:solidFill>
                <a:latin typeface="Times New Roman"/>
              </a:rPr>
              <a:t>FRIDERIK II. PRUS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oveča moč pruske države s številnimi ukrepi ( podpira novosti v kmetijstvu, obrti, industriji, pospešuje trgovino, gradnjo c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vojaška discip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zavzema se za versko strp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plošna šolska obvez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friederik_prusek" descr=""/>
          <p:cNvPicPr/>
          <p:nvPr/>
        </p:nvPicPr>
        <p:blipFill>
          <a:blip r:embed="rId2"/>
          <a:stretch/>
        </p:blipFill>
        <p:spPr>
          <a:xfrm>
            <a:off x="1444680" y="1600200"/>
            <a:ext cx="3562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d54f41"/>
                </a:solidFill>
                <a:latin typeface="Times New Roman"/>
              </a:rPr>
              <a:t>RAZSVETLJENI ABSOLUTISTI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56360" y="1600200"/>
            <a:ext cx="373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9933"/>
                </a:solidFill>
                <a:latin typeface="Times New Roman"/>
              </a:rPr>
              <a:t>KATARINA VELI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Ruska ca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762-17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e najpametnejša mati domovin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zasluga: Rusija dobi akademijo zna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vodi vojno proti Turč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katica_velika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3539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4:17:04Z</dcterms:created>
  <dc:creator>SUZANA</dc:creator>
  <dc:description/>
  <dc:language>en-US</dc:language>
  <cp:lastModifiedBy>Administrator</cp:lastModifiedBy>
  <dcterms:modified xsi:type="dcterms:W3CDTF">2003-01-20T17:51:26Z</dcterms:modified>
  <cp:revision>31</cp:revision>
  <dc:subject/>
  <dc:title>PowerPoint Presentation</dc:title>
</cp:coreProperties>
</file>