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0FA-ED2B-45E9-AEF5-D47A9178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940-FDA2-4FDD-A9F9-94225FB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DD9-D63E-4BC5-8123-3D416EC5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8B4-7890-4EBE-80E4-10EDA725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0EC-8F94-4D38-9794-8A31FFD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4F4-181B-4101-AB87-2FCCF98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D10-FB16-4282-90CD-78365A2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447-58BC-484B-BBC5-8E1047D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1E0-26D1-4F75-A0AF-86261BF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BDB-6FCC-4945-8462-EFCDAEBA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403-7367-403B-9977-ED99A2D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E50-F6FC-444A-964C-93480AC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A488-9AD2-467C-AAB5-444DC4E4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3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sl-SI" sz="7200" spc="-1" strike="noStrike">
                <a:solidFill>
                  <a:srgbClr val="000000"/>
                </a:solidFill>
                <a:latin typeface="Comic Sans MS"/>
              </a:rPr>
              <a:t>FOKUSNE SKUPINE</a:t>
            </a:r>
            <a:br>
              <a:rPr sz="7200"/>
            </a:br>
            <a:r>
              <a:rPr b="1" lang="sl-SI" sz="3200" spc="-1" strike="noStrike">
                <a:solidFill>
                  <a:srgbClr val="000000"/>
                </a:solidFill>
                <a:latin typeface="Comic Sans MS"/>
              </a:rPr>
              <a:t>doc.dr. Liljana Ri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243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LABOSTI FOKUSNIH SKU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Omejenost pri številu vprašanj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, na katera želimo odgov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Vodenje fokusne skupine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zahteva znanje o procesu skupinske dinamike 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(nevarnost – dominantni govorc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Težava s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hkratnim beleženjem in usmerjanjem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fokusne skup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epričakovane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neprije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Moderator kot vir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usmerjanja odgovoro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96360" y="1197000"/>
            <a:ext cx="6649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AČRTOVANJE IN IZVEDBA FOKUSNIH SKU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redeliti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roblem raziska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katera vrsta informacij je zaželena, od koga jih lahko dobim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redeliti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kvir vzorčen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pisek ljudi, enot, reprezentativnih za populacij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ločiti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moderator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načrtovati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smernice za interv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zbira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vzor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bveščanje, odločitev o času in prostoru izvedb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Vod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kup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nali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interpretacija podatko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sanje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oroči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redlog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dločitve in akcij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AKO VODITI FOKUSNE SKU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zainteresiran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za udeležence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igrati </a:t>
            </a: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vlogo moderato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pripravljen </a:t>
            </a: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slišati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neprijetne vidike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zavedanje, da </a:t>
            </a: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ni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mogoče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moderirati vseh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uporablja edinstvene </a:t>
            </a: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talente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znanja in spretnosti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(razumevanje skupinskega proc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omic Sans MS"/>
              </a:rPr>
              <a:t>vodstveni stil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 – podporno vodenje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radovednost, komunikativnost, 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omic Sans MS"/>
              </a:rPr>
              <a:t>prijaznost, smisel za humor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4221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132000" y="2349000"/>
            <a:ext cx="1224000" cy="1513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00720" y="2565000"/>
            <a:ext cx="142560" cy="1368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16360" y="3789000"/>
            <a:ext cx="1008000" cy="4316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132000" y="3500280"/>
            <a:ext cx="1152720" cy="649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771640" y="4724280"/>
            <a:ext cx="1368720" cy="576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4653000"/>
            <a:ext cx="1152720" cy="649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80360" y="3141720"/>
            <a:ext cx="176364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3780000" y="4941720"/>
            <a:ext cx="504720" cy="792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AKO VODITI FOKUSNE SKU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44956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ZNAČI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Drugačen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od moderato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Radov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posoben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nadzirati re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Samodisciplini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4956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VLO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Član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Dela natančne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zapiske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in s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krbi za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opremo in logist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e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odzove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na nepričakovane prekinit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odeluje pri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povzetku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z moderator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odeluje pri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analizi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fokusne sk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177336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1628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170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04000" y="907920"/>
            <a:ext cx="1795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AKO VODITI FOKUSNO SKUPI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PR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ZVEDBO FOKUSNE SK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rator se 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miselno priprav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načrt dela, potek spraševanja, preveri spisek na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Priprava opr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oprema za snemanje, papirji, listi z vprašan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Priprava so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emperatura, svetloba, razpored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AKO VODITI FOKUSNO SKUPI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O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UDELEŽENCI PRISPEJ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ih 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registrira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če potrebujemo podrobnejše podatke – ime, spol, starost, poklic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ravimo 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kratke pogov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z njimi (pozdrav, sproščen pogovor o postranskih zadeva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AKO VODITI FOKUSNO SKUPI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MED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IZVEDBO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FOKUSNE SKUPINE JE DOBRO, DA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MODERATOR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Predstavi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namen in potek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d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Tekoče postavlja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vprašanja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in predpostavi potek fokusne sk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Nadzira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lastne re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Dopušča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pre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Zaprosi za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dodatne inform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Pozorno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poslu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Spodbuja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vse člane, da sodeluj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Povzame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diskusijo in se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zahv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Ob morebitnem posredovanju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dodatnih informacij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s strani udeležencev ob odhodu to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zabelež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*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Posebna pozornost, če gre za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 specifične skup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AKO VODITI FOKUSNO SKUPI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PO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ZAKLJUČ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KUSNE SKUPINE JE DOBRO, DA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MODERATOR IN A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erita, ali je 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snemalna naprava zabeležila odgo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Povzameta pogov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se osredotočita na najpomembnejše teme, na razlike od naših pričakovanj, na nepredvidene ugotov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MOT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ki preusmerijo pozornost iz glavne tem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hrup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o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oble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eratorja, na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mobilni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telef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nujen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medicinski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1728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2. PREMALO UDELEŽEN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Počakamo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10 mi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Asistent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prestreže zamudnike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in jim na kratko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povzame doga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Pregledati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protokol vabljenj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in ugotoviti, kaj je na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Možnost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za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povečanje števil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udeležencev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procedura </a:t>
            </a:r>
            <a:r>
              <a:rPr b="0" lang="sl-SI" sz="2400" spc="-1" strike="noStrike">
                <a:solidFill>
                  <a:srgbClr val="99cc00"/>
                </a:solidFill>
                <a:latin typeface="Comic Sans MS"/>
              </a:rPr>
              <a:t>sistematičnega obveščanja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zagotavlja, da se bodo vabljeni res udeležili fokusne sk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48360" y="5661000"/>
            <a:ext cx="1871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99cc00"/>
                </a:solidFill>
                <a:latin typeface="Comic Sans MS"/>
              </a:rPr>
              <a:t>ČISTA HOLISTIČNO INDUKTIVNA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333399"/>
                </a:solidFill>
                <a:latin typeface="Comic Sans MS"/>
              </a:rPr>
              <a:t>ČISTA HIPOTETIČNO-DEDUKTI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99cc00"/>
                </a:solidFill>
                <a:latin typeface="Comic Sans MS"/>
              </a:rPr>
              <a:t>(KVALITATIVNA) STRATEGIJA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333399"/>
                </a:solidFill>
                <a:latin typeface="Comic Sans MS"/>
              </a:rPr>
              <a:t>(KVANITITATIVNA) STRATEG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naturalistična raziskava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eksperimentalni nač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zbiranje kvalitativnih  zbiranje kvantitativnih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zbiranje kvalitativnih zbiranje kvantitativn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podatkov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     podatkov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podatkov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    podatkov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analiza vsebine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   statistična analiza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analiza vsebine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1600" spc="-1" strike="noStrike">
                <a:solidFill>
                  <a:srgbClr val="000000"/>
                </a:solidFill>
                <a:latin typeface="Comic Sans MS"/>
              </a:rPr>
              <a:t>    statistična an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omic Sans MS"/>
              </a:rPr>
              <a:t>Vir: Patton, 1990: 1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05000"/>
            <a:ext cx="0" cy="503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997360"/>
            <a:ext cx="0" cy="71892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365720"/>
            <a:ext cx="0" cy="10080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299736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429264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2000" y="2133720"/>
            <a:ext cx="0" cy="57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306864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4292640"/>
            <a:ext cx="0" cy="1008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84720" y="306864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429264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3. PREVEČ UDELEŽEN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Do tega pride, kadar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ni nadzora nad obvešča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javijo se lahko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premljevalci udeležence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ožnos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zmanjšanje števi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deleženc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judem se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zahvalim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jih opozorimo na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omejitev skup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mo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vprašanja na list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prosimo, da v sosednjem prostoru odgovorijo na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skupino razdeli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 dve manjši in damo dvema udeležencema vlogo moderatorja in asist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67640" y="4941720"/>
            <a:ext cx="115740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4. PROBLEMI Z OPR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Določen del opreme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pozabimo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posebna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torb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za fokusne skup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Oprema </a:t>
            </a:r>
            <a:r>
              <a:rPr b="0" lang="sl-SI" sz="2800" spc="-1" strike="noStrike">
                <a:solidFill>
                  <a:srgbClr val="99cc00"/>
                </a:solidFill>
                <a:latin typeface="Comic Sans MS"/>
              </a:rPr>
              <a:t>ne deluje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testiramo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opremo pred fokusno skupino; pazimo, da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menjamo kasete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18828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5. PROBLEMI S PROSTO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Tež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dobi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imerno 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s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Možn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a zmanjšanje problemov s prosto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Izogibaj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velikim in visokim so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tor mora biti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dovolj ve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gotoviti primerno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tempera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ejiti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glasovne mot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dobni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stoli in 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kacija, ki jo je </a:t>
            </a:r>
            <a:r>
              <a:rPr b="0" lang="en-US" sz="2400" spc="-1" strike="noStrike">
                <a:solidFill>
                  <a:srgbClr val="99cc00"/>
                </a:solidFill>
                <a:latin typeface="Comic Sans MS"/>
              </a:rPr>
              <a:t>lahko naj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72360" y="1413000"/>
            <a:ext cx="244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9999"/>
                </a:solidFill>
                <a:latin typeface="Comic Sans MS"/>
              </a:rPr>
              <a:t>6. PROBLEMI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, KI NASTANEJO </a:t>
            </a:r>
            <a:r>
              <a:rPr b="0" lang="sl-SI" sz="2000" spc="-1" strike="noStrike">
                <a:solidFill>
                  <a:srgbClr val="009999"/>
                </a:solidFill>
                <a:latin typeface="Comic Sans MS"/>
              </a:rPr>
              <a:t>ZARADI UDELEŽEN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9999"/>
                </a:solidFill>
                <a:latin typeface="Comic Sans MS"/>
              </a:rPr>
              <a:t>OBNAŠANJE UDELEŽEN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Eksperti in vplivneži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skupini dodajo veliko vrednost, vendar povzročijo zavore pri ostalih udeležencih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pohvalimo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njihov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znanj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in prosim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druge za mnenj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rečemo, da je za nas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ekspert vsak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Dominantni govorci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o sebi menijo, da so eksperti, vendar jih drugi vidijo drugače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posedemo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jih k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moderatorju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verbalno preusmerimo pozornost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ne prekinjamo jih sredi zgod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Moteči udeleženci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netolerantni, ne omogočajo drugim, da govorijo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opomniti, da s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dobrodošli pogledi vseh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vzeti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odmor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Osebe brez cilja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veliko govorijo, ne pridejo do bistva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prekiniti očesni stik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ko se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ustavijo,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postaviti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novo vprašanj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Tihe in sramežljive oseb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govorijo malo in s tihim glasom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sedij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nasproti moderatorja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, da ima z njimi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očesni stik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9cc00"/>
                </a:solidFill>
                <a:latin typeface="Comic Sans MS"/>
              </a:rPr>
              <a:t>Nepozorni udeleženci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(težko ostanejo pri bistvu vprašanja; zdi se, da ga ne razumejo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strategije: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ponovimo vprašanj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vprašanja napišem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na tablo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; opozorimo, da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ne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 moremo </a:t>
            </a:r>
            <a:r>
              <a:rPr b="0" lang="sl-SI" sz="2000" spc="-1" strike="noStrike">
                <a:solidFill>
                  <a:srgbClr val="333399"/>
                </a:solidFill>
                <a:latin typeface="Comic Sans MS"/>
              </a:rPr>
              <a:t>slišati vseh naenkrat</a:t>
            </a:r>
            <a:r>
              <a:rPr b="0" lang="sl-SI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PROBLEM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, KI NASTANEJO </a:t>
            </a: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ZARADI UDELEŽEN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B) KOMENTARJI UDELEŽEN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99cc00"/>
                </a:solidFill>
                <a:latin typeface="Comic Sans MS"/>
              </a:rPr>
              <a:t>Nespoštljivi in osebni napad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(osebni napadi zaradi nestrinjanja pri bolj emocionalnih temah;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strategija: opozoriti, da morajo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udeleženci poslušati drug drugeg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99cc00"/>
                </a:solidFill>
                <a:latin typeface="Comic Sans MS"/>
              </a:rPr>
              <a:t>Nepravilni ali škodljivi nasvet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(običajno pri bolj tehničnih temah;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strategija: moderator mora ob koncu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opozorit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, da je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določen nasvet škodljiv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99cc00"/>
                </a:solidFill>
                <a:latin typeface="Comic Sans MS"/>
              </a:rPr>
              <a:t>Osebna razkritj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 (obtožbe, ki inkriminirajo določenega udeleženca;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strategija: povedati, da </a:t>
            </a:r>
            <a:r>
              <a:rPr b="0" lang="sl-SI" sz="2800" spc="-1" strike="noStrike">
                <a:solidFill>
                  <a:srgbClr val="333399"/>
                </a:solidFill>
                <a:latin typeface="Comic Sans MS"/>
              </a:rPr>
              <a:t>ne iščemo osebnih zgodb udeležencev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PROBLEMI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, KI NASTANEJO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ZARADI UDELEŽENC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C) VPRAŠANJA UDELEŽENC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Vprašanja </a:t>
            </a:r>
            <a:r>
              <a:rPr b="1" i="1" lang="sl-SI" sz="2400" spc="-1" strike="noStrike">
                <a:solidFill>
                  <a:srgbClr val="99cc00"/>
                </a:solidFill>
                <a:latin typeface="Comic Sans MS"/>
              </a:rPr>
              <a:t>pred fokusno skupino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(med procesom vabljenja, neposredno pred diskusijo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trategija: ponudimo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dovolj informacij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Vprašanja </a:t>
            </a:r>
            <a:r>
              <a:rPr b="1" i="1" lang="sl-SI" sz="2400" spc="-1" strike="noStrike">
                <a:solidFill>
                  <a:srgbClr val="99cc00"/>
                </a:solidFill>
                <a:latin typeface="Comic Sans MS"/>
              </a:rPr>
              <a:t>po predstavitvi udeležencev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v fokusni skupin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trategija: takih vprašanj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ne spodbujamo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; če so postavljena, pojasnimo, da bo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odgovor ob koncu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Vprašanja </a:t>
            </a:r>
            <a:r>
              <a:rPr b="1" i="1" lang="sl-SI" sz="2400" spc="-1" strike="noStrike">
                <a:solidFill>
                  <a:srgbClr val="99cc00"/>
                </a:solidFill>
                <a:latin typeface="Comic Sans MS"/>
              </a:rPr>
              <a:t>med fokusno skupino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trategije: v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odvisnosti od konteksta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– zavrnemo vprašanje, prosimo drugega, da odgovori, preložimo odgovor, odgovor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Vprašanja </a:t>
            </a:r>
            <a:r>
              <a:rPr b="1" i="1" lang="sl-SI" sz="2400" spc="-1" strike="noStrike">
                <a:solidFill>
                  <a:srgbClr val="99cc00"/>
                </a:solidFill>
                <a:latin typeface="Comic Sans MS"/>
              </a:rPr>
              <a:t>ob zaključku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trategije: 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spodbujamo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praševanje in </a:t>
            </a:r>
            <a:r>
              <a:rPr b="0" lang="sl-SI" sz="2400" spc="-1" strike="noStrike">
                <a:solidFill>
                  <a:srgbClr val="333399"/>
                </a:solidFill>
                <a:latin typeface="Comic Sans MS"/>
              </a:rPr>
              <a:t>odgovorimo na vprašanja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, ki smo jih preložili na ko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LEMI IN STRATEGIJE REŠEVANJA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PROBLEMI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, KI NASTANEJO </a:t>
            </a: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ZARADI UDELEŽEN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D) ODSTRANJEVANJE UDELEŽENCEV IZ FOKUSNE SK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99cc00"/>
                </a:solidFill>
                <a:latin typeface="Comic Sans MS"/>
              </a:rPr>
              <a:t>Pred začetkom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(ko takoj ugotovimo, da nekdo ne sodi v fokusno skupino;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strategije: usmerimo jih </a:t>
            </a:r>
            <a:r>
              <a:rPr b="0" lang="sl-SI" sz="3200" spc="-1" strike="noStrike">
                <a:solidFill>
                  <a:srgbClr val="333399"/>
                </a:solidFill>
                <a:latin typeface="Comic Sans MS"/>
              </a:rPr>
              <a:t>v čakalnico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; jim damo </a:t>
            </a:r>
            <a:r>
              <a:rPr b="0" lang="sl-SI" sz="3200" spc="-1" strike="noStrike">
                <a:solidFill>
                  <a:srgbClr val="333399"/>
                </a:solidFill>
                <a:latin typeface="Comic Sans MS"/>
              </a:rPr>
              <a:t>liste z vprašanji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in jih prosimo, da jih izpolni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99cc00"/>
                </a:solidFill>
                <a:latin typeface="Comic Sans MS"/>
              </a:rPr>
              <a:t>Med izvajanjem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(ko je nekdo netoleranten;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strategija: naredimo </a:t>
            </a:r>
            <a:r>
              <a:rPr b="0" lang="sl-SI" sz="3200" spc="-1" strike="noStrike">
                <a:solidFill>
                  <a:srgbClr val="333399"/>
                </a:solidFill>
                <a:latin typeface="Comic Sans MS"/>
              </a:rPr>
              <a:t>odmor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in povemo osebi, da v drugem delu </a:t>
            </a:r>
            <a:r>
              <a:rPr b="0" lang="sl-SI" sz="3200" spc="-1" strike="noStrike">
                <a:solidFill>
                  <a:srgbClr val="333399"/>
                </a:solidFill>
                <a:latin typeface="Comic Sans MS"/>
              </a:rPr>
              <a:t>ne potrebujemo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več njenega </a:t>
            </a:r>
            <a:r>
              <a:rPr b="0" lang="sl-SI" sz="3200" spc="-1" strike="noStrike">
                <a:solidFill>
                  <a:srgbClr val="333399"/>
                </a:solidFill>
                <a:latin typeface="Comic Sans MS"/>
              </a:rPr>
              <a:t>sodelovanja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ALIZA PODAT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Preprosti </a:t>
            </a: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povzet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Transkripcija pogovora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sl-SI" sz="3200" spc="-1" strike="noStrike">
                <a:solidFill>
                  <a:srgbClr val="009999"/>
                </a:solidFill>
                <a:latin typeface="Comic Sans MS"/>
              </a:rPr>
              <a:t>analiza</a:t>
            </a:r>
            <a:r>
              <a:rPr b="0" lang="sl-SI" sz="3200" spc="-1" strike="noStrike">
                <a:solidFill>
                  <a:srgbClr val="000000"/>
                </a:solidFill>
                <a:latin typeface="Comic Sans MS"/>
              </a:rPr>
              <a:t> z različnih vidiko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vrstni red 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prisotnost/odsotnost 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čas za določeno t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intenzivnost izr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razlogi vs. re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dvom in nezaup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posameznik vs.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tehnika copy-p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analiza vseb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72360" y="2708280"/>
            <a:ext cx="1979640" cy="1800360"/>
            <a:chOff x="6372360" y="2708280"/>
            <a:chExt cx="1979640" cy="1800360"/>
          </a:xfrm>
        </p:grpSpPr>
        <p:sp>
          <p:nvSpPr>
            <p:cNvPr id="130" name="Puzzle3"/>
            <p:cNvSpPr/>
            <p:nvPr/>
          </p:nvSpPr>
          <p:spPr>
            <a:xfrm>
              <a:off x="7336440" y="2708280"/>
              <a:ext cx="777960" cy="9568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uzzle2"/>
            <p:cNvSpPr/>
            <p:nvPr/>
          </p:nvSpPr>
          <p:spPr>
            <a:xfrm>
              <a:off x="7110000" y="3405240"/>
              <a:ext cx="1242000" cy="8712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uzzle4"/>
            <p:cNvSpPr/>
            <p:nvPr/>
          </p:nvSpPr>
          <p:spPr>
            <a:xfrm>
              <a:off x="6629400" y="3394440"/>
              <a:ext cx="748800" cy="11142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1"/>
            <p:cNvSpPr/>
            <p:nvPr/>
          </p:nvSpPr>
          <p:spPr>
            <a:xfrm>
              <a:off x="6372360" y="2997720"/>
              <a:ext cx="1257480" cy="6642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8360" y="4653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ichard A. Krueger (1998): Moderating Focus Groups. Sage: Thousand O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ichard A. Krueger (1998): Developing Questions for Focus Groups. Sage, Thousand Oa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.Q.Patton (1990): Qualitative Evaluation and Research Methods. Newbury Park, Sage Publication, str. 335-3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 W. Stewart, Prem N. Shamdasani, Dennis W. Rook (2007): Focus groups: Theory and Practice. Second Edition, Thousand Oaks, London, New Delhi, Sage Public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AJ SO FOKUSNE SKU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 IZMED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MET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ZBIRANJA KVALITATIVNIH PODAT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odenj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kupine in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nterpretacijo rezultato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je potrebno razumeti znotraj konteksta skupinske interak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EMELJ METODE FOKUSNE SKU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ZNANJE, DA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ODLOČITVE, KI JIH SPREJMEJO LJUDJE, NASTANEJO V SOCIALNEM KONTEKST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V DISKUSIJI Z DRUGIMI LJUDM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POZNANJE ZAČNEJO UPORABLJATI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RAZISKOVALCI TRG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 50. LETIH PREJŠNJEGA STOLETJA ZA ZBIRANJE NATANČNIH INFORMACIJ O PREFERENCAH POTROŠNIKO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ONCEPTUALNA IZHODIŠČA FOKUSNE SKU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Fokusirano raziskovanje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: zbrati kvalitativne podatke od posameznikov, ki so doživeli posebno konkretno okoliščino, ki služi kot fokus intervjuj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Skupinske interakcije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: cilj je bolje razumeti skupinsko dinamiko, ki vpliva na posameznikove zaznave, proizvajanje informacij in odločanj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Poglobljeni podatki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: medsebojno srečanje ljudi v skupini spodbudi več odgovorov o vprašanjih obnašanja, ki gredo preko nivoja površinskih razla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9999"/>
                </a:solidFill>
                <a:latin typeface="Comic Sans MS"/>
              </a:rPr>
              <a:t>Humanistična raziskava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: splošna usmerjenost, ki vključuje empatijo, odprtost, aktivno posluš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SNOVNE ZNAČILNOSTI FOKUSNIH SKU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ju z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majhno skupi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judi (6 – 8), oblikovano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začas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za specifičen n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raševanje o specifični (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oločeni tem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ki ga usmerja mod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Č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1,5 do 2 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 za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ntervj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ne za reševanje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deleženci: relativno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homoge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kupina lj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žnost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odajanja komentarje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o tem, ko drugi že odgovorijo na vpraš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 nujen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niti konsenz niti nestrin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LJ FOKUSNIH SKU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BITI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VISOKO-KVALITETNE PODATKE V SOCIALNEM KONTEKST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KJER LAHKO LJUDJE RAZMIŠLJAJO O LASTNIH POGLEDIH V KONTEKSTU DRUGIH POGLE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04000" y="1268280"/>
            <a:ext cx="162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ONTEKSTI UPORABE FOKUSNIH SKU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Dobiti splošne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izhodiščne podatke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o temi, ki nas zan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Oblikovati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raziskovalne hipoteze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, ki jih nato preverimo z nadaljnjim raziskovanjem in testiranjem z uporabo kvantitativnih met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podbujanje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novih idej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in kreativnih koncep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Odkrivanje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potencialov za rešitev problemov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v novih programih, storitvah, proizvod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Oblikovanje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vtisov o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proizvodih, programih,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storitvah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Spoznati, kako respondenti govorijo o fenomenu, ki nas zanima, kar lahko izboljša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načrtovanje merskih instrumentov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Interpretacija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 predhodnih </a:t>
            </a:r>
            <a:r>
              <a:rPr b="0" lang="sl-SI" sz="2400" spc="-1" strike="noStrike">
                <a:solidFill>
                  <a:srgbClr val="009999"/>
                </a:solidFill>
                <a:latin typeface="Comic Sans MS"/>
              </a:rPr>
              <a:t>kvantitativnih rezultatov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DNOSTI FOKUSNIH SKU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Učinkovit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hnika zbiranja (in analize) kvalitativnih podatk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leksibil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ehnika z vidika namena upora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gotavlja nekaj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kontrole kvalite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d zbiranjem podatk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upinska dinamika prispeva k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osredotočanju na pomembne 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Hitro oceni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akšen je obseg podobnih mnenj udeleženc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navadi udeleženci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z veseljem sodeluj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 tehnika, ki jo lahko uporabimo tudi pri tistih skupinah, ki imajo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ežave s funkcionalno pismenostj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pr. otroc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740720" y="76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27:17Z</dcterms:created>
  <dc:creator>Liljana Rihter</dc:creator>
  <dc:description/>
  <dc:language>en-US</dc:language>
  <cp:lastModifiedBy>Liljana Rihter</cp:lastModifiedBy>
  <dcterms:modified xsi:type="dcterms:W3CDTF">2008-09-19T10:51:25Z</dcterms:modified>
  <cp:revision>25</cp:revision>
  <dc:subject/>
  <dc:title>Diapozitiv 1</dc:title>
</cp:coreProperties>
</file>