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4BE-0287-4693-9A54-762AF012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682-14FC-475B-BCF6-4994CCB9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CD7-C95C-4EBE-A761-4BB71C7C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983-B568-47EF-9E80-7C8733A9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8905-640C-443F-96AD-D2E7DC11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EA49-9782-435D-8A79-1F018E73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D8BB-D00B-4CD4-B065-E53EE32A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BDA2-0267-4CBD-9C51-D46D103D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E70-3CD9-44FE-9750-E50DD9C7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55D-7476-4D1F-A6AA-9567A271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0150-25B0-4F23-B606-F72CCDF0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F3D-18DB-4927-9CB6-A20F1F78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D152-83E7-4639-BB85-D02F0E47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838B-C5FF-4A25-991F-AF53765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3CBA-0C9C-4FD4-94BA-D5FF1ABA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4050-833D-4538-9A17-D59BA9A7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374D-B9B9-4933-9A11-15445C13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19F-2FE1-4559-AA2D-DDAF9290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BBA-B92B-4B8D-A364-A80C796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7F1-7559-4F15-9334-F3F27799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E12-A6FA-4AD4-9E62-D764670E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1BC-C9BE-45D7-9D6D-95955E06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0DA-6D3E-4AAB-B775-881DF6D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082-7B34-43F0-8F0E-8A8767BE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B257-AC9D-4AB2-9883-0D2E98AEB593}" type="slidenum">
              <a:rPr b="0" lang="sl-SI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9D87-5DE5-4C7A-98A1-C17447A1277E}" type="slidenum">
              <a:rPr b="0" lang="sl-SI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4.png"/><Relationship Id="rId17" Type="http://schemas.openxmlformats.org/officeDocument/2006/relationships/image" Target="../media/image11.png"/><Relationship Id="rId18" Type="http://schemas.openxmlformats.org/officeDocument/2006/relationships/image" Target="../media/image8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34920" y="4941360"/>
            <a:ext cx="6800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440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br>
              <a:rPr sz="4000"/>
            </a:br>
            <a:r>
              <a:rPr b="1" lang="en-US" sz="4000" spc="-1" strike="noStrike">
                <a:solidFill>
                  <a:srgbClr val="cc99ff"/>
                </a:solidFill>
                <a:latin typeface="Verdana"/>
              </a:rPr>
              <a:t>VZORČENJE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195640" y="2781360"/>
            <a:ext cx="2663640" cy="2519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0720" y="4076640"/>
            <a:ext cx="914400" cy="9144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5084640"/>
            <a:ext cx="3024000" cy="649440"/>
          </a:xfrm>
          <a:custGeom>
            <a:avLst/>
            <a:gdLst>
              <a:gd name="textAreaLeft" fmla="*/ 599400 w 3024000"/>
              <a:gd name="textAreaRight" fmla="*/ 2122200 w 3024000"/>
              <a:gd name="textAreaTop" fmla="*/ 86760 h 649440"/>
              <a:gd name="textAreaBottom" fmla="*/ 5626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-2901351"/>
                <a:lnTo>
                  <a:pt x="21113" y="7182"/>
                </a:lnTo>
                <a:lnTo>
                  <a:pt x="18284" y="0"/>
                </a:lnTo>
                <a:lnTo>
                  <a:pt x="14481" y="7182"/>
                </a:lnTo>
                <a:lnTo>
                  <a:pt x="16641" y="7182"/>
                </a:lnTo>
                <a:arcTo wR="8564" hR="21600" stAng="2498649" swAng="2715849"/>
                <a:lnTo>
                  <a:pt x="9720" y="21402"/>
                </a:lnTo>
                <a:arcTo wR="8564" hR="21600" stAng="5585502" swAng="5214498"/>
                <a:close/>
              </a:path>
              <a:path fill="darkenLess"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185502"/>
                <a:lnTo>
                  <a:pt x="9720" y="21402"/>
                </a:lnTo>
                <a:arcTo wR="8564" hR="21600" stAng="5585502" swAng="5214498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1945400">
            <a:off x="4140000" y="2780640"/>
            <a:ext cx="3024000" cy="649080"/>
          </a:xfrm>
          <a:custGeom>
            <a:avLst/>
            <a:gdLst>
              <a:gd name="textAreaLeft" fmla="*/ 599400 w 3024000"/>
              <a:gd name="textAreaRight" fmla="*/ 2122200 w 302400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-2901351"/>
                <a:lnTo>
                  <a:pt x="21113" y="7182"/>
                </a:lnTo>
                <a:lnTo>
                  <a:pt x="18284" y="0"/>
                </a:lnTo>
                <a:lnTo>
                  <a:pt x="14481" y="7182"/>
                </a:lnTo>
                <a:lnTo>
                  <a:pt x="16641" y="7182"/>
                </a:lnTo>
                <a:arcTo wR="8564" hR="21600" stAng="2498649" swAng="2715849"/>
                <a:lnTo>
                  <a:pt x="9720" y="21402"/>
                </a:lnTo>
                <a:arcTo wR="8564" hR="21600" stAng="5585502" swAng="5214498"/>
                <a:close/>
              </a:path>
              <a:path fill="darkenLess"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185502"/>
                <a:lnTo>
                  <a:pt x="9720" y="21402"/>
                </a:lnTo>
                <a:arcTo wR="8564" hR="21600" stAng="5585502" swAng="5214498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4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populacij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40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vzore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5805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zberem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64000" y="220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osplošim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284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4149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3280" y="4869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4292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19640" y="4797360"/>
            <a:ext cx="14256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4360" y="321300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80000" y="371628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4005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40360" y="342900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43640" y="422100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1672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2720" y="422100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58136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48360" y="4653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79736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77080" y="4149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59640" y="458136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997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4869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40000" y="3789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728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4365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342900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56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35280" y="508464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4720" y="4653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27280" y="386064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5280" y="292428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3141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422100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3280" y="3789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6400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40360" y="4076640"/>
            <a:ext cx="14256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494172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92360" y="386064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400536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6000" y="4365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8764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40360" y="378936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43657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5280" y="3357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321300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19640" y="2852640"/>
            <a:ext cx="14256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48000" y="5013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64000" y="3141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43280" y="4365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40360" y="31417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32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93228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59280" y="4221000"/>
            <a:ext cx="14256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4000" y="4149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0" y="45799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LOGIKA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VZORČENJ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logični postopek 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indukcije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(sklepanje iz posamičnega na celoto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vzorčne ocene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pravih vrednosti (parametrov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dobro izbran vzorec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(vzorčna ocena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~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prava populacijska vrednos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3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OSNOVNA ZAHTEVA</a:t>
            </a:r>
            <a:r>
              <a:rPr b="0" lang="sl-SI" sz="3200" spc="-1" strike="noStrike">
                <a:solidFill>
                  <a:srgbClr val="006666"/>
                </a:solidFill>
                <a:latin typeface="Verdana"/>
              </a:rPr>
              <a:t> VZORČE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zorec predstavlja (reprezentira) populacij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4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4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4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4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4800" spc="-1" strike="noStrike">
                <a:solidFill>
                  <a:srgbClr val="006699"/>
                </a:solidFill>
                <a:latin typeface="Wingdings"/>
                <a:ea typeface="Wingdings"/>
              </a:rPr>
              <a:t>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vzorec mora biti izbran 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slučajnostno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(pod določenimi pogoji neslučajnostni vzorci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VZORCE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Slučajnostn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Enostavni slučajnost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istematič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lojeviti (stratificirani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Neslučajnostn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ložnost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amensk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Kvot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Slučajnostni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 vzorci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vsaka enota populacije enako verjetnost, da bo izbrana v vzore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Enostavni slučajnostni vzorec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oštevilčenje enot populacije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biranje enot (</a:t>
            </a:r>
            <a:r>
              <a:rPr b="0" lang="sl-SI" sz="2400" spc="-1" strike="noStrike" u="sng">
                <a:solidFill>
                  <a:srgbClr val="006699"/>
                </a:solidFill>
                <a:uFillTx/>
                <a:latin typeface="Verdana"/>
              </a:rPr>
              <a:t>pripomočk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: žreb, tabela slučajnih števil; </a:t>
            </a:r>
            <a:r>
              <a:rPr b="0" lang="sl-SI" sz="2400" spc="-1" strike="noStrike" u="sng">
                <a:solidFill>
                  <a:srgbClr val="006699"/>
                </a:solidFill>
                <a:uFillTx/>
                <a:latin typeface="Verdana"/>
              </a:rPr>
              <a:t>način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: vzorčenje s ponavljanjem, vzorčenje brez ponavljanja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točnost ocen (heterogenost/homogenost populacije; velikost vzorca)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6516720" y="2852640"/>
            <a:ext cx="144000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8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Tanj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8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Mink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8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Marjan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8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876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99ff"/>
                </a:solidFill>
                <a:latin typeface="Verdana"/>
              </a:rPr>
              <a:t>Slučajnostni vzorci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Enostavni slučajnostni vzorec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biranje enot: žrebanje na dva način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vzorčenje </a:t>
            </a:r>
            <a:r>
              <a:rPr b="1" lang="sl-SI" sz="2400" spc="-1" strike="noStrike">
                <a:solidFill>
                  <a:srgbClr val="ffcc66"/>
                </a:solidFill>
                <a:latin typeface="Verdana"/>
              </a:rPr>
              <a:t>s ponavljanjem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izžrebano enoto vrnemo v bob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vsaka enota </a:t>
            </a:r>
            <a:r>
              <a:rPr b="0" lang="sl-SI" sz="2400" spc="-1" strike="noStrike">
                <a:solidFill>
                  <a:srgbClr val="ff0000"/>
                </a:solidFill>
                <a:latin typeface="Verdana"/>
              </a:rPr>
              <a:t>enako verjetnost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za izbor (npr.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  1/900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vzorčenje </a:t>
            </a:r>
            <a:r>
              <a:rPr b="1" lang="sl-SI" sz="2400" spc="-1" strike="noStrike">
                <a:solidFill>
                  <a:srgbClr val="ffcc66"/>
                </a:solidFill>
                <a:latin typeface="Verdana"/>
              </a:rPr>
              <a:t>brez ponavljanja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izžrebane enote ne vrnemo v bob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vsaka naslednja enota ima </a:t>
            </a:r>
            <a:r>
              <a:rPr b="0" lang="sl-SI" sz="2400" spc="-1" strike="noStrike">
                <a:solidFill>
                  <a:srgbClr val="ff0000"/>
                </a:solidFill>
                <a:latin typeface="Verdana"/>
              </a:rPr>
              <a:t>večjo verjetnost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  za izbor (npr. 1/900, 1/899, 1/898, itd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Slučajnostni vzorc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Enostavni slučajnostni vzorec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zbiranje enot: tabela slučajnih števi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7526   7460   5644   864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172   1898   6030   667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023   0950   1896   472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632   3816   4575   073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0761   2838   6166   853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br>
              <a:rPr sz="2000"/>
            </a:b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VRSTE VZORCEV: Slučajnostni vzorci</a:t>
            </a:r>
            <a:br>
              <a:rPr sz="2000"/>
            </a:b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Enostavni slučajnostni vzorec</a:t>
            </a:r>
            <a:r>
              <a:rPr b="0" lang="sl-SI" sz="2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6666"/>
                </a:solidFill>
                <a:latin typeface="Verdana"/>
              </a:rPr>
              <a:t>Tabela slučajnih števil (postopek izbora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54080" y="1600200"/>
            <a:ext cx="4032360" cy="44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Oddelimo po tri prve cifre v vsakem stolpcu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!         !         !         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7526   7460   5644   864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5172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89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8   6030   6677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202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3   0950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189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6   472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3632   3816   4575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073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0761   2838   6166   8534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sl-SI" sz="2000" spc="-1" strike="noStrike">
                <a:solidFill>
                  <a:srgbClr val="ff3300"/>
                </a:solidFill>
                <a:latin typeface="Verdana"/>
              </a:rPr>
              <a:t>!         !         !         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V vzorec pridejo enot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202, 073, 18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9640" y="1844640"/>
          <a:ext cx="3600720" cy="418140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pisna štev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m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.A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3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.B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.S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07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.M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0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.Š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1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.V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0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.E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18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.T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1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.S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br>
              <a:rPr sz="2400"/>
            </a:b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VRSTE VZORCEV: Slučajnostni vzorci</a:t>
            </a:r>
            <a:br>
              <a:rPr sz="2400"/>
            </a:b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Enostavni slučajnostni vzorec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1844640"/>
            <a:ext cx="44895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ednosti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prost postope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 potrebujem podatkov o značilnostih 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prost izračun napake ocen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356000" y="1844280"/>
            <a:ext cx="4788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Pomanjkljivosti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številčenje eno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ožnost nereprezentativ. vzorc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njša točnost oc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roški (razpršena populacij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zpad majhnih delnih populacij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vržemo podatke o značilnostih sub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842760" cy="576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236000" y="1557360"/>
            <a:ext cx="865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Slučajnostni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b) Sistematični vzorec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oštevilčenje enot populacije (spisek eno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odločitev o velikosti vzorc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razmerje N/n (npr. 1000/100 = 10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bor prve enote vzorca (žreb, tablica slučajnih števil); nato 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vsako n-to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(npr. vsako 10.) 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eno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eriodično ponavljanje značilnost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DO BODO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ENOTE RAZISKAV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čigave značilnosti želim raziskati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6699"/>
                </a:solidFill>
                <a:latin typeface="Wingdings"/>
                <a:ea typeface="Wingdings"/>
              </a:rPr>
              <a:t>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ločim družbeno celoto, ki bo predmet naše raziska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205000"/>
            <a:ext cx="1074600" cy="104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667640" y="3573360"/>
            <a:ext cx="928800" cy="1009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12096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br>
              <a:rPr sz="2800"/>
            </a:b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RSTE VZORCEV: Slučajnostni vzorci</a:t>
            </a:r>
            <a:br>
              <a:rPr sz="2800"/>
            </a:b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istematični vzorec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1628280"/>
            <a:ext cx="4489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ednosti: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prost postope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imeren interval vključuje vse sloje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čja točnost ocen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poraba podatkov o delnih populacija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54080" y="1628280"/>
            <a:ext cx="4489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Pomanjkljivosti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znam 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riodično ponavljanje enot določene vrste v seznam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če seznam ni razdeljen po delnih populacijah, podoben enost. slučajnostnem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842760" cy="576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7236000" y="1557360"/>
            <a:ext cx="865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Slučajnostni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c) Stratificiran vzorec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bor informacij o strukturi populacije glede na neko značilnost (spol, starost, izobrazba,…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uvrstitev vsake enote populacije v eno od kategorij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sestava seznamov po kategorija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iz vsakega seznama izberemo enostaven slučajnostni ali sistematični vzore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Slučajnostni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c) Stratificiran vzorec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ačin izbora enot (= dve vrsti stratificiranih vzorcev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ffcc66"/>
                </a:solidFill>
                <a:latin typeface="Verdana"/>
              </a:rPr>
              <a:t>proporcionalno stratificiran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(delež enot vzorca delne populacije je enak deležu delne populacije v populaciji); primernejš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ffcc66"/>
                </a:solidFill>
                <a:latin typeface="Verdana"/>
              </a:rPr>
              <a:t>disproporcionalno stratificiran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(delež enot delne populacije v vzorcu ni enak deležu teh enot v populaciji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br>
              <a:rPr sz="3200"/>
            </a:b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VRSTE VZORCEV: Slučajnostni vzorci</a:t>
            </a:r>
            <a:br>
              <a:rPr sz="3200"/>
            </a:b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Stratificiran vzorec</a:t>
            </a:r>
            <a:r>
              <a:rPr b="0" lang="sl-SI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2781360"/>
            <a:ext cx="2663640" cy="2519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00720" y="4076640"/>
            <a:ext cx="914400" cy="9144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1945400">
            <a:off x="4140000" y="2780640"/>
            <a:ext cx="3024000" cy="649080"/>
          </a:xfrm>
          <a:custGeom>
            <a:avLst/>
            <a:gdLst>
              <a:gd name="textAreaLeft" fmla="*/ 599400 w 3024000"/>
              <a:gd name="textAreaRight" fmla="*/ 2122200 w 302400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-2901351"/>
                <a:lnTo>
                  <a:pt x="21113" y="7182"/>
                </a:lnTo>
                <a:lnTo>
                  <a:pt x="18284" y="0"/>
                </a:lnTo>
                <a:lnTo>
                  <a:pt x="14481" y="7182"/>
                </a:lnTo>
                <a:lnTo>
                  <a:pt x="16641" y="7182"/>
                </a:lnTo>
                <a:arcTo wR="8564" hR="21600" stAng="2498649" swAng="2715849"/>
                <a:lnTo>
                  <a:pt x="9720" y="21402"/>
                </a:lnTo>
                <a:arcTo wR="8564" hR="21600" stAng="5585502" swAng="5214498"/>
                <a:close/>
              </a:path>
              <a:path fill="darkenLess"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185502"/>
                <a:lnTo>
                  <a:pt x="9720" y="21402"/>
                </a:lnTo>
                <a:arcTo wR="8564" hR="21600" stAng="5585502" swAng="5214498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24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populacij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80360" y="40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vzore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5013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zberem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64000" y="220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osplošim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3284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71640" y="4149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43280" y="4869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4292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19640" y="4797360"/>
            <a:ext cx="14256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24360" y="321300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0" y="371628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4005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40360" y="342900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72360" y="4365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16720" y="4365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4149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48360" y="4365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32720" y="4365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72360" y="458136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4653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59640" y="479736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77080" y="4149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59640" y="458136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32000" y="2997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32000" y="4869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40000" y="3789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4365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59280" y="342900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35280" y="508464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4720" y="4653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627280" y="386064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3528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35280" y="292428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43280" y="299736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40000" y="422100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3789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48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6400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40360" y="4076640"/>
            <a:ext cx="14256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08360" y="494172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92360" y="386064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0000" y="400536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6000" y="4365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8764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0360" y="3789360"/>
            <a:ext cx="14256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43657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35280" y="3357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56000" y="321300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19640" y="2852640"/>
            <a:ext cx="14256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48000" y="5013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036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3141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843280" y="4365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31417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393228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59280" y="4221000"/>
            <a:ext cx="14256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64000" y="4149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80000" y="45799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56000" y="3213000"/>
            <a:ext cx="208728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195640" y="4076280"/>
            <a:ext cx="266364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29264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4581360"/>
            <a:ext cx="9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16720" y="472428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04000" y="472428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95640" y="2997360"/>
            <a:ext cx="2448000" cy="1152360"/>
          </a:xfrm>
          <a:prstGeom prst="line">
            <a:avLst/>
          </a:prstGeom>
          <a:ln w="28440">
            <a:solidFill>
              <a:srgbClr val="edfa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716280"/>
            <a:ext cx="2160360" cy="720720"/>
          </a:xfrm>
          <a:prstGeom prst="line">
            <a:avLst/>
          </a:prstGeom>
          <a:ln w="28440">
            <a:solidFill>
              <a:srgbClr val="edfa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4653000"/>
            <a:ext cx="1800360" cy="144360"/>
          </a:xfrm>
          <a:prstGeom prst="line">
            <a:avLst/>
          </a:prstGeom>
          <a:ln w="28440">
            <a:solidFill>
              <a:srgbClr val="edfa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br>
              <a:rPr sz="2400"/>
            </a:b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VRSTE VZORCEV: Slučajnostni vzorci</a:t>
            </a:r>
            <a:br>
              <a:rPr sz="2400"/>
            </a:b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Stratificiran vzorec</a:t>
            </a:r>
            <a:r>
              <a:rPr b="0" lang="sl-SI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sl-SI" sz="2000" spc="-1" strike="noStrike">
                <a:solidFill>
                  <a:srgbClr val="006666"/>
                </a:solidFill>
                <a:latin typeface="Verdana"/>
              </a:rPr>
              <a:t>-primer proporcionalnega, disproporcionalnega vzorčenja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08000" y="2205000"/>
          <a:ext cx="9031320" cy="3895920"/>
        </p:xfrm>
        <a:graphic>
          <a:graphicData uri="http://schemas.openxmlformats.org/drawingml/2006/table">
            <a:tbl>
              <a:tblPr/>
              <a:tblGrid>
                <a:gridCol w="1439640"/>
                <a:gridCol w="1265400"/>
                <a:gridCol w="1265400"/>
                <a:gridCol w="1265040"/>
                <a:gridCol w="1265400"/>
                <a:gridCol w="1265040"/>
                <a:gridCol w="1265400"/>
              </a:tblGrid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ZOBRAZB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ZOBRAZBENA STRUKTURA POPULACIJ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ROPORCIONALNO  STRATIFICIRA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ISPROPORCIONALNO STRATIFICIRA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ŠTEV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ŠTEV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ŠTEV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%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IŽJ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REDNJ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IŠJ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KUPAJ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POPULACIJA, VZOREC </a:t>
            </a:r>
            <a:br>
              <a:rPr sz="2800"/>
            </a:b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RSTE VZORCEV: Slučajnostni vzorci</a:t>
            </a:r>
            <a:br>
              <a:rPr sz="2800"/>
            </a:b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tratificiran vzorec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1773360"/>
            <a:ext cx="44895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rednosti: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olj reprezentativen kot enost. slučaj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ključuje manjše delne 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olj točne ocene pri manjših vzorci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54080" y="1773360"/>
            <a:ext cx="44895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Verdana"/>
              </a:rPr>
              <a:t>Pomanjkljivosti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dhodni podatki o sestavi 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mudno sestavljanje delnih vzorce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pake pri uvrščanju eno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pleteno računanje napake ocen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842760" cy="576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7236000" y="1557360"/>
            <a:ext cx="865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2. Neslučajnostni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enote populacije nimajo enake možnosti, da so izbrane v vzorec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Priložnostni vzorec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enote, ki so raziskovalcem najbolj dostopn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Namenski vzorec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ekaj enot, ki so tipični predstavniki določene populacije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c) Kvotni vzorec: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ostopek: glej stratificiran vzore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ačin: glej priložnostni vzore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13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2. Neslučajnostni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a) Priložnost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redelitev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: enote, ki so dostop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imer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študentje psihologije kot ‘predstavniki’ človeštv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udeleženci seminarja kot ‘predstavniki’ socialnih delavce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ogoj posploševanj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: enote vzorca se v relevantnih lastnostih ne razlikujejo od enot populacije (študent  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=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človek; študentje FSD </a:t>
            </a:r>
            <a:r>
              <a:rPr b="0" lang="sl-SI" sz="2800" spc="-1" strike="noStrike">
                <a:solidFill>
                  <a:srgbClr val="ff3300"/>
                </a:solidFill>
                <a:latin typeface="Verdana"/>
              </a:rPr>
              <a:t>≠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študentje UNI-LJ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2. Neslučajnostni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b) Namensk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redelitev: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delno populacijo, ki je tipična, povprečna, vzamemo kot predstavnico celotne populaci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imer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CSD s povprečno kadrovsko strukturo, strukturo zadev, uporabnikov ‘predstavlja’ celotno populacijo CSD v Slovenij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EV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2. Neslučajnostni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vzorc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c) Kvot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redelitev: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z stratificirane populacije vzamemo iz vsake delne populacije določeno število enot po načelu prilož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imer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anketar dobi nalogo, da anketira po 10 oseb vsake stopnje izobrazbe (N, S, V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AJ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NAMERAVAM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pis primera, skupine, organiz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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vzorec za kvalitativno raziskav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dentificiranje enot z določenimi lastnostmi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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popi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gotavljanje strukturne značilnosti neke množice ljudi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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popis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ali vzorče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PARAMETRI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IN 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VZORČNE OCE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Parameter</a:t>
            </a:r>
            <a:r>
              <a:rPr b="0" lang="sl-SI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3200" spc="-1" strike="noStrike">
                <a:solidFill>
                  <a:srgbClr val="ffcc66"/>
                </a:solidFill>
                <a:latin typeface="Verdana"/>
              </a:rPr>
              <a:t>prava vrednost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spremenljivke ob </a:t>
            </a:r>
            <a:r>
              <a:rPr b="0" lang="sl-SI" sz="3200" spc="-1" strike="noStrike">
                <a:solidFill>
                  <a:srgbClr val="ffcc66"/>
                </a:solidFill>
                <a:latin typeface="Verdana"/>
              </a:rPr>
              <a:t>popisu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populacije (</a:t>
            </a:r>
            <a:r>
              <a:rPr b="0" lang="el-GR" sz="3200" spc="-1" strike="noStrike">
                <a:solidFill>
                  <a:srgbClr val="006699"/>
                </a:solidFill>
                <a:latin typeface="Verdana"/>
              </a:rPr>
              <a:t>μ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Vzorčna oce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vrednost spremenljivke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(večje ali manjše odstopanje od prave vrednosti) na osnovi </a:t>
            </a:r>
            <a:r>
              <a:rPr b="0" lang="sl-SI" sz="3200" spc="-1" strike="noStrike">
                <a:solidFill>
                  <a:srgbClr val="ff3300"/>
                </a:solidFill>
                <a:latin typeface="Verdana"/>
              </a:rPr>
              <a:t>vzorc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(x, p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br>
              <a:rPr sz="4000"/>
            </a:br>
            <a:r>
              <a:rPr b="0" lang="en-US" sz="4000" spc="-1" strike="noStrike">
                <a:solidFill>
                  <a:srgbClr val="cc99ff"/>
                </a:solidFill>
                <a:latin typeface="Verdana"/>
              </a:rPr>
              <a:t>PARAMETRI IN VZORČNE OCEN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2195640" y="2781360"/>
            <a:ext cx="2663640" cy="2519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00720" y="4076640"/>
            <a:ext cx="914400" cy="9144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40360" y="5084640"/>
            <a:ext cx="3024000" cy="649440"/>
          </a:xfrm>
          <a:custGeom>
            <a:avLst/>
            <a:gdLst>
              <a:gd name="textAreaLeft" fmla="*/ 599400 w 3024000"/>
              <a:gd name="textAreaRight" fmla="*/ 2122200 w 3024000"/>
              <a:gd name="textAreaTop" fmla="*/ 86760 h 649440"/>
              <a:gd name="textAreaBottom" fmla="*/ 5626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-2901351"/>
                <a:lnTo>
                  <a:pt x="21113" y="7182"/>
                </a:lnTo>
                <a:lnTo>
                  <a:pt x="18284" y="0"/>
                </a:lnTo>
                <a:lnTo>
                  <a:pt x="14481" y="7182"/>
                </a:lnTo>
                <a:lnTo>
                  <a:pt x="16641" y="7182"/>
                </a:lnTo>
                <a:arcTo wR="8564" hR="21600" stAng="2498649" swAng="2715849"/>
                <a:lnTo>
                  <a:pt x="9720" y="21402"/>
                </a:lnTo>
                <a:arcTo wR="8564" hR="21600" stAng="5585502" swAng="5214498"/>
                <a:close/>
              </a:path>
              <a:path fill="darkenLess"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185502"/>
                <a:lnTo>
                  <a:pt x="9720" y="21402"/>
                </a:lnTo>
                <a:arcTo wR="8564" hR="21600" stAng="5585502" swAng="5214498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11945400">
            <a:off x="4140000" y="2780640"/>
            <a:ext cx="3024000" cy="649080"/>
          </a:xfrm>
          <a:custGeom>
            <a:avLst/>
            <a:gdLst>
              <a:gd name="textAreaLeft" fmla="*/ 599400 w 3024000"/>
              <a:gd name="textAreaRight" fmla="*/ 2122200 w 302400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-2901351"/>
                <a:lnTo>
                  <a:pt x="21113" y="7182"/>
                </a:lnTo>
                <a:lnTo>
                  <a:pt x="18284" y="0"/>
                </a:lnTo>
                <a:lnTo>
                  <a:pt x="14481" y="7182"/>
                </a:lnTo>
                <a:lnTo>
                  <a:pt x="16641" y="7182"/>
                </a:lnTo>
                <a:arcTo wR="8564" hR="21600" stAng="2498649" swAng="2715849"/>
                <a:lnTo>
                  <a:pt x="9720" y="21402"/>
                </a:lnTo>
                <a:arcTo wR="8564" hR="21600" stAng="5585502" swAng="5214498"/>
                <a:close/>
              </a:path>
              <a:path fill="darkenLess" w="21600" h="21600">
                <a:moveTo>
                  <a:pt x="0" y="0"/>
                </a:moveTo>
                <a:arcTo wR="8564" hR="21600" stAng="10800000" swAng="-5400000"/>
                <a:lnTo>
                  <a:pt x="10876" y="21600"/>
                </a:lnTo>
                <a:arcTo wR="8564" hR="21600" stAng="5400000" swAng="185502"/>
                <a:lnTo>
                  <a:pt x="9720" y="21402"/>
                </a:lnTo>
                <a:arcTo wR="8564" hR="21600" stAng="5585502" swAng="5214498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71640" y="24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populacij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80360" y="400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vzore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71640" y="5084640"/>
            <a:ext cx="208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Izračunamo </a:t>
            </a:r>
            <a:r>
              <a:rPr b="0" lang="el-GR" sz="1800" spc="-1" strike="noStrike">
                <a:solidFill>
                  <a:srgbClr val="006699"/>
                </a:solidFill>
                <a:latin typeface="Tahoma"/>
              </a:rPr>
              <a:t>μ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parame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020000" y="2781360"/>
            <a:ext cx="19447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zračunam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ceno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ẍ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1128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48000" y="3284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4149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43280" y="4869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4292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19640" y="4797360"/>
            <a:ext cx="14256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24360" y="321300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80000" y="371628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27640" y="4005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40360" y="342900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443640" y="422100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672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32720" y="422100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4836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3272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72360" y="458136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48360" y="4653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479736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4149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59640" y="458136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32000" y="2997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32000" y="4869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40000" y="3789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2728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6000" y="4365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59280" y="342900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35280" y="508464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84720" y="4653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27280" y="386064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3528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35280" y="292428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71640" y="3141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40000" y="422100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43280" y="3789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64000" y="443700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40360" y="4076640"/>
            <a:ext cx="14256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494172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92360" y="386064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80000" y="400536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56000" y="4365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8764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40360" y="378936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40360" y="43657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35280" y="335772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356000" y="3213000"/>
            <a:ext cx="142920" cy="14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419640" y="2852640"/>
            <a:ext cx="14256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48000" y="501336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00360" y="350028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64000" y="3141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276720" y="4581360"/>
            <a:ext cx="14292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43280" y="4365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40360" y="31417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32000" y="364500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32000" y="3932280"/>
            <a:ext cx="142920" cy="14436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59280" y="4221000"/>
            <a:ext cx="142560" cy="144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64000" y="41497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80000" y="4579920"/>
            <a:ext cx="14256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95640" y="4795920"/>
            <a:ext cx="142920" cy="144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692000" y="4365720"/>
            <a:ext cx="863640" cy="64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093080" y="3860280"/>
            <a:ext cx="35856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ZNAČILNOSTI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VZORČNIH OC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očnos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netočno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epristranskos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pristransko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spremenljivost (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atančnos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) –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remenljivost (nenatančnos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ZNAČILNOSTI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VZORČNIH OC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66"/>
                </a:solidFill>
                <a:latin typeface="Verdana"/>
              </a:rPr>
              <a:t>Točnost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azlika med vzorčno oceno in pravo vrednostjo (parametro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apaka ocene (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e = ẍ - </a:t>
            </a:r>
            <a:r>
              <a:rPr b="0" lang="el-GR" sz="3200" spc="-1" strike="noStrike">
                <a:solidFill>
                  <a:srgbClr val="006699"/>
                </a:solidFill>
                <a:latin typeface="Verdana"/>
              </a:rPr>
              <a:t>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i možen neposredni izračun – PARADOKS VZORČENJ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66"/>
                </a:solidFill>
                <a:latin typeface="Verdana"/>
              </a:rPr>
              <a:t>ocenim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iz odnosov med značilnostmi populacije in vzorca kot verjetnost napake določene velik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Verdana"/>
              </a:rPr>
              <a:t>Točnost vzorčne ocene: primer</a:t>
            </a:r>
            <a:br>
              <a:rPr sz="2400"/>
            </a:br>
            <a:r>
              <a:rPr b="0" lang="sl-SI" sz="2000" spc="-1" strike="noStrike">
                <a:solidFill>
                  <a:srgbClr val="006666"/>
                </a:solidFill>
                <a:latin typeface="Verdana"/>
              </a:rPr>
              <a:t>Mesec, Majcen, Družbeni položaj starejših občanov Ljubljane (1984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684360" y="1700280"/>
          <a:ext cx="7998840" cy="4884840"/>
        </p:xfrm>
        <a:graphic>
          <a:graphicData uri="http://schemas.openxmlformats.org/drawingml/2006/table">
            <a:tbl>
              <a:tblPr/>
              <a:tblGrid>
                <a:gridCol w="1599120"/>
                <a:gridCol w="1600920"/>
                <a:gridCol w="1598760"/>
                <a:gridCol w="1601280"/>
                <a:gridCol w="15987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starost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opulacija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vzorec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%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65-6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.25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2,9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2,7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0-7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.94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8,7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8,2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5+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1.91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8,28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9,0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1.11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3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= 2,35 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očnost vzorčne ocene: odvisnost od velikosti vzorca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napak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cene je tem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anjš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čim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ečji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je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zorec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paka se manjša s kvadratnim korenom velikosti vzorc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paka ocene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41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58920" y="4581360"/>
            <a:ext cx="3097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Tahoma"/>
              </a:rPr>
              <a:t>n = numerus, velikost vzorc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Tahoma"/>
              </a:rPr>
              <a:t>S = 1 (privzamemo v naslednjih računih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5148360" y="3789360"/>
                <a:ext cx="302400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Točnost vzorčne oce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643280" y="1125360"/>
          <a:ext cx="3961080" cy="5310360"/>
        </p:xfrm>
        <a:graphic>
          <a:graphicData uri="http://schemas.openxmlformats.org/drawingml/2006/table">
            <a:tbl>
              <a:tblPr/>
              <a:tblGrid>
                <a:gridCol w="1981440"/>
                <a:gridCol w="197964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elikost vzorc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Napaka ocen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1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7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6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5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4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.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2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1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"/>
          <p:cNvSpPr/>
          <p:nvPr/>
        </p:nvSpPr>
        <p:spPr>
          <a:xfrm>
            <a:off x="1042920" y="198900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Odvisnost napake ocene od velikosti vzorc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Točnost vzorčne ocene: velikost populacije in vzorc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:predvolilne javnomnenjske anke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pulaci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volivcev Slo: c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1,500.00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Vzorec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telefonske ankete: ca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1.00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elikost vzorca v %: 0,06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Točnost vzorčne ocene: velikost populacije in vzorca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0" y="1125360"/>
          <a:ext cx="8819640" cy="5473800"/>
        </p:xfrm>
        <a:graphic>
          <a:graphicData uri="http://schemas.openxmlformats.org/drawingml/2006/table">
            <a:tbl>
              <a:tblPr/>
              <a:tblGrid>
                <a:gridCol w="2163240"/>
                <a:gridCol w="1664280"/>
                <a:gridCol w="1664280"/>
                <a:gridCol w="1663560"/>
                <a:gridCol w="16642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bsolutna velikost populacij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bsolutna velikost 1% vzorc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naprej izbrana absol. velikost vzorc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lativna velikost vzorca v %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apaka ocen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s=1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,000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bf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ebf7ff"/>
                    </a:solidFill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0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0,15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očnost vzorčne ocene: velikost populacije in vzorc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Vzorec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je lahko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elativno (%)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te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manjš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či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več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j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pulaci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Čim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manjš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je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populaci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relativno (%)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tem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večj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ora biti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vzorec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OPREDELITEV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POPULACIJE (1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Množični pojav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pojav, ki se v času in prostoru ponovljeno pojavlj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Populacija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(statistična množica)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kupina enot množičnega pojava, ki ustreza določenim opredeljujočim pogoj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08720" y="2781360"/>
            <a:ext cx="784440" cy="928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028000" y="2852640"/>
            <a:ext cx="68436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993960" cy="100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675640" y="2924280"/>
            <a:ext cx="468360" cy="57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572000" y="2997360"/>
            <a:ext cx="1144440" cy="792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924360" y="2924280"/>
            <a:ext cx="92232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203640" y="2924280"/>
            <a:ext cx="850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Točnost vzorčne ocene: odvisnost od spremenljivosti značilnosti v populaciji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Točnost oce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je te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več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či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manjša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e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azpršenost značilnost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v populaciji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Čim bolj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homogen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j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pulaci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tem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manjši vzorec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bo dal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zahtevano točnos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ZNAČILNOSTI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VZORČNIH OC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epristranskos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če je imela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vsaka enot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populacije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enako možnost izbora v vzorec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slučajnostno vzorčenj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primer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oterijsko žrebanje (nepristransko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terary Digest (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pristransk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ZNAČILNOSTI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VZORČNIH OC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espremenljivost (natančnost)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erjetnost, da dobimo točno oceno iz določenega vzorc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mer: če iz iste populacije vzamemo več vzorcev, se pri nekaterih postopkih vzorčenja in značilnostih vzorčne ocene bolj razlikujejo (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nenatančnos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), pri drugih pa manj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OPREDELITEV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POPULACIJE (2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POGOJI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OPREDELIT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varni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rajevni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časovn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ZAGOTOVITI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RAZMISLEK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O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nedvoumnost opredelit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mogenost ali heterogenost popul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851040" cy="706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1191960" cy="865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1058760" cy="649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300720" y="4221000"/>
            <a:ext cx="851040" cy="1138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8028000" y="4076640"/>
            <a:ext cx="86364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50920" y="5935680"/>
            <a:ext cx="850680" cy="922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900000" y="5935680"/>
            <a:ext cx="851040" cy="922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1619280" y="5935680"/>
            <a:ext cx="851040" cy="922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2340000" y="5935680"/>
            <a:ext cx="851040" cy="922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5292720" y="6021360"/>
            <a:ext cx="865080" cy="836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6156360" y="6138720"/>
            <a:ext cx="861840" cy="719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7596360" y="4869000"/>
            <a:ext cx="639720" cy="56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3"/>
          <a:stretch/>
        </p:blipFill>
        <p:spPr>
          <a:xfrm>
            <a:off x="4500720" y="5935680"/>
            <a:ext cx="8506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OPREDELITEV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POPULACIJE (3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imer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predelitve popul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2421000"/>
            <a:ext cx="2808360" cy="3988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Stvarni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goj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3716280"/>
            <a:ext cx="2881080" cy="3988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Krajevni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ogoj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941720"/>
            <a:ext cx="2952720" cy="3988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Časovni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pogoj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421000"/>
            <a:ext cx="3744720" cy="10087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opulacijo sestavljajo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prejemniki denarne socialne pomoči…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3716280"/>
            <a:ext cx="3744720" cy="3988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..</a:t>
            </a:r>
            <a:r>
              <a:rPr b="1" lang="en-US" sz="2000" spc="-1" strike="noStrike">
                <a:solidFill>
                  <a:srgbClr val="996633"/>
                </a:solidFill>
                <a:latin typeface="Verdana"/>
              </a:rPr>
              <a:t>v občini Ajdovščin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40360" y="4941720"/>
            <a:ext cx="3816360" cy="3988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…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na dan 31.12.2005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OPREDELITEV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POPULACIJE (4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VRSTE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POPUL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sameznik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študentje FSD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kupi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vzgojne skupine v zavodu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kupnosti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krajevne, občin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rganizacij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invalidske o., strokovna društva, CSD, šol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POPIS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 IN </a:t>
            </a: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VZORČE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. Popolni </a:t>
            </a: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popis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datki o</a:t>
            </a:r>
            <a:r>
              <a:rPr b="0" lang="en-US" sz="2400" spc="-1" strike="noStrike">
                <a:solidFill>
                  <a:srgbClr val="9966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vsaki enoti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jhna populacija (‹ 500 eno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iciranje enot z določeno lastnostj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ave vrednosti značilnosti 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Vzorčenje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datki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o določenem številu enot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, izbranih iz 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lika populaci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volj ocena pravih vrednosti populac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gotavljanje številčnih odnosov v populacij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50508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504720" cy="549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076720" y="1484280"/>
            <a:ext cx="505080" cy="549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504720" cy="549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084720" y="1484280"/>
            <a:ext cx="505080" cy="549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6588000" y="1484280"/>
            <a:ext cx="505080" cy="54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7164360" y="1484280"/>
            <a:ext cx="504720" cy="549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5508720" y="3716280"/>
            <a:ext cx="504720" cy="549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6084720" y="3716280"/>
            <a:ext cx="505080" cy="549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6588000" y="3716280"/>
            <a:ext cx="505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OPULACIJA, VZOREC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VZOREC</a:t>
            </a:r>
            <a:r>
              <a:rPr b="0" lang="sl-SI" sz="3200" spc="-1" strike="noStrike">
                <a:solidFill>
                  <a:srgbClr val="006666"/>
                </a:solidFill>
                <a:latin typeface="Verdana"/>
              </a:rPr>
              <a:t> IN 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DELNA POPULA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Primer: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opulacija študentov 2. l. FSD 07/08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aj je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 delna populacij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Npr. redni/izredni; moški/ženske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Wingdings"/>
                <a:ea typeface="Wingdings"/>
              </a:rPr>
              <a:t>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aj je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vzorec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? Kako bi ga sestavili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S slučajnostnim izborom, npr. vsakega četrtega študenta izmed vseh rednih in izrednih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1960" cy="620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63760" cy="635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843280" y="1844640"/>
            <a:ext cx="563400" cy="635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419640" y="1844640"/>
            <a:ext cx="506160" cy="647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3924360" y="1844640"/>
            <a:ext cx="504720" cy="620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4427640" y="1844640"/>
            <a:ext cx="504720" cy="620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4932360" y="1844640"/>
            <a:ext cx="504720" cy="620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5435640" y="1844640"/>
            <a:ext cx="504720" cy="620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187280" y="184464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5940360" y="1844640"/>
            <a:ext cx="492120" cy="565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6443640" y="1844640"/>
            <a:ext cx="492120" cy="565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"/>
          <a:stretch/>
        </p:blipFill>
        <p:spPr>
          <a:xfrm>
            <a:off x="6948360" y="1844640"/>
            <a:ext cx="492120" cy="5652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3"/>
          <a:stretch/>
        </p:blipFill>
        <p:spPr>
          <a:xfrm>
            <a:off x="5580000" y="3573360"/>
            <a:ext cx="492120" cy="565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>
            <a:off x="6156360" y="3573360"/>
            <a:ext cx="492120" cy="565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5"/>
          <a:stretch/>
        </p:blipFill>
        <p:spPr>
          <a:xfrm>
            <a:off x="6659640" y="3573360"/>
            <a:ext cx="492120" cy="565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>
            <a:off x="7164360" y="3500280"/>
            <a:ext cx="503280" cy="64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4284720" y="5229360"/>
            <a:ext cx="492120" cy="5648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>
            <a:off x="3492360" y="5157720"/>
            <a:ext cx="505080" cy="620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"/>
          <a:stretch/>
        </p:blipFill>
        <p:spPr>
          <a:xfrm>
            <a:off x="2700360" y="5157720"/>
            <a:ext cx="5634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9-01-19T12:36:09Z</dcterms:modified>
  <cp:revision>56</cp:revision>
  <dc:subject/>
  <dc:title>Diapozitiv 1</dc:title>
</cp:coreProperties>
</file>