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5E6-AA06-42F7-9649-7DD2029F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628-A452-41D7-827F-73D1941E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37A-97E6-4CE5-BBEB-6FE2D534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388-4B07-4B84-B3BE-42DCDA8B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B187-45BD-44A4-BE32-0DECAAE7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90CC-F597-4F03-A4E4-E068B29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5F7E-9C13-4AAD-B56D-3831AD7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D90-BBC7-4850-A88B-3A794869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438F-10C1-4FC7-9CDF-3A980B33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2796-7397-4267-AA93-CD4C9AE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ACA-CDB7-4DC9-8EF0-FA775FC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2C8-A5D2-4AB1-A739-2FD10FD7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1CC3-18BE-4F01-92AB-E0F70AB5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2C6C-61CA-4528-B81E-915BE9F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3E2E-FE5A-4C61-9030-ED1FBAE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8198-35C0-4B58-9923-CC102315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460A-6549-4F1C-91D1-79744FDD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7CB-853A-4155-89B7-FB5510FF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630-EF4E-4AD1-91A5-6578C62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39A-E900-4C89-8E03-121F288B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6FB-5B53-48BA-BA96-157B19E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C69-F167-423B-8F99-07AF138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51A-272B-45ED-A259-B1EFE09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8C5-4BA0-44C8-8BA8-A107E0A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F32-9FAB-4AD9-954E-296C64E20AF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64B0-730A-4311-9796-C8E0E7E8BF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71280" y="5157720"/>
            <a:ext cx="6147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KAKO UPORABLJAMO TABELO NORMALNE PORAZDELITVE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samezne vrednosti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a p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vršine pod krivuljo v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tabeli z-vrednost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ščemo tako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 površine p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ad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zbrano vrednostjo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če j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z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pozitive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v tabeli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oiščemo vrednost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odčita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leg nje navedeno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rednost p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 površine p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pod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zbrano vrednostjo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če j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z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egative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v tabeli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oiščemo vrednost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odčita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leg nje navedeno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rednost p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 površine p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pod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zbrano vrednostjo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če j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z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pozitiven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v tabeli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oiščemo vrednost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odčita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leg nje navedeno vrednost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to vrednost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odštejemo od 1,00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 površine p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med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izbranim z in aritmetično sredin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rednost p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ki je navedena pri dani vrednosti z,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odštejemo od 0,5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elež površine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med dvema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iz tabele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določimo površino za prvi in za drug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z ter ju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sešteje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soto odštejemo od 1,00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kupni delež površine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ad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vema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: določimo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ovršino nad prvim in pod drugim z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n jo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sešteje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5520" y="6649920"/>
            <a:ext cx="798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43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00"/>
                </a:solidFill>
                <a:latin typeface="Verdana"/>
              </a:rPr>
              <a:t>Odklon (d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odklon posameznega rezultata X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od aritmetične sredine M, iz katere je vzet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d = X</a:t>
            </a:r>
            <a:r>
              <a:rPr b="0" lang="sl-SI" sz="2400" spc="-1" strike="noStrike" baseline="-25000">
                <a:solidFill>
                  <a:srgbClr val="cc0000"/>
                </a:solidFill>
                <a:latin typeface="Verdana"/>
              </a:rPr>
              <a:t>i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 - M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Verdana"/>
              </a:rPr>
              <a:t>Standardizirani ali normirani odklon (z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dejanska velikost odklona ob upoštevanju razpršenosti vseh rezultat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i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- M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z = --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moč pri primerjanju rezultatov, dobljenih z različnimi merskimi postopki, izraženih v različnih merskih enota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: primerjanje odklanjanja rezultatov na izpitih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 UPORABE NORMIRANEGA ODKLONA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Študent je na izpitu iz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statistike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dosegel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70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očk (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povprečje 60 točk, standardni odklon 10 točk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), na izpitu iz 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socialne varnosti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pa 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80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točk (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povprečje 70 točk, standardni odklon 10 točk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). Ali je na obeh testih dosegel enako dober rezultat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70 - 6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Zst = -------------- =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80 - 7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Zsv = -------------- =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Ugotovimo, da je bil </a:t>
            </a: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obakrat nad povprečjem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in da je v primerjavi z ostalimi na obeh izpitih dosegel enako dober rezultat, čeprav je imel na drugem izpitu 10 točk več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ORAZDELITEV PODATKOV IN NORMIRANIH ODKLONOV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saka vrednost podatka se pojavi samo enkrat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87280" y="2205000"/>
            <a:ext cx="0" cy="172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3933720"/>
            <a:ext cx="3311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3573360"/>
            <a:ext cx="2953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ORAZDELITEV PODATKOV IN NORMIRANIH ODKLONOV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si podatki so enaki (konstanta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67640" y="6021360"/>
            <a:ext cx="798480" cy="2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V="1">
            <a:off x="1187280" y="2205000"/>
            <a:ext cx="0" cy="172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933720"/>
            <a:ext cx="3311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908000" y="2349000"/>
            <a:ext cx="0" cy="1584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RAZDELITEV PODATKOV IN NORMIRANIH ODKLONOV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bičajna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orazdelitev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datkov: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po širokem razponu vrednosti spremenljivk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, ne enakomerno (pri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nižjih vrednostih spremenljivk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ogostost nižja;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ogostost narašča proti srednjim vrednostim;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roti najvišjim vrednostim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spet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ada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bolj ali manj simetrična porazdelitev z enim vrhom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e dobimo lepo zvonasto simetrično krivuljo, govorimo o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normalni porazdelitvi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67640" y="6021360"/>
            <a:ext cx="798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63640" y="3573360"/>
          <a:ext cx="475308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573360"/>
                    <a:ext cx="47530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RAZDELITEV PODATKOV IN NORMIRANIH ODKLONOV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 pretvarjanjem rezultatov (podatkov) v normirane odklone dobimo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porazdelitev normiranih odklonov ali z-distribucij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Aritmetična sredina z-distribucije je 0 standardni odklon pa 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→ Z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48320" y="2273400"/>
          <a:ext cx="403704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73400"/>
                    <a:ext cx="40370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648320" y="4578480"/>
          <a:ext cx="403848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8480"/>
                    <a:ext cx="40384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227640" y="2781360"/>
            <a:ext cx="0" cy="93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3716280"/>
            <a:ext cx="0" cy="1441440"/>
          </a:xfrm>
          <a:prstGeom prst="line">
            <a:avLst/>
          </a:prstGeom>
          <a:ln cap="rnd" w="2844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5157720"/>
            <a:ext cx="0" cy="863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DAJ DOBIMO NORMALNO PORAZDELITEV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e je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značiln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ki jo merimo,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normalno porazdeljen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e imamo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veliko število meritev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e smo vse meritve izvedli po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enakem postopku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e je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populaci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pri kateri merimo dano lastnost, čim bolj 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</a:rPr>
              <a:t>homogen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glede na druge lastnosti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67640" y="6021360"/>
            <a:ext cx="798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ORMALNA PORAZDELITEV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NAČILNOSTI NORMALNE KRIVUL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simetričn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aritmetična sredina, mediana in modus imajo enake vrednosti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najvišja ordinat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krivulje je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nad aritmetično sredino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, ko se pomikamo od aritmetične sredine proti nižjim ali višjim vrednostim, se vrednosti ordinat zmanjšujejo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asimptotično približevanje abscisni osi;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raztezanje v obe smeri v neskončnos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čka, kjer se krivulja, ki od svojega vrha poteka konkavno, ukrivi in postane konveksna, je za en standardni odklon oddaljena od aritmetične sredine v pozitivno oz. negativno smer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d posameznimi odseki so deleži površine pod krivuljo konstantni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67640" y="6021360"/>
            <a:ext cx="7984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4-29T08:42:38Z</dcterms:modified>
  <cp:revision>64</cp:revision>
  <dc:subject/>
  <dc:title>Diapozitiv 1</dc:title>
</cp:coreProperties>
</file>