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A38-C1A3-4C37-A33B-EF297B04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591-73D1-47DF-B03E-A97E4CD9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898-B5E8-4703-A2A5-291B1D1F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7FB-53AE-49D5-9D03-44D9F0A7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B961-FBF7-41EB-B339-17A8BDDA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041A-0BFE-4D45-9359-4FB34A32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0BC1-D9AB-4495-A38A-093FD4CD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EB83-DD40-4892-BADB-30A86849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A1EC-55B4-4C78-A420-7BF80BF7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EBB3-5BFF-4421-9BE9-195A8367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CC10-6D5E-4C5C-B6CB-6D2CB61F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52F-B7E8-45BC-A78E-3DEEFB6B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3CFC-A047-4E09-B3F4-0408FFE7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5523-8FDE-4205-A8EB-49139D55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9963-BE41-41E3-8AA6-D5FE237B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CAA2-C955-4E16-A6FF-13F5CB88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5698-407E-44BE-8996-8636D855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FF1-B03C-4A36-9075-F4A8F65C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DB9-E487-450A-A80D-DDCA594F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1B2-3FD0-439F-B94C-4386209D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93E-4945-4D7F-9CA2-16E255C1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BC0-A70F-4AA4-9DCB-DB371502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3E9-ECDB-4F5C-AA01-57488247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E87-0E73-4374-9EFA-6F13AC80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4A67-D6A9-4DDB-9709-5912FF072E1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9E59-5297-44E9-A42C-93E4FC14483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596880"/>
            <a:ext cx="7821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700360" y="515772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IZRAČUN KVARTILNEGA RAZMIKA IZ FREKVENČNE DISTRIBUCIJE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(Q = Q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– Q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Najprej 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določimo razred, v katerem se predvidoma nahajata prvi oz. tretji kvartil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. To je tam, kjer odstotek kumulativne frekvence prvič preseže 25% oz. 75%. Nato ga izračunamo po obrazcu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pri tem je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0,min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 - natančna spodnja meja razreda, v katerem se predvidoma nahaja ustrezni kvartil (kjer kumulativna frekvenca prvič preseže 25%, se nahaja prvi kvartil; kjer prvič preseže 75%, pa tretji kvartil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-1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– kumulativna frekvenca enega razreda pred kvartilni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o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– frekvenca kvartilnega razred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i – širina razred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n – število eno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403280" y="2708280"/>
                <a:ext cx="2664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59280" y="2668680"/>
                <a:ext cx="30844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imer izračuna kvartilnega razmik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0" lang="sl-SI" sz="2400" spc="-1" strike="noStrike" baseline="-25000">
                <a:solidFill>
                  <a:srgbClr val="006666"/>
                </a:solidFill>
                <a:latin typeface="Verdana"/>
              </a:rPr>
              <a:t>1</a:t>
            </a: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= 2,5 + ((20/4 – 0)/9)*10 = 2,5 + 5,55 = 8,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Q</a:t>
            </a:r>
            <a:r>
              <a:rPr b="0" lang="sl-SI" sz="2400" spc="-1" strike="noStrike" baseline="-25000">
                <a:solidFill>
                  <a:srgbClr val="cc99ff"/>
                </a:solidFill>
                <a:latin typeface="Verdana"/>
              </a:rPr>
              <a:t>3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 = 12,5 + ((3*20/4  - 9)/9)*10 = 12,5 + (6/9)*10 = 19,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Q = Q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– Q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1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= 19,1 – 8,1 = 1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4360" y="2997360"/>
          <a:ext cx="6873840" cy="3195360"/>
        </p:xfrm>
        <a:graphic>
          <a:graphicData uri="http://schemas.openxmlformats.org/drawingml/2006/table">
            <a:tbl>
              <a:tblPr/>
              <a:tblGrid>
                <a:gridCol w="1296720"/>
                <a:gridCol w="1243080"/>
                <a:gridCol w="1270080"/>
                <a:gridCol w="1270080"/>
                <a:gridCol w="896760"/>
                <a:gridCol w="89712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je razredov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4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– 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,5 - 1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dfad2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 – 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2,5 – 2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 – 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2,5 – 3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3 – 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2,5 – 4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POVPREČNI ABSOLUTNI ODKL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ovprečni absolutni odklon je aritmetična sredina odklonov vrednosti posameznih podatkov od aritmetične sredine teh podatkov, vzetih ne glede na predznak (absolutno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Izračun iz nerazvrščenih podatko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i čemer j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3200" spc="-1" strike="noStrike" baseline="-25000">
                <a:solidFill>
                  <a:srgbClr val="006699"/>
                </a:solidFill>
                <a:latin typeface="Verdana"/>
              </a:rPr>
              <a:t>i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– konkreten podate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X – aritmetična sredi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n – število podatk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492360" y="3429000"/>
                <a:ext cx="28814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ZRAČUN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OVPREČNEGA ABSOLUTNEGA ODKLONA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Z NERAZVRŠČENIH PODATKOV (podatki o pogostosti doživljanja zlorab v otroštvu pri študentih; x = 13,85)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D =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22,4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/20 =6,1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627280" y="2708280"/>
          <a:ext cx="4105440" cy="3784680"/>
        </p:xfrm>
        <a:graphic>
          <a:graphicData uri="http://schemas.openxmlformats.org/drawingml/2006/table">
            <a:tbl>
              <a:tblPr/>
              <a:tblGrid>
                <a:gridCol w="1508040"/>
                <a:gridCol w="259740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i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Xi -XI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3-13,85I =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,8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5-13,85I =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8,8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5-13,85I =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8,8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6-13,85I =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7,8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7-13,85I =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,8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22,4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IZRAČUN POVPREČNEGA ABSOLUTNEG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ODKLONA IZ FREKVENČNE DISTRIBUCI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Izračunamo ga po naslednjem obrazcu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 tem j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k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– sredina danega razred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X – aritmetična sredina distribu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k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– frekvenca danega razred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n – število podatk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187280" y="2637000"/>
                <a:ext cx="403236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893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rimer izračuna povprečnega absolutnega odklona (X =14,5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          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26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/20 = 6,3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68360" y="1989000"/>
          <a:ext cx="8136000" cy="3959280"/>
        </p:xfrm>
        <a:graphic>
          <a:graphicData uri="http://schemas.openxmlformats.org/drawingml/2006/table">
            <a:tbl>
              <a:tblPr/>
              <a:tblGrid>
                <a:gridCol w="1309680"/>
                <a:gridCol w="417600"/>
                <a:gridCol w="792000"/>
                <a:gridCol w="647640"/>
                <a:gridCol w="865440"/>
                <a:gridCol w="718920"/>
                <a:gridCol w="1657440"/>
                <a:gridCol w="172728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je razredov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</a:t>
                      </a:r>
                      <a:r>
                        <a:rPr b="0" lang="sl-SI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x</a:t>
                      </a:r>
                      <a:r>
                        <a:rPr b="0" lang="sl-SI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 XI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x</a:t>
                      </a:r>
                      <a:r>
                        <a:rPr b="0" lang="sl-SI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 XIf</a:t>
                      </a:r>
                      <a:r>
                        <a:rPr b="0" lang="sl-SI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– 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,5 - 1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7,5-14,5I =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-7I = </a:t>
                      </a: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*9 =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 – 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2,5 – 2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17,5-14,5I =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3I = </a:t>
                      </a: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*9 =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 – 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2,5 – 3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27,5-14,5I =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13I = </a:t>
                      </a: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*1 =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3 – 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2,5 – 4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37,5-14,5I =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23I = </a:t>
                      </a: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*1 =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8360" y="907920"/>
                <a:ext cx="21607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VARIANCA, STANDARDNI ODKL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Standardni odklon ali standardna deviacija (s, SD, sigma) je izveden iz variance; varianca pa je povprečje kvadriranih odklonov posameznih podatkov od aritmetične sredin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Izračun iz nerazvrščenih podatk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i čemer j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3200" spc="-1" strike="noStrike" baseline="-25000">
                <a:solidFill>
                  <a:srgbClr val="006699"/>
                </a:solidFill>
                <a:latin typeface="Verdana"/>
              </a:rPr>
              <a:t>i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– konkreten podate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X – aritmetična sredi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n – število podatk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5280" y="3213000"/>
                <a:ext cx="26640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3280" y="3213000"/>
                <a:ext cx="34578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ZRAČUN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TANDARDNEGA ODKLONA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Z NERAZVRŠČENIH PODATKOV (podatki o pogostosti doživljanja zlorab v otroštvu pri študentih; x = 13,85)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D = </a:t>
            </a:r>
            <a:r>
              <a:rPr b="1" lang="en-US" sz="2000" spc="-1" strike="noStrike">
                <a:solidFill>
                  <a:srgbClr val="006699"/>
                </a:solidFill>
                <a:latin typeface="MS Mincho"/>
                <a:ea typeface="MS Mincho"/>
              </a:rPr>
              <a:t>√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352,5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/20) = </a:t>
            </a:r>
            <a:r>
              <a:rPr b="1" lang="en-US" sz="2000" spc="-1" strike="noStrike">
                <a:solidFill>
                  <a:srgbClr val="006699"/>
                </a:solidFill>
                <a:latin typeface="MS Mincho"/>
                <a:ea typeface="MS Mincho"/>
              </a:rPr>
              <a:t>√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67,625) = 8,2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627280" y="2708280"/>
          <a:ext cx="4105440" cy="3784680"/>
        </p:xfrm>
        <a:graphic>
          <a:graphicData uri="http://schemas.openxmlformats.org/drawingml/2006/table">
            <a:tbl>
              <a:tblPr/>
              <a:tblGrid>
                <a:gridCol w="1508040"/>
                <a:gridCol w="259740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i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Xi –X)</a:t>
                      </a:r>
                      <a:r>
                        <a:rPr b="0" lang="sl-SI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3-13,85)</a:t>
                      </a:r>
                      <a:r>
                        <a:rPr b="0" lang="en-US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17,7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5-13,85)</a:t>
                      </a:r>
                      <a:r>
                        <a:rPr b="0" lang="en-US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78,3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5-13,85)</a:t>
                      </a:r>
                      <a:r>
                        <a:rPr b="0" lang="en-US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78.3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6-13,85)</a:t>
                      </a:r>
                      <a:r>
                        <a:rPr b="0" lang="en-US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1,6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7-13,85)</a:t>
                      </a:r>
                      <a:r>
                        <a:rPr b="0" lang="en-US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6,9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352,5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IZRAČUN STANDARDNEGA ODKLONA IZ FREKVENČNE DISTRIBUCI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Izračunamo ga po naslednjem obrazcu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 tem j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k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– sredina danega razred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X – aritmetična sredina distribu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k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– frekvenca danega razred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n – število podatk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050920" y="2276640"/>
                <a:ext cx="496908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893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rimer izračuna standardnega odklona (X =14,5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D = </a:t>
            </a:r>
            <a:r>
              <a:rPr b="1" lang="en-US" sz="2000" spc="-1" strike="noStrike">
                <a:solidFill>
                  <a:srgbClr val="006699"/>
                </a:solidFill>
                <a:latin typeface="MS Mincho"/>
                <a:ea typeface="MS Mincho"/>
              </a:rPr>
              <a:t>√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1220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/20) = </a:t>
            </a:r>
            <a:r>
              <a:rPr b="1" lang="en-US" sz="2000" spc="-1" strike="noStrike">
                <a:solidFill>
                  <a:srgbClr val="006699"/>
                </a:solidFill>
                <a:latin typeface="MS Mincho"/>
                <a:ea typeface="MS Mincho"/>
              </a:rPr>
              <a:t>√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61) = 7,8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8360" y="1989000"/>
          <a:ext cx="8136000" cy="3959280"/>
        </p:xfrm>
        <a:graphic>
          <a:graphicData uri="http://schemas.openxmlformats.org/drawingml/2006/table">
            <a:tbl>
              <a:tblPr/>
              <a:tblGrid>
                <a:gridCol w="1309680"/>
                <a:gridCol w="417600"/>
                <a:gridCol w="792000"/>
                <a:gridCol w="647640"/>
                <a:gridCol w="865440"/>
                <a:gridCol w="718920"/>
                <a:gridCol w="1657440"/>
                <a:gridCol w="172728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je razredov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</a:t>
                      </a:r>
                      <a:r>
                        <a:rPr b="0" lang="sl-SI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x</a:t>
                      </a:r>
                      <a:r>
                        <a:rPr b="0" lang="sl-SI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 X)</a:t>
                      </a:r>
                      <a:r>
                        <a:rPr b="0" lang="sl-SI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x</a:t>
                      </a:r>
                      <a:r>
                        <a:rPr b="0" lang="sl-SI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 X)</a:t>
                      </a:r>
                      <a:r>
                        <a:rPr b="0" lang="sl-SI" sz="14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r>
                        <a:rPr b="0" lang="sl-SI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– 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,5 - 1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7,5-14,5)</a:t>
                      </a:r>
                      <a:r>
                        <a:rPr b="0" lang="en-US" sz="14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= </a:t>
                      </a: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9*9 =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 – 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2,5 – 2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7,5-14,5)</a:t>
                      </a:r>
                      <a:r>
                        <a:rPr b="0" lang="en-US" sz="14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= </a:t>
                      </a: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*9 =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 – 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2,5 – 3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27,5-14,5)</a:t>
                      </a:r>
                      <a:r>
                        <a:rPr b="0" lang="en-US" sz="14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= </a:t>
                      </a: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1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9*1 =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3 – 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2,5 – 4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37,5-14,5)</a:t>
                      </a:r>
                      <a:r>
                        <a:rPr b="0" lang="en-US" sz="14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= </a:t>
                      </a: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5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29*1 =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5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2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50920" y="907920"/>
                <a:ext cx="3311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436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497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OJ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99ff"/>
                </a:solidFill>
                <a:latin typeface="Verdana"/>
              </a:rPr>
              <a:t>kako močno se podatki razlikujejo med seboj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oz. koliko odstopajo od določenih srednjih vrednosti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RSTE MER RAZPRŠE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dvisne od podatk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koef.variabilnosti (v), kvartilni razmik (Q), razpon (R), povprečni absolutni odklon (AD), standardni odklon (SD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71640" y="3357720"/>
          <a:ext cx="6913080" cy="3340080"/>
        </p:xfrm>
        <a:graphic>
          <a:graphicData uri="http://schemas.openxmlformats.org/drawingml/2006/table">
            <a:tbl>
              <a:tblPr/>
              <a:tblGrid>
                <a:gridCol w="2301840"/>
                <a:gridCol w="867600"/>
                <a:gridCol w="867240"/>
                <a:gridCol w="867600"/>
                <a:gridCol w="1313640"/>
                <a:gridCol w="695160"/>
              </a:tblGrid>
              <a:tr h="487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odatki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re razpršenosti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Q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D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D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ominalni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ordinalni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ntervalni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KOEFICIENT VARIABILNOSTI (v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sl-SI" sz="32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sl-SI" sz="3200" spc="-1" strike="noStrike" baseline="-25000">
                <a:solidFill>
                  <a:srgbClr val="ff3300"/>
                </a:solidFill>
                <a:latin typeface="Verdana"/>
              </a:rPr>
              <a:t>M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3300"/>
                </a:solidFill>
                <a:latin typeface="Verdana"/>
              </a:rPr>
              <a:t>v = 1 -  ----------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ff3300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i čemer j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3200" spc="-1" strike="noStrike" baseline="-25000">
                <a:solidFill>
                  <a:srgbClr val="006699"/>
                </a:solidFill>
                <a:latin typeface="Verdana"/>
              </a:rPr>
              <a:t>Mo 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– pogostost vrednosti modus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n – število podatk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Se redko uporablja, ker je nezanesljiv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ZRAČUN KOEFICIENTA VARIABILNOSTI (v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urejeni podatki: 17, 5, 19,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13,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3, 5, 17,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13,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16, 23,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13,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7, 40, 10, 22, 9, 18, 6, 12, 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4005360"/>
            <a:ext cx="7561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M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v = 1 -  ----------- = 1 – (3/20) = 0,8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RAZPON (R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Razpon je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interval, znotraj katerega so vsi podatki. Dobimo ga tako, da </a:t>
            </a: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najmanjšo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vrednost podatka odštejemo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od največje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R = x</a:t>
            </a:r>
            <a:r>
              <a:rPr b="0" lang="sl-SI" sz="2800" spc="-1" strike="noStrike" baseline="-25000">
                <a:solidFill>
                  <a:srgbClr val="ff3300"/>
                </a:solidFill>
                <a:latin typeface="Verdana"/>
              </a:rPr>
              <a:t>max</a:t>
            </a: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 - x</a:t>
            </a:r>
            <a:r>
              <a:rPr b="0" lang="sl-SI" sz="2800" spc="-1" strike="noStrike" baseline="-25000">
                <a:solidFill>
                  <a:srgbClr val="ff3300"/>
                </a:solidFill>
                <a:latin typeface="Verdana"/>
              </a:rPr>
              <a:t>m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najpreprostejš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mera razpršenosti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slaba lastnost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- </a:t>
            </a: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odvisna samo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od dveh</a:t>
            </a: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 skrajnih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rednosti (največje in najmanjše), ki sta </a:t>
            </a: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najmanj zanesljivi,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redko uporabljamo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IZRAČUN RAZPONA (R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- Neurejeni podatki: 17, 5, 19, 13, </a:t>
            </a:r>
            <a:r>
              <a:rPr b="0" lang="sl-SI" sz="3200" spc="-1" strike="noStrike">
                <a:solidFill>
                  <a:srgbClr val="0066ff"/>
                </a:solidFill>
                <a:latin typeface="Verdana"/>
              </a:rPr>
              <a:t>3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, 5, 17, 13, 16, 23, 13, 7, </a:t>
            </a:r>
            <a:r>
              <a:rPr b="0" lang="sl-SI" sz="3200" spc="-1" strike="noStrike">
                <a:solidFill>
                  <a:srgbClr val="33cc33"/>
                </a:solidFill>
                <a:latin typeface="Verdana"/>
              </a:rPr>
              <a:t>40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, 10, 22, 9, 18, 6, 12, 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R = </a:t>
            </a:r>
            <a:r>
              <a:rPr b="0" lang="sl-SI" sz="3200" spc="-1" strike="noStrike">
                <a:solidFill>
                  <a:srgbClr val="33cc33"/>
                </a:solidFill>
                <a:latin typeface="Verdana"/>
              </a:rPr>
              <a:t>x</a:t>
            </a:r>
            <a:r>
              <a:rPr b="0" lang="sl-SI" sz="3200" spc="-1" strike="noStrike" baseline="-25000">
                <a:solidFill>
                  <a:srgbClr val="33cc33"/>
                </a:solidFill>
                <a:latin typeface="Verdana"/>
              </a:rPr>
              <a:t>max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sl-SI" sz="3200" spc="-1" strike="noStrike">
                <a:solidFill>
                  <a:srgbClr val="0066ff"/>
                </a:solidFill>
                <a:latin typeface="Verdana"/>
              </a:rPr>
              <a:t>x</a:t>
            </a:r>
            <a:r>
              <a:rPr b="0" lang="sl-SI" sz="3200" spc="-1" strike="noStrike" baseline="-25000">
                <a:solidFill>
                  <a:srgbClr val="0066ff"/>
                </a:solidFill>
                <a:latin typeface="Verdana"/>
              </a:rPr>
              <a:t>min</a:t>
            </a:r>
            <a:r>
              <a:rPr b="0" lang="sl-SI" sz="3200" spc="-1" strike="noStrike" baseline="-25000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= 40-3 = 3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KVARTILNI RAZMIK </a:t>
            </a: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(Q = Q</a:t>
            </a:r>
            <a:r>
              <a:rPr b="0" lang="sl-SI" sz="2800" spc="-1" strike="noStrike" baseline="-25000">
                <a:solidFill>
                  <a:srgbClr val="ff3300"/>
                </a:solidFill>
                <a:latin typeface="Verdana"/>
              </a:rPr>
              <a:t>3</a:t>
            </a: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 – Q</a:t>
            </a:r>
            <a:r>
              <a:rPr b="0" lang="sl-SI" sz="2800" spc="-1" strike="noStrike" baseline="-25000">
                <a:solidFill>
                  <a:srgbClr val="ff3300"/>
                </a:solidFill>
                <a:latin typeface="Verdana"/>
              </a:rPr>
              <a:t>1</a:t>
            </a: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OLOVIČNI KVARTILNI RAZMIK </a:t>
            </a: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(Q/2 = (Q</a:t>
            </a:r>
            <a:r>
              <a:rPr b="0" lang="sl-SI" sz="2800" spc="-1" strike="noStrike" baseline="-25000">
                <a:solidFill>
                  <a:srgbClr val="ff3300"/>
                </a:solidFill>
                <a:latin typeface="Verdana"/>
              </a:rPr>
              <a:t>3</a:t>
            </a: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 – Q</a:t>
            </a:r>
            <a:r>
              <a:rPr b="0" lang="sl-SI" sz="2800" spc="-1" strike="noStrike" baseline="-25000">
                <a:solidFill>
                  <a:srgbClr val="ff3300"/>
                </a:solidFill>
                <a:latin typeface="Verdana"/>
              </a:rPr>
              <a:t>1</a:t>
            </a: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)/2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Kvartilni razmik je interval, </a:t>
            </a: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znotraj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katerega je </a:t>
            </a: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polovica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podatkov, polovica pa </a:t>
            </a: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zunaj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njega: ena četrtina je </a:t>
            </a: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pod njim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, ena četrtina pa </a:t>
            </a: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nad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nji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9640" y="4653000"/>
          <a:ext cx="8209080" cy="122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653000"/>
                    <a:ext cx="82090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KVARTILNI RAZMIK IN POLOVIČNI KVARTILNI RAZMI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Kvartili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so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 vrednosti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, ki podatke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razdelijo na četrtine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prvi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kvartil,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Q1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, je vrednost, od katere je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četrtina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podatkov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manjših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in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tri četrtine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podatkov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večjih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drugi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kvartil,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Q2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, je vrednost, od katere sta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dve četrtini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(polovica) podatkov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manjših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in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dve četrtini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(polovica) podatkov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večjih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(Pozor: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Q2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je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Md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)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tretji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kvartil,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Q3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, je vrednost, od katere je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tri četrtine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podatkov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manjših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in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četrtina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podatkov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večji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5280" y="1341360"/>
          <a:ext cx="8209080" cy="122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20908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RAZPRŠE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DOLOČANJE KVARTILNEGA RAZMIKA IN POLOVIČNEG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KVARTILNEGA RAZMIKA IZ NERAZVRŠČENIH PODATK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 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neurejene podatke uredimo v ranžirno vrst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določimo kvartile (najprej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mesto kvartila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in nato odčitamo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vrednost kvartila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IMER: Podatki o pogostosti doživljanja zlorab v otroštvu pri študentih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Neurejeni podatki: 17, 5, 19, 13, 3, 5, 17, 13, 16, 23, 13, 7, 40, 10, 22, 9, 18, 6, 12, 9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odatki urejeni v rastočo vrsto: 3, 5, 5, 6, 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7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, 9, 9, 10, 12, 13, 13, 13, 16, 17, 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17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, 18, 19, 22, 23, 4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Tretji kvartil:mesto: 3n/4=60/4=15.mesto 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(vrednost 17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vi kvartil:mesto: n/4=20/4=5.mesto 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(vrednost 7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Q= Q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3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– Q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1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= 17-7 = 10; Q/2 = 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04-29T08:41:14Z</dcterms:modified>
  <cp:revision>66</cp:revision>
  <dc:subject/>
  <dc:title>Diapozitiv 1</dc:title>
</cp:coreProperties>
</file>