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9A8-EEA5-4A05-8F06-255176F8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AB7-A455-43D7-B813-FF2CA2DA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D7B-E7A7-4C33-8974-193A42FB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E57-889D-4B99-A859-BE62B499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5B09-0936-49FF-84C2-9B65750B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475C-B0F7-4939-BAC6-A72214FA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FA49-C0F4-4014-B491-126D6CB9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CCE9-450F-45DE-8FA4-30439EA4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97EB-FBE5-4F20-B2E2-475FF6F9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3A2F-64FE-4FC8-9B21-44D1912D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4498-C442-4113-9ADC-99A4E3C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188-042E-4C9D-A642-6EFAEAB3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CF04-5354-43F9-857D-D9D85613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4FCB-4F90-4EA4-A7D6-4A0D5B54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A82F-9726-46AA-9E17-C14804C3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7214-9BCB-48F5-B1B1-A2219323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B2E3-203F-47D7-8CBA-17ED6242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5FE-9E76-43F6-9AA7-257FCF59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751-265D-4DEA-B9AC-6D75DC50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33C-071B-47E1-B146-C5C32441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AC1-09EB-4972-BB0E-D3C9E9B5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0B0-4BD2-4946-B802-11C720B9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55C-2093-4661-BEE6-E506B994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59B-4011-435A-A28B-6874FD90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51CA-5F51-4D97-8FD7-2913D66CAE9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DF63-BC82-41CE-B812-5B32F0F7B1F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596880"/>
            <a:ext cx="7821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4000" y="5660640"/>
            <a:ext cx="648036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mer izračuna </a:t>
            </a:r>
            <a:r>
              <a:rPr b="0" lang="sl-SI" sz="2800" spc="-1" strike="noStrike">
                <a:solidFill>
                  <a:srgbClr val="33cc33"/>
                </a:solidFill>
                <a:latin typeface="Verdana"/>
              </a:rPr>
              <a:t>MEDIANE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cc33"/>
                </a:solidFill>
                <a:latin typeface="Verdana"/>
              </a:rPr>
              <a:t>Md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= 12,5 + ((20/2  - 9)/9)*10 = 12,5 + (1/9)*10 = 13,6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4360" y="2997360"/>
          <a:ext cx="6873840" cy="3195360"/>
        </p:xfrm>
        <a:graphic>
          <a:graphicData uri="http://schemas.openxmlformats.org/drawingml/2006/table">
            <a:tbl>
              <a:tblPr/>
              <a:tblGrid>
                <a:gridCol w="1296720"/>
                <a:gridCol w="1243080"/>
                <a:gridCol w="1270080"/>
                <a:gridCol w="1270080"/>
                <a:gridCol w="896760"/>
                <a:gridCol w="89712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eje razredov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4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– 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,5 - 1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 – 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2,5 – 2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 – 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2,5 – 3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3 – 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2,5 – 4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IZRAČUN </a:t>
            </a:r>
            <a:r>
              <a:rPr b="1" lang="sl-SI" sz="2400" spc="-1" strike="noStrike">
                <a:solidFill>
                  <a:srgbClr val="cc0000"/>
                </a:solidFill>
                <a:latin typeface="Verdana"/>
              </a:rPr>
              <a:t>ARITMETIČNE SREDINE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IZ NERAZVRŠČENIH PODATK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Aritmetična sredina je </a:t>
            </a:r>
            <a:r>
              <a:rPr b="0" lang="sl-SI" sz="2400" spc="-1" strike="noStrike">
                <a:solidFill>
                  <a:srgbClr val="cc0000"/>
                </a:solidFill>
                <a:latin typeface="Verdana"/>
              </a:rPr>
              <a:t>kvocient med vsoto vrednosti vseh enot in skupnim številom enot v populaciji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cc0000"/>
                </a:solidFill>
                <a:latin typeface="Verdana"/>
              </a:rPr>
              <a:t>M = </a:t>
            </a:r>
            <a:r>
              <a:rPr b="0" lang="sl-SI" sz="2400" spc="-1" strike="noStrike">
                <a:solidFill>
                  <a:srgbClr val="cc0000"/>
                </a:solidFill>
                <a:latin typeface="Symbol"/>
                <a:ea typeface="Symbol"/>
              </a:rPr>
              <a:t></a:t>
            </a:r>
            <a:r>
              <a:rPr b="0" lang="sl-SI" sz="2400" spc="-1" strike="noStrike">
                <a:solidFill>
                  <a:srgbClr val="cc0000"/>
                </a:solidFill>
                <a:latin typeface="Verdana"/>
              </a:rPr>
              <a:t>x</a:t>
            </a:r>
            <a:r>
              <a:rPr b="0" lang="sl-SI" sz="2400" spc="-1" strike="noStrike" baseline="-25000">
                <a:solidFill>
                  <a:srgbClr val="cc0000"/>
                </a:solidFill>
                <a:latin typeface="Verdana"/>
              </a:rPr>
              <a:t>i </a:t>
            </a:r>
            <a:r>
              <a:rPr b="0" lang="sl-SI" sz="2400" spc="-1" strike="noStrike">
                <a:solidFill>
                  <a:srgbClr val="cc0000"/>
                </a:solidFill>
                <a:latin typeface="Verdana"/>
              </a:rPr>
              <a:t>/ N,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ri tem je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sl-SI" sz="1800" spc="-1" strike="noStrike" baseline="-25000">
                <a:solidFill>
                  <a:srgbClr val="006699"/>
                </a:solidFill>
                <a:latin typeface="Verdana"/>
              </a:rPr>
              <a:t>i 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- vrednost posameznega podatk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N - število eno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odatki o pogostosti doživljanja zlorab v otroštvu pri študentih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Neurejeni podatki: 17, 5, 19, 13, 3, 5, 17, 13, 16, 23, 13, 7, 40, 10, 22, 9, 18, 6, 12, 9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M = 277/20 =13,85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IZRAČUN </a:t>
            </a:r>
            <a:r>
              <a:rPr b="0" lang="sl-SI" sz="2400" spc="-1" strike="noStrike">
                <a:solidFill>
                  <a:srgbClr val="cc0000"/>
                </a:solidFill>
                <a:latin typeface="Verdana"/>
              </a:rPr>
              <a:t>ARITMETIČNE SREDINE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IZ FREKVENČNE DISTRIBU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Tu ne vemo več, kakšne so resnične vrednosti znotraj posameznih razredov in zato predvidevamo, da so vrednosti v razredu porazdeljene enakomerno in enake sredini razreda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cc0000"/>
                </a:solidFill>
                <a:latin typeface="Verdana"/>
              </a:rPr>
              <a:t>M = </a:t>
            </a:r>
            <a:r>
              <a:rPr b="0" lang="sl-SI" sz="2800" spc="-1" strike="noStrike">
                <a:solidFill>
                  <a:srgbClr val="cc0000"/>
                </a:solidFill>
                <a:latin typeface="Symbol"/>
                <a:ea typeface="Symbol"/>
              </a:rPr>
              <a:t></a:t>
            </a:r>
            <a:r>
              <a:rPr b="0" lang="sl-SI" sz="2800" spc="-1" strike="noStrike">
                <a:solidFill>
                  <a:srgbClr val="cc0000"/>
                </a:solidFill>
                <a:latin typeface="Verdana"/>
              </a:rPr>
              <a:t> (f</a:t>
            </a:r>
            <a:r>
              <a:rPr b="0" lang="sl-SI" sz="2800" spc="-1" strike="noStrike" baseline="-25000">
                <a:solidFill>
                  <a:srgbClr val="cc0000"/>
                </a:solidFill>
                <a:latin typeface="Verdana"/>
              </a:rPr>
              <a:t>k</a:t>
            </a:r>
            <a:r>
              <a:rPr b="0" lang="sl-SI" sz="2800" spc="-1" strike="noStrike">
                <a:solidFill>
                  <a:srgbClr val="cc0000"/>
                </a:solidFill>
                <a:latin typeface="Verdana"/>
              </a:rPr>
              <a:t> x</a:t>
            </a:r>
            <a:r>
              <a:rPr b="0" lang="sl-SI" sz="2800" spc="-1" strike="noStrike" baseline="-25000">
                <a:solidFill>
                  <a:srgbClr val="cc0000"/>
                </a:solidFill>
                <a:latin typeface="Verdana"/>
              </a:rPr>
              <a:t>k</a:t>
            </a:r>
            <a:r>
              <a:rPr b="0" lang="sl-SI" sz="2800" spc="-1" strike="noStrike">
                <a:solidFill>
                  <a:srgbClr val="cc0000"/>
                </a:solidFill>
                <a:latin typeface="Verdana"/>
              </a:rPr>
              <a:t>) / 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ri tem j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f</a:t>
            </a:r>
            <a:r>
              <a:rPr b="0" lang="sl-SI" sz="2000" spc="-1" strike="noStrike" baseline="-25000">
                <a:solidFill>
                  <a:srgbClr val="006699"/>
                </a:solidFill>
                <a:latin typeface="Verdana"/>
              </a:rPr>
              <a:t>k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– frekvenca danega razred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sl-SI" sz="2000" spc="-1" strike="noStrike" baseline="-25000">
                <a:solidFill>
                  <a:srgbClr val="006699"/>
                </a:solidFill>
                <a:latin typeface="Verdana"/>
              </a:rPr>
              <a:t>k 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– sredina danega razred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N - število eno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549360"/>
            <a:ext cx="87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imer izračuna 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ARITMETIČNE SREDIN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6699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f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x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) / N =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90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/20 = 14,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5280" y="2060640"/>
          <a:ext cx="7489800" cy="4062240"/>
        </p:xfrm>
        <a:graphic>
          <a:graphicData uri="http://schemas.openxmlformats.org/drawingml/2006/table">
            <a:tbl>
              <a:tblPr/>
              <a:tblGrid>
                <a:gridCol w="1800360"/>
                <a:gridCol w="720720"/>
                <a:gridCol w="1150920"/>
                <a:gridCol w="720720"/>
                <a:gridCol w="936360"/>
                <a:gridCol w="935280"/>
                <a:gridCol w="1225440"/>
              </a:tblGrid>
              <a:tr h="76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eje razredov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r>
                        <a:rPr b="0" lang="sl-SI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r>
                        <a:rPr b="0" lang="sl-SI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 </a:t>
                      </a: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X</a:t>
                      </a:r>
                      <a:r>
                        <a:rPr b="0" lang="sl-SI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– 1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,5 - 12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*7,5=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 – 2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2,5 – 22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*17,5=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5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 – 3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2,5 – 32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*27,5=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3 – 4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2,5 – 42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*37,5=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9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PORABA MER SREDNJIH VREDN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MODU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hitra ocena srednje vrednost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zvemo, katera vrednost se najpogosteje pojavl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MEDIAN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sorazmerno zanesljiva in natančna mer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hiter izraču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izvemo, katera vrednost razdeli populacijo na dve polovic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v distribuciji nepopolna/odprta skrajna razreda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v distribuciji vrednosti, ki odstopajo od ostalih (asimetrična d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primerjava položaja posameznih podatko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ARITMETIČNA SREDIN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natančna in občutljiva mera srednje vrednost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najbolj zanesljiva mer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izračun ostalih statističnih me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težišče distribuci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FUNKCIJ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MER SREDNJIH VREDNOST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vse vrednosti distribucije predstavimo z eno značilno vrednostj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VRSTE MER SREDNJIH VREDNOST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dvisne od podatko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modus (Mo),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mediana (Md),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aritmetična sredina (M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71640" y="3213000"/>
          <a:ext cx="7715160" cy="3340080"/>
        </p:xfrm>
        <a:graphic>
          <a:graphicData uri="http://schemas.openxmlformats.org/drawingml/2006/table">
            <a:tbl>
              <a:tblPr/>
              <a:tblGrid>
                <a:gridCol w="1928880"/>
                <a:gridCol w="1928520"/>
                <a:gridCol w="1928880"/>
                <a:gridCol w="1928880"/>
              </a:tblGrid>
              <a:tr h="48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odatki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era srednje vrednosti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Mo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Md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M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ominalni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ordinalni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ntervalni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IM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datki o pogostosti doživljanja zlorab v otroštvu pri študentih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urejeni podatki: 17, 5, 19, 13, 3, 5, 17, 13, 16, 23, 13, 7, 40, 10, 22, 9, 18, 6, 12, 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datki urejeni v rastočo vrsto: 3, 5, 5, 6, 7, 9, 9, 10, 12, 13, 13, 13, 16, 17, 17, 18, 19, 22, 23, 4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datki, urejeni v frekvenčno distribucij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1700280"/>
          <a:ext cx="8351280" cy="4608000"/>
        </p:xfrm>
        <a:graphic>
          <a:graphicData uri="http://schemas.openxmlformats.org/drawingml/2006/table">
            <a:tbl>
              <a:tblPr/>
              <a:tblGrid>
                <a:gridCol w="2274480"/>
                <a:gridCol w="1354320"/>
                <a:gridCol w="1383840"/>
                <a:gridCol w="1384200"/>
                <a:gridCol w="977400"/>
                <a:gridCol w="977040"/>
              </a:tblGrid>
              <a:tr h="12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eje razredov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Natančne meje razredov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– 1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,5 - 12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 – 2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2,5 – 22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 – 3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2,5 – 32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3 – 4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2,5 – 42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ZRAČUN 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MODUS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IZ NERAZVRŠČENIH PODATK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Modalna vrednost ali modus je tista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vrednost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, ki se v množici podatkov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najpogosteje pojavlja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datki o pogostosti doživljanja zlorab v otroštvu pri študentih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7, 5, 19,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3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 3, 5, 17,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3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 16, 23,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3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 7, 40, 10, 22, 9, 18, 6, 12, 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IZRAČUN </a:t>
            </a:r>
            <a:r>
              <a:rPr b="0" lang="sl-SI" sz="2000" spc="-1" strike="noStrike">
                <a:solidFill>
                  <a:srgbClr val="0000ff"/>
                </a:solidFill>
                <a:latin typeface="Verdana"/>
              </a:rPr>
              <a:t>MODUSA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IZ FREKVENČNE DISTRIBUCI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Najprej </a:t>
            </a: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določimo razred, kjer je največ enot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(modalni razred) in lahko kot ocenjeni modus predstavimo kar sredino tega razreda. Če je enaka frekvenca v dveh ali več razredih, je modus vrednost, ki je natanko na sredi med ustreznimi sredinami razredov. Lahko ga izračunamo po obrazcu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f</a:t>
            </a:r>
            <a:r>
              <a:rPr b="0" lang="sl-SI" sz="2400" spc="-1" strike="noStrike" baseline="-25000">
                <a:solidFill>
                  <a:srgbClr val="0000ff"/>
                </a:solidFill>
                <a:latin typeface="Verdana"/>
              </a:rPr>
              <a:t>0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 – f</a:t>
            </a:r>
            <a:r>
              <a:rPr b="0" lang="sl-SI" sz="2400" spc="-1" strike="noStrike" baseline="-25000">
                <a:solidFill>
                  <a:srgbClr val="0000ff"/>
                </a:solidFill>
                <a:latin typeface="Verdana"/>
              </a:rPr>
              <a:t>-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M</a:t>
            </a:r>
            <a:r>
              <a:rPr b="0" lang="sl-SI" sz="2400" spc="-1" strike="noStrike" baseline="-25000">
                <a:solidFill>
                  <a:srgbClr val="0000ff"/>
                </a:solidFill>
                <a:latin typeface="Verdana"/>
              </a:rPr>
              <a:t>o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 = x</a:t>
            </a:r>
            <a:r>
              <a:rPr b="0" lang="sl-SI" sz="2400" spc="-1" strike="noStrike" baseline="-25000">
                <a:solidFill>
                  <a:srgbClr val="0000ff"/>
                </a:solidFill>
                <a:latin typeface="Verdana"/>
              </a:rPr>
              <a:t>o,min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 + -------------------------- 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(f</a:t>
            </a:r>
            <a:r>
              <a:rPr b="0" lang="sl-SI" sz="2400" spc="-1" strike="noStrike" baseline="-25000">
                <a:solidFill>
                  <a:srgbClr val="0000ff"/>
                </a:solidFill>
                <a:latin typeface="Verdana"/>
              </a:rPr>
              <a:t>0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 – f</a:t>
            </a:r>
            <a:r>
              <a:rPr b="0" lang="sl-SI" sz="2400" spc="-1" strike="noStrike" baseline="-25000">
                <a:solidFill>
                  <a:srgbClr val="0000ff"/>
                </a:solidFill>
                <a:latin typeface="Verdana"/>
              </a:rPr>
              <a:t>-1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) + (f</a:t>
            </a:r>
            <a:r>
              <a:rPr b="0" lang="sl-SI" sz="2400" spc="-1" strike="noStrike" baseline="-25000">
                <a:solidFill>
                  <a:srgbClr val="0000ff"/>
                </a:solidFill>
                <a:latin typeface="Verdana"/>
              </a:rPr>
              <a:t>0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 – f</a:t>
            </a:r>
            <a:r>
              <a:rPr b="0" lang="sl-SI" sz="2400" spc="-1" strike="noStrike" baseline="-25000">
                <a:solidFill>
                  <a:srgbClr val="0000ff"/>
                </a:solidFill>
                <a:latin typeface="Verdana"/>
              </a:rPr>
              <a:t>+1</a:t>
            </a:r>
            <a:r>
              <a:rPr b="0" lang="sl-SI" sz="24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ri tem je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sl-SI" sz="1800" spc="-1" strike="noStrike" baseline="-25000">
                <a:solidFill>
                  <a:srgbClr val="006699"/>
                </a:solidFill>
                <a:latin typeface="Verdana"/>
              </a:rPr>
              <a:t>o,min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– natančna spodnja meja modalnega razreda (to je razred z najvišjo frekvenco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f</a:t>
            </a:r>
            <a:r>
              <a:rPr b="0" lang="sl-SI" sz="1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– frekvenca modalnega razred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f</a:t>
            </a:r>
            <a:r>
              <a:rPr b="0" lang="sl-SI" sz="1800" spc="-1" strike="noStrike" baseline="-25000">
                <a:solidFill>
                  <a:srgbClr val="006699"/>
                </a:solidFill>
                <a:latin typeface="Verdana"/>
              </a:rPr>
              <a:t>-1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– frekvenca enega razreda pred modalnim razredo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f</a:t>
            </a:r>
            <a:r>
              <a:rPr b="0" lang="sl-SI" sz="1800" spc="-1" strike="noStrike" baseline="-25000">
                <a:solidFill>
                  <a:srgbClr val="006699"/>
                </a:solidFill>
                <a:latin typeface="Verdana"/>
              </a:rPr>
              <a:t>+1 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– frekvenca enega razreda za modalnim razredo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i – razredni interva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rimer izračuna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MODUSA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(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izjema, ker sta dva razreda modalna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= 2,5 + ((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18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– 0)/((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18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0)+(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18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1))*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20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= 2,5 + (18/35)*20 =12,79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4360" y="2276640"/>
          <a:ext cx="6873840" cy="3195360"/>
        </p:xfrm>
        <a:graphic>
          <a:graphicData uri="http://schemas.openxmlformats.org/drawingml/2006/table">
            <a:tbl>
              <a:tblPr/>
              <a:tblGrid>
                <a:gridCol w="1297080"/>
                <a:gridCol w="1243080"/>
                <a:gridCol w="1269720"/>
                <a:gridCol w="1270080"/>
                <a:gridCol w="897120"/>
                <a:gridCol w="89676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eje razredov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4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– 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,5 - 1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 – 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2,5 – 2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2dffd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 – 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2,5 – 3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3 – 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2,5 – 42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7,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IZRAČUN </a:t>
            </a:r>
            <a:r>
              <a:rPr b="1" lang="sl-SI" sz="2000" spc="-1" strike="noStrike">
                <a:solidFill>
                  <a:srgbClr val="33cc33"/>
                </a:solidFill>
                <a:latin typeface="Verdana"/>
              </a:rPr>
              <a:t>MEDIANE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IZ NERAZVRŠČENIH PODATKO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Mediana ali središčnica distribucije je tista izračunana </a:t>
            </a: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vrednost</a:t>
            </a: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, od katere ima </a:t>
            </a: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polovica podatkov nižjo vrednost, polovica pa višjo</a:t>
            </a: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odatke razporedimo v ranžirno vrsto; če imamo </a:t>
            </a:r>
            <a:r>
              <a:rPr b="0" i="1" lang="sl-SI" sz="2000" spc="-1" strike="noStrike">
                <a:solidFill>
                  <a:srgbClr val="006699"/>
                </a:solidFill>
                <a:latin typeface="Verdana"/>
              </a:rPr>
              <a:t>liho število enot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(N = 2n +1), je mediana kar n+1 enota (sredinska z vrednostjo x</a:t>
            </a:r>
            <a:r>
              <a:rPr b="0" lang="sl-SI" sz="2000" spc="-1" strike="noStrike" baseline="-25000">
                <a:solidFill>
                  <a:srgbClr val="006699"/>
                </a:solidFill>
                <a:latin typeface="Verdana"/>
              </a:rPr>
              <a:t>n+1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); če je </a:t>
            </a:r>
            <a:r>
              <a:rPr b="0" i="1" lang="sl-SI" sz="2000" spc="-1" strike="noStrike">
                <a:solidFill>
                  <a:srgbClr val="006699"/>
                </a:solidFill>
                <a:latin typeface="Verdana"/>
              </a:rPr>
              <a:t>sodo število enot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(N = 2n) je mediana na polovici med sredinskima enotama (z vrednostjo (x</a:t>
            </a:r>
            <a:r>
              <a:rPr b="0" lang="sl-SI" sz="2000" spc="-1" strike="noStrike" baseline="-25000">
                <a:solidFill>
                  <a:srgbClr val="006699"/>
                </a:solidFill>
                <a:latin typeface="Verdana"/>
              </a:rPr>
              <a:t>n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+ x</a:t>
            </a:r>
            <a:r>
              <a:rPr b="0" lang="sl-SI" sz="2000" spc="-1" strike="noStrike" baseline="-25000">
                <a:solidFill>
                  <a:srgbClr val="006699"/>
                </a:solidFill>
                <a:latin typeface="Verdana"/>
              </a:rPr>
              <a:t>n+1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)/2 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odatki o pogostosti doživljanja zlorab v otroštvu pri študentih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Neurejeni podatki: 17, 5, 19, 13, 3, 5, 17, 13, 16, 23, 13, 7, 40, 10, 22, 9, 18, 6, 12, 9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odatki urejeni v rastočo vrsto: 3, 5, 5, 6, 7, 9, 9, 10, 12, </a:t>
            </a: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13, 13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, 13, 16, 17, 17, 18, 19, 22, 23, 40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Md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= (13+13)/2 = 13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RE SREDNJIH VREDNOSTI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IZRAČUN </a:t>
            </a:r>
            <a:r>
              <a:rPr b="0" lang="sl-SI" sz="2000" spc="-1" strike="noStrike">
                <a:solidFill>
                  <a:srgbClr val="33cc33"/>
                </a:solidFill>
                <a:latin typeface="Verdana"/>
              </a:rPr>
              <a:t>MEDIANE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IZ FREKVENČNE DISTRIBUCI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Najprej </a:t>
            </a: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določimo razred, v katerem se predvidoma nahaja mediana 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(medianski razred). To je tam, kjer odstotek kumulativne frekvence prvič preseže 50%. Nato izračunamo po obrazcu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         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(n/2 – F</a:t>
            </a:r>
            <a:r>
              <a:rPr b="0" lang="sl-SI" sz="2400" spc="-1" strike="noStrike" baseline="-25000">
                <a:solidFill>
                  <a:srgbClr val="33cc33"/>
                </a:solidFill>
                <a:latin typeface="Verdana"/>
              </a:rPr>
              <a:t>-1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) 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Md = x</a:t>
            </a:r>
            <a:r>
              <a:rPr b="0" lang="sl-SI" sz="2400" spc="-1" strike="noStrike" baseline="-25000">
                <a:solidFill>
                  <a:srgbClr val="33cc33"/>
                </a:solidFill>
                <a:latin typeface="Verdana"/>
              </a:rPr>
              <a:t>o,min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 +    ------------   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    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f</a:t>
            </a:r>
            <a:r>
              <a:rPr b="0" lang="sl-SI" sz="2400" spc="-1" strike="noStrike" baseline="-25000">
                <a:solidFill>
                  <a:srgbClr val="33cc33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ri tem je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sl-SI" sz="1800" spc="-1" strike="noStrike" baseline="-25000">
                <a:solidFill>
                  <a:srgbClr val="006699"/>
                </a:solidFill>
                <a:latin typeface="Verdana"/>
              </a:rPr>
              <a:t>0,min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 - natančna spodnja meja razreda, v katerem se predvidoma nahaja mediana (kjer kumulativna frekvenca preseže 50%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F</a:t>
            </a:r>
            <a:r>
              <a:rPr b="0" lang="sl-SI" sz="1800" spc="-1" strike="noStrike" baseline="-25000">
                <a:solidFill>
                  <a:srgbClr val="006699"/>
                </a:solidFill>
                <a:latin typeface="Verdana"/>
              </a:rPr>
              <a:t>-1 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– kumulativna frekvenca enega razreda pred medianski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f</a:t>
            </a:r>
            <a:r>
              <a:rPr b="0" lang="sl-SI" sz="1800" spc="-1" strike="noStrike" baseline="-25000">
                <a:solidFill>
                  <a:srgbClr val="006699"/>
                </a:solidFill>
                <a:latin typeface="Verdana"/>
              </a:rPr>
              <a:t>o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– frekvenca medianskega razred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i – širina razred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n – število enot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8-04-29T08:24:22Z</dcterms:modified>
  <cp:revision>57</cp:revision>
  <dc:subject/>
  <dc:title>Diapozitiv 1</dc:title>
</cp:coreProperties>
</file>