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A9D-7DAD-4D14-B7CB-F79F8929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13CE-1A15-486D-B629-029375B3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415C-F72D-477B-95B6-BCD3BA9D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CF3-D073-48A3-A6F6-1EB70272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7194-34C7-49ED-B08A-F7D23E30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CAFB-AA81-42A9-8F86-085883AD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2773-B1F9-447B-B5E6-A99E6EFE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C4FF-3CA5-404D-A7AA-79539B74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8E6A-BB65-4B57-983A-671D97A8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1903-412B-4D76-9EEA-4CC20FE8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17E5-C639-4ACE-A1FE-817A3B0E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082-09C2-4ABF-9B59-6B8E0C6A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9A55-E73E-4F24-920F-54E329F2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4F0F-7387-47B7-817C-C4D6F6DD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F194-9399-409D-A127-9E9BF140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85BB-93D0-442C-BFCF-346B9D49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82BF-05EA-4A0F-866A-BE5D165B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26BF-8BFB-4A16-ACFE-DB7AECD8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47A4-2638-433F-AF5D-7DCF69F6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12E2-C6D3-4C06-91ED-82337433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6DA-D54A-4059-BAE9-A0267D80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2F5-5906-4D1A-B05C-05CC9CAA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1AEA-FED4-4FFC-93BD-6C847CE1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BAD6-01D5-47D9-8CF4-D22D24A8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5481-91B5-4EA1-81D1-7FD120914A4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0657-A0A9-4082-A827-A0F157412C5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560" y="596880"/>
            <a:ext cx="7821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FREKVENČNA DISTRIBUCIJA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19640" y="5157720"/>
            <a:ext cx="614664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Liljana Rihter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FREKVENČNE DISTRIBUCIJE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UREJANJE PODATKOV V FREKVENČNO DISTRIBUCIJ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rejanje v rastočo ali padajočo vrst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izdelav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rvi stolpec: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 meje skupin-razredov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i stolpec: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 število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(pogostost, frekvenčnost) enot v tem razredu; 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frekvence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(f)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retji stolpec: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odstotek enot razreda v celotnem številu enot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(f%)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četrti stolpec: 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kumulativne frekvence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- število vseh enot od začetka do tega razreda (F); kumulativni frekvenci prejšnjega razreda prištejemo frekvenco tega razreda (F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-1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+f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eti stolpec: 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kumulativni odstotki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(F%); odstotki iz kumulativnih frekvenc na enak način kot odstotki frekvenc in navadnih frekvenc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FREKVENČNE DISTRIBUCIJE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UREJANJE PODATKOV V FREKVENČNO DISTRIBUCIJO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rimer: podatki urejeni v frekvenčno distribucijo z razrednim intervalom i=1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24000" y="1916280"/>
          <a:ext cx="8424720" cy="4563720"/>
        </p:xfrm>
        <a:graphic>
          <a:graphicData uri="http://schemas.openxmlformats.org/drawingml/2006/table">
            <a:tbl>
              <a:tblPr/>
              <a:tblGrid>
                <a:gridCol w="1589040"/>
                <a:gridCol w="1523880"/>
                <a:gridCol w="1557360"/>
                <a:gridCol w="1555920"/>
                <a:gridCol w="1099800"/>
                <a:gridCol w="109872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Meje razredov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Natančne meje r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6699"/>
                          </a:solidFill>
                          <a:latin typeface="Verdana"/>
                        </a:rPr>
                        <a:t>K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 – 1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,5 - 12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1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3 – 2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2,5 – 22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7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3 – 3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2,5 – 32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3 – 4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32,5 – 42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KUPAJ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0066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FREKVENČNE DISTRIBUCIJE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POJE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razdelitev, pri kateri so na eni strani navedene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vrednosti ali modalitete spremenljivk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, na drugi pa tem vrednostim 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</a:rPr>
              <a:t>pripadajoče frekvence oz. števila,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ki kažejo, s kakšno pogostostjo se pojavlja določena vrednos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FREKVENČNE DISTRIBUCIJE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SPLOŠNA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OBLIKA FREKVENČNE DISTRIBUCI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00000" y="1413000"/>
          <a:ext cx="7056720" cy="5167080"/>
        </p:xfrm>
        <a:graphic>
          <a:graphicData uri="http://schemas.openxmlformats.org/drawingml/2006/table">
            <a:tbl>
              <a:tblPr/>
              <a:tblGrid>
                <a:gridCol w="3530880"/>
                <a:gridCol w="3525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Vrednosti spremenljivke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Frekvence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cc99ff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400" spc="-1" strike="noStrike" baseline="-25000">
                          <a:solidFill>
                            <a:srgbClr val="33cc33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cc99ff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400" spc="-1" strike="noStrike" baseline="-25000">
                          <a:solidFill>
                            <a:srgbClr val="33cc33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cc99ff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400" spc="-1" strike="noStrike" baseline="-25000">
                          <a:solidFill>
                            <a:srgbClr val="33cc33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baseline="-25000">
                          <a:solidFill>
                            <a:srgbClr val="cc99ff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X</a:t>
                      </a:r>
                      <a:r>
                        <a:rPr b="0" lang="sl-SI" sz="2400" spc="-1" strike="noStrike" baseline="-25000">
                          <a:solidFill>
                            <a:srgbClr val="cc99ff"/>
                          </a:solidFill>
                          <a:latin typeface="Verdana"/>
                        </a:rPr>
                        <a:t>n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f</a:t>
                      </a:r>
                      <a:r>
                        <a:rPr b="0" lang="sl-SI" sz="2400" spc="-1" strike="noStrike" baseline="-25000">
                          <a:solidFill>
                            <a:srgbClr val="33cc33"/>
                          </a:solidFill>
                          <a:latin typeface="Verdana"/>
                        </a:rPr>
                        <a:t>n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KUPAJ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∑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400" spc="-1" strike="noStrike" baseline="-25000">
                          <a:solidFill>
                            <a:srgbClr val="006699"/>
                          </a:solidFill>
                          <a:latin typeface="Verdana"/>
                        </a:rPr>
                        <a:t>k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FREKVENČNE DISTRIBUCIJE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PRIM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datki o pogostosti doživljanja zlorab v otroštvu pri študentih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eurejeni podatki: 17, 5, 19, 13, 3, 5, 17, 13, 16, 23, 13, 7, 40, 10, 22, 9, 18, 6, 12, 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datki urejeni v rastočo vrsto: 3, 5, 5, 6, 7, 9, 9, 10, 12, 13, 13, 13, 16, 17, 17, 18, 19, 22, 23, 40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FREKVENČNE DISTRIBUCIJE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UREJANJE PODATKOV V FREKVENČNO DISTRIBUCIJO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Primer: podatki urejeni v frekvenčno distribucijo z razrednim intervalom i=1 (interval pomeni število podatkov v razredu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332000" y="1484280"/>
          <a:ext cx="5761080" cy="4851360"/>
        </p:xfrm>
        <a:graphic>
          <a:graphicData uri="http://schemas.openxmlformats.org/drawingml/2006/table">
            <a:tbl>
              <a:tblPr/>
              <a:tblGrid>
                <a:gridCol w="2881440"/>
                <a:gridCol w="2879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Vrednost spremenljivke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Frekvenc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KUPAJ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FREKVENČNE DISTRIBUCIJE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66"/>
                </a:solidFill>
                <a:latin typeface="Verdana"/>
              </a:rPr>
              <a:t>UREJANJE PODATKOV V FREKVENČNO DISTRIBUCIJ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veliko število različnih vrednosti spremenljivke </a:t>
            </a:r>
            <a:r>
              <a:rPr b="0" lang="sl-SI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→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uvrstimo v </a:t>
            </a: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razrede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ff3300"/>
                </a:solidFill>
                <a:uFillTx/>
                <a:latin typeface="Verdana"/>
              </a:rPr>
              <a:t>Širina razreda</a:t>
            </a:r>
            <a:r>
              <a:rPr b="0" lang="sl-SI" sz="2400" spc="-1" strike="noStrike">
                <a:solidFill>
                  <a:srgbClr val="ff3300"/>
                </a:solidFill>
                <a:latin typeface="Verdana"/>
              </a:rPr>
              <a:t>  (i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število vrednosti v razredu enako v vseh razredi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presoja kot kompromis med natančnostjo (i - čim manjši) in preglednostjo (en vrh na sredini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dan </a:t>
            </a:r>
            <a:r>
              <a:rPr b="1" lang="sl-SI" sz="2400" spc="-1" strike="noStrike">
                <a:solidFill>
                  <a:srgbClr val="cc99ff"/>
                </a:solidFill>
                <a:latin typeface="Verdana"/>
              </a:rPr>
              <a:t>določen interval (i) </a:t>
            </a:r>
            <a:r>
              <a:rPr b="1" lang="sl-SI" sz="24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→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izračunamo, koliko razredov bomo dobili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razpon med podatki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(R)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R = x</a:t>
            </a:r>
            <a:r>
              <a:rPr b="0" lang="sl-SI" sz="2400" spc="-1" strike="noStrike" baseline="-25000">
                <a:solidFill>
                  <a:srgbClr val="006699"/>
                </a:solidFill>
                <a:latin typeface="Verdana"/>
              </a:rPr>
              <a:t>max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– x</a:t>
            </a:r>
            <a:r>
              <a:rPr b="0" lang="sl-SI" sz="2400" spc="-1" strike="noStrike" baseline="-25000">
                <a:solidFill>
                  <a:srgbClr val="006699"/>
                </a:solidFill>
                <a:latin typeface="Verdana"/>
              </a:rPr>
              <a:t>min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povečamo za 1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REZULTAT: </a:t>
            </a: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število razredov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(ŠR)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ff3300"/>
                </a:solidFill>
                <a:latin typeface="Verdana"/>
              </a:rPr>
              <a:t>ŠR = (R +1)/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dano </a:t>
            </a:r>
            <a:r>
              <a:rPr b="1" lang="sl-SI" sz="2400" spc="-1" strike="noStrike">
                <a:solidFill>
                  <a:srgbClr val="cc99ff"/>
                </a:solidFill>
                <a:latin typeface="Verdana"/>
              </a:rPr>
              <a:t>število razredov </a:t>
            </a:r>
            <a:r>
              <a:rPr b="1" lang="sl-SI" sz="24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→</a:t>
            </a:r>
            <a:r>
              <a:rPr b="1" lang="sl-SI" sz="24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izračunamo interval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ff3300"/>
                </a:solidFill>
                <a:latin typeface="Verdana"/>
              </a:rPr>
              <a:t>i = (R +1)/Š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FREKVENČNE DISTRIBUCIJE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66"/>
                </a:solidFill>
                <a:latin typeface="Verdana"/>
              </a:rPr>
              <a:t>UREJANJE PODATKOV V FREKVENČNO DISTRIBUCIJ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Primer: želimo imeti interval </a:t>
            </a:r>
            <a:r>
              <a:rPr b="0" lang="sl-SI" sz="2400" spc="-1" strike="noStrike">
                <a:solidFill>
                  <a:srgbClr val="33cc33"/>
                </a:solidFill>
                <a:latin typeface="Verdana"/>
              </a:rPr>
              <a:t>i = 1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Izračunamo razpon med podatki (R)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R = x</a:t>
            </a:r>
            <a:r>
              <a:rPr b="0" lang="sl-SI" sz="2400" spc="-1" strike="noStrike" baseline="-25000">
                <a:solidFill>
                  <a:srgbClr val="006699"/>
                </a:solidFill>
                <a:latin typeface="Verdana"/>
              </a:rPr>
              <a:t>max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– x</a:t>
            </a:r>
            <a:r>
              <a:rPr b="0" lang="sl-SI" sz="2400" spc="-1" strike="noStrike" baseline="-25000">
                <a:solidFill>
                  <a:srgbClr val="006699"/>
                </a:solidFill>
                <a:latin typeface="Verdana"/>
              </a:rPr>
              <a:t>min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= </a:t>
            </a:r>
            <a:r>
              <a:rPr b="0" lang="sl-SI" sz="2400" spc="-1" strike="noStrike">
                <a:solidFill>
                  <a:srgbClr val="33cc33"/>
                </a:solidFill>
                <a:latin typeface="Verdana"/>
              </a:rPr>
              <a:t>40-3 = 37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ga povečamo za 1 in dobimo število razredov (ŠR)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ŠR = (R +1)/i = </a:t>
            </a:r>
            <a:r>
              <a:rPr b="0" lang="sl-SI" sz="2400" spc="-1" strike="noStrike">
                <a:solidFill>
                  <a:srgbClr val="33cc33"/>
                </a:solidFill>
                <a:latin typeface="Verdana"/>
              </a:rPr>
              <a:t>(37+1)/10 = 3,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zaokrožimo na višje celo število </a:t>
            </a:r>
            <a:r>
              <a:rPr b="0" lang="sl-SI" sz="2400" spc="-1" strike="noStrike">
                <a:solidFill>
                  <a:srgbClr val="33cc33"/>
                </a:solidFill>
                <a:latin typeface="Verdana"/>
              </a:rPr>
              <a:t>(4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33cc33"/>
                </a:solidFill>
                <a:latin typeface="Verdana"/>
              </a:rPr>
              <a:t>Dobili smo 4 razrede; v posameznem razredu pa bomo imeli 10 različnih vrednosti spremenljivk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FREKVENČNE DISTRIBUCIJE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UREJANJE PODATKOV V FREKVENČNO DISTRIBUCIJ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Verdana"/>
              </a:rPr>
              <a:t>Meje razredov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ajnižja vrednost razreda = </a:t>
            </a:r>
            <a:r>
              <a:rPr b="0" lang="en-US" sz="2400" spc="-1" strike="noStrike">
                <a:solidFill>
                  <a:srgbClr val="0066ff"/>
                </a:solidFill>
                <a:latin typeface="Verdana"/>
              </a:rPr>
              <a:t>spodnja mej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ajvišja vrednost razreda =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zgornja mej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ozor: zvezne ali nezvezne spremenljivk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33cc33"/>
                </a:solidFill>
                <a:latin typeface="Verdana"/>
              </a:rPr>
              <a:t>zvezne </a:t>
            </a:r>
            <a:r>
              <a:rPr b="0" lang="en-US" sz="1800" spc="-1" strike="noStrike">
                <a:solidFill>
                  <a:srgbClr val="33cc33"/>
                </a:solidFill>
                <a:latin typeface="Verdana"/>
              </a:rPr>
              <a:t>spremenljivke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(med dve vrednosti lahko uvrstimo še kakšno vrednost npr. teža, višina)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meje razredov v obliki: 1 – </a:t>
            </a:r>
            <a:r>
              <a:rPr b="0" lang="en-US" sz="1800" spc="-1" strike="noStrike">
                <a:solidFill>
                  <a:srgbClr val="33cc33"/>
                </a:solidFill>
                <a:latin typeface="Verdana"/>
              </a:rPr>
              <a:t>pod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10; 10 – </a:t>
            </a:r>
            <a:r>
              <a:rPr b="0" lang="en-US" sz="1800" spc="-1" strike="noStrike">
                <a:solidFill>
                  <a:srgbClr val="33cc33"/>
                </a:solidFill>
                <a:latin typeface="Verdana"/>
              </a:rPr>
              <a:t>pod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19…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Verdana"/>
              </a:rPr>
              <a:t>nezvezne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(npr. število članov gospodinjstva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meje razredov v obliki: 1 </a:t>
            </a:r>
            <a:r>
              <a:rPr b="0" lang="en-US" sz="1800" spc="-1" strike="noStrike">
                <a:solidFill>
                  <a:srgbClr val="996633"/>
                </a:solidFill>
                <a:latin typeface="Verdana"/>
              </a:rPr>
              <a:t>–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2;  3 </a:t>
            </a:r>
            <a:r>
              <a:rPr b="0" lang="en-US" sz="1800" spc="-1" strike="noStrike">
                <a:solidFill>
                  <a:srgbClr val="996633"/>
                </a:solidFill>
                <a:latin typeface="Verdana"/>
              </a:rPr>
              <a:t>–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4 ….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če imamo </a:t>
            </a:r>
            <a:r>
              <a:rPr b="1" lang="en-US" sz="1800" spc="-1" strike="noStrike">
                <a:solidFill>
                  <a:srgbClr val="996633"/>
                </a:solidFill>
                <a:latin typeface="Verdana"/>
              </a:rPr>
              <a:t>nezvezne podatke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, moramo za računanje vzeti </a:t>
            </a:r>
            <a:r>
              <a:rPr b="1" lang="en-US" sz="1800" spc="-1" strike="noStrike">
                <a:solidFill>
                  <a:srgbClr val="cc99ff"/>
                </a:solidFill>
                <a:latin typeface="Verdana"/>
              </a:rPr>
              <a:t>pravo ali natančno mejo razreda (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točka na meji med zgornjo mejo prejšnjega in spodnjo mejo naslednjega razreda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6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1,5 – 6,5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11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6,5 - 11,5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11,5 – 16,5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FREKVENČNE DISTRIBUCIJE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66"/>
                </a:solidFill>
                <a:latin typeface="Verdana"/>
              </a:rPr>
              <a:t>UREJANJE PODATKOV V FREKVENČNO DISTRIBUCIJ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ff3300"/>
                </a:solidFill>
                <a:uFillTx/>
                <a:latin typeface="Verdana"/>
              </a:rPr>
              <a:t>Sredina razreda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ff3300"/>
                </a:solidFill>
                <a:latin typeface="Verdana"/>
              </a:rPr>
              <a:t>(x</a:t>
            </a:r>
            <a:r>
              <a:rPr b="0" lang="sl-SI" sz="2400" spc="-1" strike="noStrike" baseline="-25000">
                <a:solidFill>
                  <a:srgbClr val="ff3300"/>
                </a:solidFill>
                <a:latin typeface="Verdana"/>
              </a:rPr>
              <a:t>k</a:t>
            </a:r>
            <a:r>
              <a:rPr b="0" lang="sl-SI" sz="2400" spc="-1" strike="noStrike">
                <a:solidFill>
                  <a:srgbClr val="ff33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predstavnik vseh vrednosti v razredu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uporaba: za računanje statistik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x</a:t>
            </a:r>
            <a:r>
              <a:rPr b="0" lang="sl-SI" sz="2800" spc="-1" strike="noStrike" baseline="-25000">
                <a:solidFill>
                  <a:srgbClr val="006699"/>
                </a:solidFill>
                <a:latin typeface="Verdana"/>
              </a:rPr>
              <a:t>k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= (x</a:t>
            </a:r>
            <a:r>
              <a:rPr b="0" lang="sl-SI" sz="2800" spc="-1" strike="noStrike" baseline="-25000">
                <a:solidFill>
                  <a:srgbClr val="006699"/>
                </a:solidFill>
                <a:latin typeface="Verdana"/>
              </a:rPr>
              <a:t>min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+ x</a:t>
            </a:r>
            <a:r>
              <a:rPr b="0" lang="sl-SI" sz="2800" spc="-1" strike="noStrike" baseline="-25000">
                <a:solidFill>
                  <a:srgbClr val="006699"/>
                </a:solidFill>
                <a:latin typeface="Verdana"/>
              </a:rPr>
              <a:t>max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)/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zaradi te mere pride do napake pri računanju iz grupiranih podatkov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2:13:44Z</dcterms:created>
  <dc:creator>Liljana Rihter</dc:creator>
  <dc:description/>
  <dc:language>en-US</dc:language>
  <cp:lastModifiedBy>Liljana Rihter</cp:lastModifiedBy>
  <dcterms:modified xsi:type="dcterms:W3CDTF">2008-04-29T08:23:03Z</dcterms:modified>
  <cp:revision>55</cp:revision>
  <dc:subject/>
  <dc:title>Diapozitiv 1</dc:title>
</cp:coreProperties>
</file>