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ADA5-EE03-4618-9794-483EF258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E949-D849-43C1-9672-3B588B8A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C0E-7CB2-48ED-B044-BEEC6D43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7937-6BC1-486D-B07B-D570D174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4AA0-A209-4B2A-A681-C20A28E2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DB2B-B7DA-4136-8C36-148E78E8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C45F-8568-4776-BCE1-E24BE114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086A-8B4D-43EF-BCBA-C9C83DB6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7FAC-01A1-4815-99B2-8FCF1DF0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950F-0056-4EDF-8FAF-A0478B96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DD2D-CDA5-4894-8F8E-9AD1CAB0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06A6-8229-4F33-938C-5FC95BC9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66D6-EC00-46A0-8FF0-4713DE47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7A29-D512-4F74-B4CF-E0FA89F6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B2F6-626A-44FF-BB59-22CB9F1F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356C-AAE4-4F06-93E9-6300528A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CA95-083B-4203-BF7C-1E0080B1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B0E8-1D89-4F8A-BF5F-008312DF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2A91-1493-4873-9818-6DF12F8E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B112-49CE-44E2-AB13-5215F06B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63BB-BCEF-4FEF-A961-70F48473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8C31-FC4D-47F4-9995-499438A1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8133-FDDB-429F-BEFA-E9B2E8DA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902E-92DE-4D74-9A0F-AA1233F7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BB33-634E-4242-B2F2-E7B6A8C206A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D7F0-1CAF-41C2-98F1-E10B8D04E66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560" y="596880"/>
            <a:ext cx="7821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RELATIVNA ŠTEVILA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843280" y="5877000"/>
            <a:ext cx="61466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Liljana Rihter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RELATIVNA ŠTEVIL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66"/>
                </a:solidFill>
                <a:latin typeface="Verdana"/>
              </a:rPr>
              <a:t>INDEKS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količniki za primerjavo dveh istovrstnih podatkov glede na čas, kraj, stvarno področj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sl-SI" sz="2800" spc="-1" strike="noStrike" baseline="-25000">
                <a:solidFill>
                  <a:srgbClr val="006699"/>
                </a:solidFill>
                <a:latin typeface="Verdana"/>
              </a:rPr>
              <a:t>i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 –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podatek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, ki ga primerjamo s podatkom Y</a:t>
            </a:r>
            <a:r>
              <a:rPr b="0" lang="sl-SI" sz="2800" spc="-1" strike="noStrike" baseline="-25000">
                <a:solidFill>
                  <a:srgbClr val="006699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sl-SI" sz="2800" spc="-1" strike="noStrike" baseline="-25000">
                <a:solidFill>
                  <a:srgbClr val="006699"/>
                </a:solidFill>
                <a:latin typeface="Verdana"/>
              </a:rPr>
              <a:t>B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–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baza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ali osnova indeksa (</a:t>
            </a:r>
            <a:r>
              <a:rPr b="0" i="1" lang="sl-SI" sz="2800" spc="-1" strike="noStrike">
                <a:solidFill>
                  <a:srgbClr val="006699"/>
                </a:solidFill>
                <a:latin typeface="Verdana"/>
              </a:rPr>
              <a:t>stalna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– vzamemo podatek za določeno leto/kraj; </a:t>
            </a:r>
            <a:r>
              <a:rPr b="0" i="1" lang="sl-SI" sz="2800" spc="-1" strike="noStrike">
                <a:solidFill>
                  <a:srgbClr val="006699"/>
                </a:solidFill>
                <a:latin typeface="Verdana"/>
              </a:rPr>
              <a:t>pomična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– vzamemo predhodni podatek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908000" y="2276640"/>
                <a:ext cx="3600720" cy="17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RELATIVNA ŠTEVIL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9640" y="549360"/>
            <a:ext cx="7848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66"/>
                </a:solidFill>
                <a:latin typeface="Verdana"/>
              </a:rPr>
              <a:t>INDEKS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Tabela: </a:t>
            </a:r>
            <a:r>
              <a:rPr b="0" lang="pt-BR" sz="2000" spc="-1" strike="noStrike">
                <a:solidFill>
                  <a:srgbClr val="006699"/>
                </a:solidFill>
                <a:latin typeface="Verdana"/>
              </a:rPr>
              <a:t>SAMOMORI (Vir: Statistični letopis Republike Slovenije 1994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55640" y="1700280"/>
          <a:ext cx="7931160" cy="4040280"/>
        </p:xfrm>
        <a:graphic>
          <a:graphicData uri="http://schemas.openxmlformats.org/drawingml/2006/table">
            <a:tbl>
              <a:tblPr/>
              <a:tblGrid>
                <a:gridCol w="1322280"/>
                <a:gridCol w="1320840"/>
                <a:gridCol w="1322640"/>
                <a:gridCol w="1322280"/>
                <a:gridCol w="1120680"/>
                <a:gridCol w="1522440"/>
              </a:tblGrid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Leto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Umrlih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Samomori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Delež</a:t>
                      </a:r>
                      <a:r>
                        <a:rPr b="0" lang="sl-SI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samomorov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Skupaj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Moški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Ženske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med umrlimi (%)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989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86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76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15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735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54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24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991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85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46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01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824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39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49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993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894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14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81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994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35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86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49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995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996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22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75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47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RELATIVNA ŠTEVIL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640" y="549360"/>
            <a:ext cx="1728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INDEKS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0920" y="1125360"/>
          <a:ext cx="7788240" cy="4961160"/>
        </p:xfrm>
        <a:graphic>
          <a:graphicData uri="http://schemas.openxmlformats.org/drawingml/2006/table">
            <a:tbl>
              <a:tblPr/>
              <a:tblGrid>
                <a:gridCol w="720720"/>
                <a:gridCol w="1009440"/>
                <a:gridCol w="866880"/>
                <a:gridCol w="866880"/>
                <a:gridCol w="861840"/>
                <a:gridCol w="866880"/>
                <a:gridCol w="866880"/>
                <a:gridCol w="861840"/>
                <a:gridCol w="8668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Leto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Umrlih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Samomori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Skupaj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Moški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Ženske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989=10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Pomičn</a:t>
                      </a:r>
                      <a:r>
                        <a:rPr b="0" lang="sl-SI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GB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baza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989=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Pomična baza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989=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Pomična baza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989=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Pomična baza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989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sl-SI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sl-SI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sl-SI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93,28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sl-SI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93,28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991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sl-SI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99,46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sl-SI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06,63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sl-SI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98,06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sl-SI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98,59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993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sl-SI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01,83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sl-SI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03,84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RELATIVNA ŠTEVIL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količniki iz dveh absolutnih števil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uporaba: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primerjav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(raznovrstnih ali istovrstnih)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podatkov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med sab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Vrste relativnih števil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trukture ali razčlenitvena števil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koeficienti in gostot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deks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RELATIVNA ŠTEVIL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STRUKTUR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količniki za primerjavo dela s celoto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ENOSTAVNE STRUKTURE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ačunamo iz enostavnih tab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Delež enot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določene vrste (število enot te vrste delimo s celotnim številom enot):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 =  -----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Odstotek (procent)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enot določene vrste (število teh enot na 100 enot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→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elež pomnožimo s 100)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 = 100p = ---------10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RELATIVNA ŠTEVIL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 marL="137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PRIMER IZRAČUNAVANJA ENOSTAVNIH STRUKTUR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37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Tabela 2: Populacija nevladnih organizacij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37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6699"/>
                </a:solidFill>
                <a:latin typeface="Verdana"/>
              </a:rPr>
              <a:t>Vir Kolarič et al. 2006. </a:t>
            </a:r>
            <a:r>
              <a:rPr b="0" i="1" lang="sl-SI" sz="1400" spc="-1" strike="noStrike">
                <a:solidFill>
                  <a:srgbClr val="006699"/>
                </a:solidFill>
                <a:latin typeface="Verdana"/>
              </a:rPr>
              <a:t>Velikost, obseg in vloga zasebnega neprofitnega sektorja v Sloveniji : (raziskovalni projekt v okviru CRP - celovita analiza pravnega in ekonomskega okvirja za delo nevladnih organizacij) : zaključno poročilo</a:t>
            </a:r>
            <a:r>
              <a:rPr b="0" lang="sl-SI" sz="1400" spc="-1" strike="noStrike">
                <a:solidFill>
                  <a:srgbClr val="006699"/>
                </a:solidFill>
                <a:latin typeface="Verdana"/>
              </a:rPr>
              <a:t>. Ljubljana: Univerza v Ljubljani, Fakulteta za družbene vede, Center za proučevanje družbene blaginje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137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37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37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95280" y="2421000"/>
          <a:ext cx="7848720" cy="4286160"/>
        </p:xfrm>
        <a:graphic>
          <a:graphicData uri="http://schemas.openxmlformats.org/drawingml/2006/table">
            <a:tbl>
              <a:tblPr/>
              <a:tblGrid>
                <a:gridCol w="4137120"/>
                <a:gridCol w="1855800"/>
                <a:gridCol w="1855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Vrsta nevladne org.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Število vseh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odstotek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Podjetja za zap. invalidov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36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0,7%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erkvene organizacije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45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3,2%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Zavodi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49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,2%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Ustanove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49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0,7%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Zadruge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2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0,1%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ruštva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9069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93,1%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KUPAJ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470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RELATIVNA ŠTEVIL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66"/>
                </a:solidFill>
                <a:latin typeface="Verdana"/>
              </a:rPr>
              <a:t>STRUKTUR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SESTAVLJENE STRUKTURE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računamo iz kombiniranih tab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996633"/>
                </a:solidFill>
                <a:latin typeface="Verdana"/>
              </a:rPr>
              <a:t>Kotni odstotki: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celota je velika vsota; podatke v  celicah delimo s tem število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3300"/>
                </a:solidFill>
                <a:latin typeface="Verdana"/>
              </a:rPr>
              <a:t>Stolpični odstotki: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celota je vsota stolpca; podatke znotraj celic v stolpcu delimo z vsoto stolpc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Vrstični odstotki: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celota je vsota vrstice; podatke znotraj celic v vrstici delimo z vsoto vrsti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RELATIVNA ŠTEVIL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RIMER IZRAČUNAVANJA SESTAVLJENIH STRUKTUR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abela: Pridnost po spolu; Vir: Vaje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0920" y="1268280"/>
          <a:ext cx="8435880" cy="5329440"/>
        </p:xfrm>
        <a:graphic>
          <a:graphicData uri="http://schemas.openxmlformats.org/drawingml/2006/table">
            <a:tbl>
              <a:tblPr/>
              <a:tblGrid>
                <a:gridCol w="2109600"/>
                <a:gridCol w="2108160"/>
                <a:gridCol w="2109960"/>
                <a:gridCol w="2108160"/>
              </a:tblGrid>
              <a:tr h="391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pol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pridnost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je pridna/en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ni pridna/en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KUPAJ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ženska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6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5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vrstični 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74,3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25,7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tolpični 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32,5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5,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35,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6633"/>
                          </a:solidFill>
                          <a:latin typeface="Verdana"/>
                        </a:rPr>
                        <a:t>kotni 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6633"/>
                          </a:solidFill>
                          <a:latin typeface="Verdana"/>
                        </a:rPr>
                        <a:t>26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6633"/>
                          </a:solidFill>
                          <a:latin typeface="Verdana"/>
                        </a:rPr>
                        <a:t>9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6633"/>
                          </a:solidFill>
                          <a:latin typeface="Verdana"/>
                        </a:rPr>
                        <a:t>35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8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moški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4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5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vrstični 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83,1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16,9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tolpični 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7,5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55,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5,5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6633"/>
                          </a:solidFill>
                          <a:latin typeface="Verdana"/>
                        </a:rPr>
                        <a:t>kotni 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6633"/>
                          </a:solidFill>
                          <a:latin typeface="Verdana"/>
                        </a:rPr>
                        <a:t>54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6633"/>
                          </a:solidFill>
                          <a:latin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6633"/>
                          </a:solidFill>
                          <a:latin typeface="Verdana"/>
                        </a:rPr>
                        <a:t>65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KUPAJ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vrstični 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8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tolpični 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RELATIVNA ŠTEVIL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3640" y="475920"/>
            <a:ext cx="8569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STRUKTURE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– </a:t>
            </a:r>
            <a:r>
              <a:rPr b="0" lang="en-US" sz="2000" spc="-1" strike="noStrike">
                <a:solidFill>
                  <a:srgbClr val="cc99ff"/>
                </a:solidFill>
                <a:latin typeface="Verdana"/>
              </a:rPr>
              <a:t>grafični prikaz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Strukturni krog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(odstotke spremenimo v ločne stopinje: 360</a:t>
            </a:r>
            <a:r>
              <a:rPr b="0" lang="en-US" sz="2000" spc="-1" strike="noStrike" baseline="30000">
                <a:solidFill>
                  <a:srgbClr val="006699"/>
                </a:solidFill>
                <a:latin typeface="Verdana"/>
              </a:rPr>
              <a:t>o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= 100%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24000" y="1844640"/>
          <a:ext cx="842472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44640"/>
                    <a:ext cx="84247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RELATIVNA ŠTEVIL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28036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STRUKTURE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cc99ff"/>
                </a:solidFill>
                <a:latin typeface="Verdana"/>
              </a:rPr>
              <a:t>grafični prikaz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Strukturni kvadrat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(kvadrat razdelimo na pravokotnike, katerih površine ustrezajo delnim odstotkom vrstic ali stolpcev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55640" y="1844640"/>
          <a:ext cx="7416720" cy="450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844640"/>
                    <a:ext cx="741672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RELATIVNA ŠTEVIL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66"/>
                </a:solidFill>
                <a:latin typeface="Verdana"/>
              </a:rPr>
              <a:t>KOEFICIENT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razmerja ali količniki med dvema raznovrstnima podatkom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primer: </a:t>
            </a:r>
            <a:r>
              <a:rPr b="0" lang="sl-SI" sz="2000" spc="-1" strike="noStrike">
                <a:solidFill>
                  <a:srgbClr val="ff3300"/>
                </a:solidFill>
                <a:latin typeface="Verdana"/>
              </a:rPr>
              <a:t>velikost podjetij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 = št.zaposlenih/št. podjetij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Tabela: Velikost podjetij; Vir:</a:t>
            </a: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Republika Slovenija 1993 osnovni kazalniki razvoja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; </a:t>
            </a:r>
            <a:r>
              <a:rPr b="0" lang="pt-BR" sz="1800" spc="-1" strike="noStrike">
                <a:solidFill>
                  <a:srgbClr val="006699"/>
                </a:solidFill>
                <a:latin typeface="Verdana"/>
              </a:rPr>
              <a:t>Statistični letopis Republike Slovenije 1994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539640" y="3213000"/>
          <a:ext cx="7786800" cy="3419640"/>
        </p:xfrm>
        <a:graphic>
          <a:graphicData uri="http://schemas.openxmlformats.org/drawingml/2006/table">
            <a:tbl>
              <a:tblPr/>
              <a:tblGrid>
                <a:gridCol w="1946520"/>
                <a:gridCol w="1947600"/>
                <a:gridCol w="1946520"/>
                <a:gridCol w="194616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Leto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Št.podjetij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Št.zaposlenih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Velikost podjetij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5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99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3.329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86.036</a:t>
                      </a:r>
                      <a:r>
                        <a:rPr b="0" lang="sl-SI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9,43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0.420</a:t>
                      </a:r>
                      <a:r>
                        <a:rPr b="0" lang="sl-SI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13.115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7,89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4.227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58.992</a:t>
                      </a:r>
                      <a:r>
                        <a:rPr b="0" lang="sl-SI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,32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2:13:44Z</dcterms:created>
  <dc:creator>Liljana Rihter</dc:creator>
  <dc:description/>
  <dc:language>en-US</dc:language>
  <cp:lastModifiedBy>Liljana Rihter</cp:lastModifiedBy>
  <dcterms:modified xsi:type="dcterms:W3CDTF">2008-01-24T09:46:44Z</dcterms:modified>
  <cp:revision>47</cp:revision>
  <dc:subject/>
  <dc:title>Diapozitiv 1</dc:title>
</cp:coreProperties>
</file>