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1AD-4DA7-4784-9334-DD4F9B9F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055-49B6-4720-BD28-133EA82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F09-6630-45DC-832C-5DF9B24F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774-4BC2-4813-B048-DEBEBF19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E39-A22D-4BC3-BBB0-53B8CF3B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EF8-435E-4CD4-95FE-4AC9F36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603-C767-436E-A260-2BF21DDB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4CB-6BE8-4AEF-B069-805BCE68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593-B505-4C92-A75A-49B5548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7129-1DC7-4444-A69D-AD0B84E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0914-349C-4F77-8D20-9A153CD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06B-B224-4B29-BDBD-4C2D39F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670C-339A-42EC-8158-BD353DB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8BC5-872A-4978-949B-9F632FD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D719-801A-4CF1-8F49-1FD358DE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D761-713B-4128-AAB9-7D8600C6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CCD2-0CA3-45DE-A7AC-328438FC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C12-A768-48C9-8E84-75F22BCE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609-2497-48D5-8257-F777709B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0E5-E6B5-4264-8C6B-24D5526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DBE-88B3-435C-9B3E-9196FB0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18A-3895-4458-A139-3A8EF61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B04-FA71-4A5C-9D99-5249AB2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333-60F3-475D-B093-662AEF8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7E3-9A18-4F01-A22C-0A7F0E91563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7FC-DC44-4C17-A170-548FA8D2E71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cija.si/si/statistika/lp/1999/slike/slo-okc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560" y="596880"/>
            <a:ext cx="7821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02920" y="5013360"/>
            <a:ext cx="7232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 ENOSTAVNE TABE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abela 2: Populacija nevladnih organizaci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Vir Kolarič et al. 2006. </a:t>
            </a:r>
            <a:r>
              <a:rPr b="0" i="1" lang="sl-SI" sz="1400" spc="-1" strike="noStrike">
                <a:solidFill>
                  <a:srgbClr val="006699"/>
                </a:solidFill>
                <a:latin typeface="Verdana"/>
              </a:rPr>
              <a:t>Velikost, obseg in vloga zasebnega neprofitnega sektorja v Sloveniji : (raziskovalni projekt v okviru CRP - celovita analiza pravnega in ekonomskega okvirja za delo nevladnih organizacij) : zaključno poročilo</a:t>
            </a: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. Ljubljana: Univerza v Ljubljani, Fakulteta za družbene vede, Center za proučevanje družbene blaginje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421000"/>
          <a:ext cx="6048360" cy="4286160"/>
        </p:xfrm>
        <a:graphic>
          <a:graphicData uri="http://schemas.openxmlformats.org/drawingml/2006/table">
            <a:tbl>
              <a:tblPr/>
              <a:tblGrid>
                <a:gridCol w="4174920"/>
                <a:gridCol w="187344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rsta nevladne org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ilo vse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jetja za zap. invalidov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erkvene organizacije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4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vodi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stanov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drug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štv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06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47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 SESTAVLJENE TABE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abela 3: Populacija in vzorec nevladnih organizaci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Vir Kolarič et al. 2006. </a:t>
            </a:r>
            <a:r>
              <a:rPr b="0" i="1" lang="sl-SI" sz="1400" spc="-1" strike="noStrike">
                <a:solidFill>
                  <a:srgbClr val="006699"/>
                </a:solidFill>
                <a:latin typeface="Verdana"/>
              </a:rPr>
              <a:t>Velikost, obseg in vloga zasebnega neprofitnega sektorja v Sloveniji : (raziskovalni projekt v okviru CRP - celovita analiza pravnega in ekonomskega okvirja za delo nevladnih organizacij) : zaključno poročilo</a:t>
            </a: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. Ljubljana: Univerza v Ljubljani, Fakulteta za družbene vede, Center za proučevanje družbene blaginje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37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9640" y="2421000"/>
          <a:ext cx="8015400" cy="4286160"/>
        </p:xfrm>
        <a:graphic>
          <a:graphicData uri="http://schemas.openxmlformats.org/drawingml/2006/table">
            <a:tbl>
              <a:tblPr/>
              <a:tblGrid>
                <a:gridCol w="4224600"/>
                <a:gridCol w="1895400"/>
                <a:gridCol w="1895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rsta nevladne org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ilo vse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zorec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jetja za zap. invalidov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erkvene organizacije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4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vodi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stanov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4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druge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štv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906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37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47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18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IMER KOMBINIRANE TABE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abela 3: Primerjava statusov uporabnikov pred vstopom in seda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64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Vir: Rihter, L. 2004. Evalvacije na področju socialnega varstva in njihov pomen za prilagajanje sodobnih držav blaginje na izzive globalizacije. Doktorska disertacija. Ljubljana: Fakulteta za družbene ved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2205000"/>
          <a:ext cx="8064360" cy="3567240"/>
        </p:xfrm>
        <a:graphic>
          <a:graphicData uri="http://schemas.openxmlformats.org/drawingml/2006/table">
            <a:tbl>
              <a:tblPr/>
              <a:tblGrid>
                <a:gridCol w="2376360"/>
                <a:gridCol w="1187640"/>
                <a:gridCol w="1851120"/>
                <a:gridCol w="1323720"/>
                <a:gridCol w="132552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Status sedaj 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Zaposle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Učenec, dijak, študent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Brezposeln, drug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atus pred vstopom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Zaposle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Učenec, dijak, študent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Times New Roman"/>
                        </a:rPr>
                        <a:t>Brezposeln, drug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  <a:ea typeface="Times New Roman"/>
                        </a:rPr>
                        <a:t>Skupaj                             11                   12            24             4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717640" y="11556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7720" y="4019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87720" y="45403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97560" y="454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7560" y="120636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07040" y="1206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97560" y="4019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07040" y="4019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6520" y="401940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GRAFIČNO PRIKAZOVANJE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afični ali likovni elemen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grafikonov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tolpičn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grafikoni: primerni za nominalne podat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Linijsk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grafikoni: primerni za numerične spremenljivke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artogram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statistični podatki na geografski kar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Figuraln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grafikoni: podatke pokažemo s figuram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8920" y="692280"/>
            <a:ext cx="7058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 STOLPIČNEGA GRAFIKON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33320" y="1197000"/>
          <a:ext cx="75582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1197000"/>
                    <a:ext cx="75582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7921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 LINIJSKEGA GRAFIKON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41672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ER KARTOGRAM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lika 1: Delež interventnih klicev na 113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www.policija.si/si/statistika/lp/1999/slike/slo-okc.gi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7921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SEBI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ONTROLA GRADI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ŠIFRIR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ŠTEVANJE IN RAZVRŠČ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ABELIRANJ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AFIČNI PRIKAZ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08720" y="501336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08720" y="3573360"/>
            <a:ext cx="935280" cy="8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380360" y="2133720"/>
            <a:ext cx="985680" cy="985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7236000" y="4724280"/>
            <a:ext cx="12427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KONTROLA IN ŠIFRIRANJE GRADI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ONTROLA GRADI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ontrola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med zbiranjem gradiv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)  Kontrola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zbranega gradiva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ntrola polnoštevilnosti zajet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ntrola polnoštevilnosti odgovor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ntrola pravilnosti odgovorov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stvarn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logičn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računs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762120" cy="88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80360" y="2852640"/>
            <a:ext cx="761760" cy="88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451640" y="3357720"/>
            <a:ext cx="762120" cy="88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524720" y="3716280"/>
            <a:ext cx="762120" cy="889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8101080" y="249228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KONTROLA IN ŠIFRIRANJE GRADI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ŠIFRIRANJE GRADI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dgovorom pripišemo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oznake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redhodno šifriran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ri vprašalnikih z zaprtimi vprašanj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Naknadno šifriranje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dprta vprašanja, opisno gradiv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EHNIKE PREŠTEVANJA IN RAZVRŠČANJA GRADI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ortiranje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šte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pis števila v pripravljeno razpredelnico/tabel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Tehnike ročne obdelave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dlaganje list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rtkanj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ignirni lis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Računalniška obdelava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e so odgovori vnaprej šifrirani, se podatke lahko prenese v računalni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computr2"/>
          <p:cNvSpPr/>
          <p:nvPr/>
        </p:nvSpPr>
        <p:spPr>
          <a:xfrm>
            <a:off x="7380360" y="5157720"/>
            <a:ext cx="126504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Documents"/>
          <p:cNvSpPr/>
          <p:nvPr/>
        </p:nvSpPr>
        <p:spPr>
          <a:xfrm>
            <a:off x="5580000" y="3500280"/>
            <a:ext cx="747720" cy="9050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EHNIKE PREŠTEVANJA IN RAZVRŠČANJA GRADIV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imer računalniške obdelave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26920" y="1557360"/>
          <a:ext cx="6931080" cy="4851360"/>
        </p:xfrm>
        <a:graphic>
          <a:graphicData uri="http://schemas.openxmlformats.org/drawingml/2006/table">
            <a:tbl>
              <a:tblPr/>
              <a:tblGrid>
                <a:gridCol w="487440"/>
                <a:gridCol w="1889280"/>
                <a:gridCol w="1728720"/>
                <a:gridCol w="1050840"/>
                <a:gridCol w="17748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št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OBREMENJENOST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OBČUTLJIVOS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izobr.očet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st.urbanizacije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Arial CE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ABELIRANJE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kazovanje podatkov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v obliki razpredelni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, tab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Tabela -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površina z razdelk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Sestavn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deli tabel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slov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poredna števil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ir podat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not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govorjene kratice (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i podatka;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i podatka o pojavu, čeprav pojav morda je;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podatek je manjši od 0,5 enote mer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tab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nostavn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stavljen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ombiniran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IMER PRAZNE TABELE ZA VNAŠANJE VPIS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naslov čel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aslov glav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5280" y="2060640"/>
          <a:ext cx="8229600" cy="4471920"/>
        </p:xfrm>
        <a:graphic>
          <a:graphicData uri="http://schemas.openxmlformats.org/drawingml/2006/table">
            <a:tbl>
              <a:tblPr/>
              <a:tblGrid>
                <a:gridCol w="863640"/>
                <a:gridCol w="1879560"/>
                <a:gridCol w="1371600"/>
                <a:gridCol w="1371600"/>
                <a:gridCol w="1371600"/>
                <a:gridCol w="1371600"/>
              </a:tblGrid>
              <a:tr h="39888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Tip or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voljenje za opravljanje dejavnosti d.p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i od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štv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rsta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stolpec</a:t>
                      </a: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sota vrstic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jetja (inv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olje (celica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erske or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vod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stan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g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0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Vsota stolpc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Velika vsot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UREJANJE KVANTITATIVNEGA GRADIV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IMER IZPOLNJENE IN OPREMLJENE TABEL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Tabela 1: Dovoljenje za opravljanje dejavnosti posebnega družbenega pomena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Vir: Kolarič et al. 2006. </a:t>
            </a:r>
            <a:r>
              <a:rPr b="0" i="1" lang="sl-SI" sz="1400" spc="-1" strike="noStrike">
                <a:solidFill>
                  <a:srgbClr val="006699"/>
                </a:solidFill>
                <a:latin typeface="Verdana"/>
              </a:rPr>
              <a:t>Velikost, obseg in vloga zasebnega neprofitnega sektorja v Sloveniji : (raziskovalni projekt v okviru CRP - celovita analiza pravnega in ekonomskega okvirja za delo nevladnih organizacij) : zaključno poročilo</a:t>
            </a: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. Ljubljana: Univerza v Ljubljani, Fakulteta za družbene vede, Center za proučevanje družbene blaginje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2060640"/>
          <a:ext cx="8229600" cy="3862440"/>
        </p:xfrm>
        <a:graphic>
          <a:graphicData uri="http://schemas.openxmlformats.org/drawingml/2006/table">
            <a:tbl>
              <a:tblPr/>
              <a:tblGrid>
                <a:gridCol w="863640"/>
                <a:gridCol w="1879560"/>
                <a:gridCol w="1371600"/>
                <a:gridCol w="1371600"/>
                <a:gridCol w="1371600"/>
                <a:gridCol w="1371600"/>
              </a:tblGrid>
              <a:tr h="39888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Tip or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ovoljenje za opravljanje dejavnosti d.p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i od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štv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,3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,7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djetja (inv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,2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,8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erske org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6,5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2,3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,3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vod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1,6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8,4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stanov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4,8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3,8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,4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rugo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,8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8,2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80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,5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,4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1%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1-24T09:10:40Z</dcterms:modified>
  <cp:revision>43</cp:revision>
  <dc:subject/>
  <dc:title>Diapozitiv 1</dc:title>
</cp:coreProperties>
</file>