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5.gif" ContentType="image/gif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8F3-C1B7-4B16-ACFD-28F21FD3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78E-72AD-45CD-880A-1B39CDA4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C04-2CDE-4499-A087-28E7AD08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8B4-C511-489C-A26D-7E46DCDE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2578-7A7B-4BBC-AF89-87E9719D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CAB4-4B7F-4864-9756-F5918745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712A-6168-40A8-B35F-B819D321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46D4-4076-4790-96C5-D6FD78E0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2EDF-D583-4B0E-84E6-EEFC6EA7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321D-E86C-4068-97E8-45C43AD2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11FB-4DA3-4847-98DF-D484F638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DE6-7818-4272-A282-A78CB033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3570-1443-4B4A-80B9-D1FDCE52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4F95-56B5-4336-ADB8-19C29D5E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7A1E-3206-48B5-9CBE-3500577D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62B3-F46F-45E8-A39C-7071E488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9691-03E0-408D-AEBD-EC6CDCD7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FEC-E2DE-4B9B-A3EE-D2A810EF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958-4195-4284-AC79-2240129E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C71-B2E0-4A84-82B5-2D25EA52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65C-0529-4562-83C4-2858C9D0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29C-37C7-4059-91DC-02FD285A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946-598C-4910-B4B5-CDCB0C22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193-2E7A-4E2C-9C68-A34728E8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8B4F-94C2-489A-9E5B-14739BFDDFB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DB27-341D-4C2D-AA03-754F4457052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SPRAŠEVANJE: RAZISKOVALNI INTERVJU IN ANKETA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834920" y="5013360"/>
            <a:ext cx="68007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Blaž Mesec in 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RSTE SPRAŠE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 Individualno, skupinsko in množično spraševan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individualno spraševanje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govor z eno oseb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skupinski intervju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govor z manjšo skupino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množično anketiranje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n človek anketira istočasno večje število ljud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VRSTE SPRAŠE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. Spraševanje po dejstvih, stališčih in poučenos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raševanje po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dejstvih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bjektivni pogoji, razmere, okoliščin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raševanje po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mnenjih in stališčih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nenje do ukrepa, problem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raševanje o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obveščenosti in poučenost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učenost o določeni tem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VRSTE SPRAŠE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4. Spraševanje posameznikov, skupin in organizacij ali skupnos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raševanj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sameznik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spondent govori v svojem imenu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raševanj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kupin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spondent govori v imenu skupin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raševanj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organizacij, skupnost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spondent govori v imenu skupnos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VRSTE SPRAŠE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5. Enkratna in večkratna spraše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enkratn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praševanja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prašamo enkrat, spraševanj ne ponavljam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večkratn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praševanja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prašamo večkrat - panel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VRSTE SPRAŠE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6. Standardizirano in nestandardizirano spraševan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standardizirano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spraševanj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prašanja sestavljena vnaprej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rstni red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prašalni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nak način postavitve vprašanj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leženje odgovorov na enoten nač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nestandardizirano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spraševanje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prašanja niso sestavljena vnaprej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širše tem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prašanja prilagajamo vprašanc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apis odgovorov med ali po pogovor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VRSTE SPRAŠEVANJ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7. Glede na tesnost sti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neposredno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praševanje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dkrivanje nesporazum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zagotovitev razume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delno posredn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blike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kupinsko in množično spraševan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žnost neposrednega stika omejen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sredn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blike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i neposrednega sti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PLOŠNO O RAZISKOVALNEM INTERVJU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Podoben vsakdanjemu pogovoru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vsakdanji pogovor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člani skupin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i posebnega namen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sebine raznoli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edsebojni vpliv sogovorniko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Podoben svetovalnemu intervjuj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vetovalni intervju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uji oseb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men:pridobitev podatkov o težav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sebina omejena, zaupn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71640" y="5661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66"/>
                </a:solidFill>
                <a:latin typeface="Verdana"/>
              </a:rPr>
              <a:t>SPLOŠNO O RAZISKOVALNEM INTERVJU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Raziskovalni intervju kot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komunikacija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Neposredn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komuniciranj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Verbaln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komuniciran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Vsebinsk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komuniciranj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Komplementarn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komuniciranj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Asimetričn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komuniciran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Dvosmern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komuniciranj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Metakomunika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568920" y="2997360"/>
            <a:ext cx="25750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66"/>
                </a:solidFill>
                <a:latin typeface="Verdana"/>
              </a:rPr>
              <a:t>SPLOŠNO O RAZISKOVALNEM INTERVJU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Raziskovalni intervju kot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družbeni odno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Umeten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odno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Statusna asimetrij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obud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za intervju da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raziskovalec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Vprašanec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nas zanima kot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redstavnik širše kategorije ljud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Namen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intervjuja je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razumeti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in ne ukrepa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rostovoljno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67640" y="2852640"/>
            <a:ext cx="1324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PLOŠNO O RAZISKOVALNEM INTERVJU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aziskovalni intervju kot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medosebni odno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Kratkotraj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Konvencional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Funkcional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ubjektivno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doživljen odno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Transf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Obramb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ugodn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edstav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 samem seb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151128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AZISKOVALNI INTERVJU ALI ANKET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aj je intervju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aj je anketa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56996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KAJ JE PRIMEREN ODNOS PRI INTERVJUJU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igram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vlogo’ raziskovalc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in ne svetovalc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ne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morem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vplivati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na položaj vprašanc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pliv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reteklih doživetij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obeh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izogibam se spraševanju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ljudi, ki jih pozna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izogibam se preveliki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uradnosti, vsiljiv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seznanjenost s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temo intervjuj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dopustim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vpraš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vlogi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spraševalca in vprašanega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ločen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doživetje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vrednosti svoje osebn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ohraniti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neodvisnost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namen: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razumeti vprašanc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zagotovim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rihodnja sodelo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740720" y="371628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TIPOLOGIJA OBLIK SPRAŠE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1557360"/>
          <a:ext cx="8497800" cy="5162400"/>
        </p:xfrm>
        <a:graphic>
          <a:graphicData uri="http://schemas.openxmlformats.org/drawingml/2006/table">
            <a:tbl>
              <a:tblPr/>
              <a:tblGrid>
                <a:gridCol w="2928960"/>
                <a:gridCol w="2786040"/>
                <a:gridCol w="2782800"/>
              </a:tblGrid>
              <a:tr h="892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TESNOST STIKA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TANDARDIZIRANOS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ESTANDAR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TANDARDIZ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NEPOSREDEN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estandardiziran intervju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tandardiziran intervju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5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DELNO POSREDEN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inski intervju ali skupinska razprava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inska anketa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POSREDEN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pis ali esej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oštna anketa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TIPOLOGIJA OBLIK SPRAŠE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STANDARDIZIRANI INTERVJU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standardizirana obli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posredna obli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mnenje, izkušnje, doživljan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ehnika: pozorno poslušan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prednosti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vpogled v pojmovanje stvarnosti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prilagoditev posebnostim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svobodno izražan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temeljita predstavitev primero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pomanjkljivosti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potrebni izurjeni spraševalc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čas, financ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beleženje odgovoro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zamudna obdelava zapiso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neprimerljivos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TIPOLOGIJA OBLIK SPRAŠE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2. STANDARDIZIRANI INTERVJU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tandardizirana obli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posredna oblika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oseganje primerljivosti odgovoro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tandardizacija: veljavnost, objektivnost, zanesljivost, natančnos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prednosti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enotno beleženje odgovoro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lažja analiza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množična uporaba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izpolnjevanje lažj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pomanjkljivosti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tog postopek spraševan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nesporazum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ni popolne veljavnost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neodgovorno ravnanje anketarje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TIPOLOGIJA OBLIK SPRAŠE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3. SKUPINSKI INTERVJU ALI SKUPINSKA RAZPRAV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standardizirana oblik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lno posredna obli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metne ali prave skupine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denje posameznika v skupinskem kontekst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aziskovalec kot usmerjevalec pogovor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rednosti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skupina kot ojačevalec mnenj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nadomesti številne individualne intervju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pomanjkljivosti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zahtevnost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neustrezno ob pridobivanju individualnih mnenj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težko pridobiti skupin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TIPOLOGIJA OBLIK SPRAŠEVANJ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. SKUPINSKA ANKET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andardizirana obli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lno posredna oblik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teka v istem prostor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odena anketa; nevodena anket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rednosti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rihranek časa in sredste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anketiranje v enakih pogoji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odprava nesporazum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kontrol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pomanjkljivosti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množica ljudi, neodgovorno izpolnjevan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neizpolnjevan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moteče veden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020000" y="249228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956720" y="1989000"/>
            <a:ext cx="841320" cy="841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227640" y="1700280"/>
            <a:ext cx="843120" cy="8427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91296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TIPOLOGIJA OBLIK SPRAŠE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. SPIS ALI ESEJ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standardizirana obli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sredna oblika spraševanj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em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sničnost in pristnost opisov in razmišljanj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ksplorativne raziskav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rednosti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večje število podatkov hkrat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pomanjkljivosti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vprašljiva kvaliteta spis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zahtevna obdelava gradiv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TIPOLOGIJA OBLIK SPRAŠEVANJ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6. POŠTNA ANKET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andardizirana oblik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sredna obli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ednosti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hitro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edpostavimo vpogled v dokumen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pomanjkljivost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pozor – vprašanja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brez poglablj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nesporazum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osi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VODILA ZA INTERVJU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ipomočk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za izvedbo intervju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pisek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najvažnejših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t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3141720"/>
            <a:ext cx="8569080" cy="311148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PRIMER (CRP -Vrednotenje izvajanja nacionalne strategije in medresorskega sodelovanja na področju dovoljenih in nedovoljenih drog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roblematika alkohola v družbi (ocena razširjenosti problema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rispevek resorja k reševanju problematike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atere so pristojnosti MZ na področju alkohola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Na podlagi katerih dokumentov (zakon, pravilniki, strategije) je usmerjeno vaše delovanje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aj so glavni cilji delovanja na tem področju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atere so prednostne naloge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do odloča o načinih ukrepanja in na kakšen način odloča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……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.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6666"/>
                </a:solidFill>
                <a:latin typeface="Verdana"/>
              </a:rPr>
              <a:t>VPRAŠALNIK - SESTAVLJANJ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Vprašanja - operacionalizacija raziskovalnih problem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Razisk.problem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Operacionalizac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997360"/>
            <a:ext cx="421164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akšne metode uporabljate pri vzgoji otrok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221000"/>
            <a:ext cx="4356000" cy="7855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pis odnosa do otro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Uporabljam take metode kot oč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3280" y="2997360"/>
            <a:ext cx="4105440" cy="24429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li lahko vaš otrok sodeluje pri odločanju o nakupu obleke ali pa menite, da je to stvar staršev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bleko si izbere po svojem okusu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 izboru obleke se posvetuje s starš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bleko mu izberemo starš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39640" y="4076640"/>
            <a:ext cx="2592360" cy="1152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3933720"/>
            <a:ext cx="2664000" cy="1511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AZISKOVALNI INTERVJU ALI ANKET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blika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verbalnega komunicir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men: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datk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za rešitev teoretičnega ali praktičnega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raziskovalnega problem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56996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VPRAŠALNIK - SESTAVLJANJ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Faze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v sestavljanju vprašalnika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finiranje in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operacionalizacij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spremenljiv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Formuliranje vprašanj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Vsebin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reprosta vprašan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govorni jezik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dvoumnost, jasnos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 pretež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sugestivn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d/precenjevanje informiranosti in sposobnosti vprašancev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 preveč natančna vprašan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Vrste vprašanj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dprta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zaprta (alternativna/izbirna, ne preveč; ves razpon, uravnoteženo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VPRAŠALNIK - SESTAVLJANJE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Faz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v sestavljanju vprašalnika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Razvrščanj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vprašanj v vprašalni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širši vsebinski sklopi vprašan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samezna vprašanja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jmovno-logična nadrejenos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zročna-posledično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začetek: odnos; konec: laž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ekoče in smiseln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.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eizkus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prašalnik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. Oblikovanj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končne različi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740720" y="5516640"/>
            <a:ext cx="11304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IŠČIMO NAPAKE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Kje oz. s kom sedaj živite?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(možen samo en odgovor)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 – živim sam(a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 – živim s partnerj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 – živim pri otroci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IŠČIMO NAPA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Kje oz. s kom sedaj živite? (možen samo en odgovor)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 – živim sam(a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 – živim s partnerje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3 – živim pri otroci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NI CELOTNEGA MOŽNEGA RAZPONA ODG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4 – živim s partnerjem in z otrok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5 – živim pri starši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6 – živim v stanovanjski skupin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7 – živim v zavodu, dom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8 – drugo (navedite)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________________________________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IŠČIMO NAPAK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Kako zadovoljni ste na splošno z društvom oz. zvezo?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(Možen en odgovor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 – zelo zadovolj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 – zadovoljen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 – nezadovolj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OIŠČIMO NAPA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Kako zadovoljni ste na splošno z društvom oz. zvezo?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(Možen en odgovor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1– zelo zadovolje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2 – zadovoljen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3 – nezadovolje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3300"/>
                </a:solidFill>
                <a:latin typeface="Verdana"/>
              </a:rPr>
              <a:t>ODRAŽA BOLJ POZITIVNE ODGOVOR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1 – zelo zadovolje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2 – zadovoljen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3 – niti zadovoljen niti nezadovolje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4 – nezadovoljen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5 – zelo nezadovolje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REDELITEV POJM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INTERVJU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angl. interview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posreden pogovor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snova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rukturiran vprašalni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odila za intervju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čin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dividualn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kupinski pogovor ali razprav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REDELITEV POJM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ANKET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franc. enquette,spraševati)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raševanje’ v raziskovalne namen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snov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naprej pripravljen vprašalni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čin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nožično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sredno, pisno spraševan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PREDELITEV POJMO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SPRAŠEVALE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seba, odgovorna za izvedbo intervjujev ali ankete, 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smerja pogovor ali administrir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sreduje podatke raziskovalc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VPRAŠANE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seba, ki odgovarj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VPRAŠALNIK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naprej pripravljen spisek vprašanj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ahko vnaprej navedeni odgovor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VODILO ZA INTERVJ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naprej pripravljen spisek osnovnih te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DNOSTI SPRAŠEVANJ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posredna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jasnitev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pomena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veden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bimo ‘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krite podatk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’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datki o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doživljanju, čustvih, stališčih in mnenjih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datki o dogajanjih v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eteklost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in o pričakovanjih in načrtih v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ihodnos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reprezentativni vzorc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ali cel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pulaci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stematičen, standardiziran, vsebinsko popoln in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širok pregled st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588000" y="549360"/>
            <a:ext cx="2087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POMANJKLJIVOSTI SPRAŠE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pliv na dogajanje v zavesti,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determiniranje odgovorov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odgovori odvisni od sposobnost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pazovanja, samoopazovanja in besednega izraž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nepreverljivost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iskrenosti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 izjav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 samem seb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732720" y="1197000"/>
            <a:ext cx="12952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PRAŠE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RSTE SPRAŠE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stno in pisno spraševan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c99ff"/>
                </a:solidFill>
                <a:latin typeface="Verdana"/>
              </a:rPr>
              <a:t>ustno spraševanje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praševanje in zapisovanje odgovor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ačin: neposredno, posredno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rednosti: odprava nesporazumov, neverbalno 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vedenje, kontrola situa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pomanjkljivosti: vpliv na odgovore, 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usposabljanje, dlje čas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c99ff"/>
                </a:solidFill>
                <a:latin typeface="Verdana"/>
              </a:rPr>
              <a:t>pisno spraševanje: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amostojno izpolnjevanje vprašalni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ačin: individualno, skupinsk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rednosti: enaka vprašanja; kratek č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pomanjkljivosti: težko odkriti nesporazume; 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manj kontrole situacije, ni podatkov o 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verbalnem vedenju, osip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8-01-24T07:06:34Z</dcterms:modified>
  <cp:revision>51</cp:revision>
  <dc:subject/>
  <dc:title>Diapozitiv 1</dc:title>
</cp:coreProperties>
</file>