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E40-4B83-4233-B150-6965E36B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D97-7C33-4D3B-9271-3D1BC0E1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F6B-4D13-46AE-9ED5-949FE070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60A-C8AE-4EA5-AC31-6E3BCFB2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9FDC-5AE9-4E9E-A2C9-1BA3FE31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8F4C-064D-4E5D-AE1A-2E40E15B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A9DF-3DB5-4EFA-B4F5-CDBE02FB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DB72-4273-4EA2-8C6F-C372D665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6B78-C2CB-43E5-BFD7-9525E4FF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E8DA-FE41-4AAC-9248-D981E251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B591-DF1F-49FD-B5E4-C4DD6D5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0BD-2DF1-4012-9BAB-785FFDD2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9071-E1C5-4ECD-A81E-0321008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75DB-B224-4DF3-A3CF-74E612C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96E7-94DC-4895-9F4F-7674290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CAFE-7E63-48DF-A5DB-79BD9D2C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8638-CBC2-416C-876A-807F0F1A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7D6-9510-446B-9A1E-F70A4767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D12-1AA6-4766-958D-D9FB70F9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3C4-819C-448A-953D-83D0110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99F-B43F-4B00-9EBC-01C929C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BDF-6A10-4594-9958-A86CC94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29A-9059-4AC7-B569-6C58AEC6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C92-8CE9-4119-8310-19E160AD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D3C6-810E-4A8D-BA04-AA7F99DE34F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1A58-F344-4EC9-A655-DF9EA6CADE3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OPAZOVANJE II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123640" y="5013000"/>
            <a:ext cx="6723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POMOČKI PRI OPAZO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Posebne tehnike zapisovanja in grafičnega prikazovanja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6633"/>
                </a:solidFill>
                <a:latin typeface="Verdana"/>
              </a:rPr>
              <a:t>Organigram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grafični prikaz formalne strukture organiz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6633"/>
                </a:solidFill>
                <a:latin typeface="Verdana"/>
              </a:rPr>
              <a:t>Sociogram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grafični prikaz strukture neformalne skupin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996633"/>
                </a:solidFill>
                <a:latin typeface="Verdana"/>
              </a:rPr>
              <a:t>Prostorsko-časovna shema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prikažemo, kaj se je dogajalo v določenem prostoru, v določenem čas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996633"/>
                </a:solidFill>
                <a:latin typeface="Verdana"/>
              </a:rPr>
              <a:t>Tehnika časovnega vzorčenja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pripomoček za opazovanje poteka dela v delovnih organizacija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ROBLEMI OPAZO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veljavnosti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opazovanj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radi 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vpliva opazovalca na opazovan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objektivnosti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opazovanj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datki imajo znanstveno vrednost le, če so objektivni, 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neodvisni od opazovalčevih želja, potreb, čustvenih stanj in predsodkov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. Problem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zanesljivosti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ali opazovalčeva nestalnos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adar opazovalec 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ne ravna dosledno pri ocenje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TEHNIKE IN PRIPOMOČKI PRI OPAZOV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olje opazovan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enota opazovanja + okol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573360"/>
            <a:ext cx="6264360" cy="2305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1692000" cy="1447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635280" y="4581360"/>
            <a:ext cx="1312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TEHNIKE IN PRIPOMOČKI PRI OPAZO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datki o polju opaz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opnja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avtonom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prostorsk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pogoj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število in značilnosti ljud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opnja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organizira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čin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komuniciranja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 kanali komunicir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navljajoče se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situ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TEHNIKE IN PRIPOMOČKI PRI OPAZO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nota opazovanj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ajmanjši del opazovanega pol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zjave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janja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terakcija oz. situacij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stanek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bisk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ezgoda…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TEHNIKE IN PRIPOMOČKI PRI OPAZO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Če je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enota opazovanj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situacija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menimo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konteks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situacije (predhodna, naslednja, sprožitelj, pogostos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sestavin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situacije (trajanje, udeleženci, značilnosti, materialni predmeti, kraj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proce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vedenje; odvisnost vedenja od vedenja drugih, norm, sankcij; cilji  in interesi udeležencev; sredstva in načini komuniciranja; možna alternativna vedenja; posledice interakcij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66"/>
                </a:solidFill>
                <a:latin typeface="Verdana"/>
              </a:rPr>
              <a:t>TEHNIKE IN PRIPOMOČKI PRI OPAZO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Dimenzije opazovanj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značilnosti situacije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, z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različnimi vrednostmi ali modalitetami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topnja vključenosti članov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mer komunikacij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topnja storilnosti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topnja kooperativ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349360"/>
            <a:ext cx="2376360" cy="23115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topnja vključenosti (1-4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me </a:t>
            </a:r>
            <a:r>
              <a:rPr b="0" lang="en-US" sz="1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Vredno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eter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anja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ojca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5157720"/>
            <a:ext cx="324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mer komunikaci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nosmern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vosmern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5661000"/>
            <a:ext cx="10810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6093000"/>
            <a:ext cx="1079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866920" y="6093000"/>
            <a:ext cx="730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140360" y="6037200"/>
            <a:ext cx="820440" cy="820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11280" y="6016680"/>
            <a:ext cx="625680" cy="841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987640" y="6453360"/>
            <a:ext cx="1152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TEHNIKE IN PRIPOMOČKI PRI OPAZO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eleženje opazovanja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čas zapisovanja: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takoj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med opazovanjem ali takoj po opazo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način zapisovanja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čim nižja stopnja abstrakcij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zčrpna dopolnitev terenskih bležk;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uredit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ronološk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časovno zaporedje);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sistematičn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po vsebini v različne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kategorij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451640" y="1484280"/>
            <a:ext cx="928800" cy="857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812000" y="5300640"/>
            <a:ext cx="8254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PRIPOMOČKI PRI OPAZOVAN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Funkcije pripomočkov: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olajšajo izvedb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pazovanja, zapisovanje in analiz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Kategorije pripomočkov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tehničn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pripomočki (avdio-vizualna sredstva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posebne tehnike zapisovanja in grafičneg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prikazovanja določenih vidikov situacij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shem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za sistematično opazovanje z uporabo sistema kategorij in ocenjevalnih lestvi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24720" y="2708280"/>
            <a:ext cx="857160" cy="1144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158320" y="1700280"/>
            <a:ext cx="9856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RIPOMOČKI PRI OPAZOVANJU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sebne tehnike zapisovanja in grafičnega prikazovan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Skice prostor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zemljevidi, razporeditve oseb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Verdana"/>
              </a:rPr>
              <a:t>Aktogram (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aliza dogajanj v majhnih diskusijskih skupinah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1130400" cy="863640"/>
          </a:xfrm>
          <a:prstGeom prst="rect">
            <a:avLst/>
          </a:prstGeom>
          <a:ln w="0">
            <a:noFill/>
          </a:ln>
        </p:spPr>
      </p:pic>
      <p:sp>
        <p:nvSpPr>
          <p:cNvPr id="201" name="Homepage"/>
          <p:cNvSpPr/>
          <p:nvPr/>
        </p:nvSpPr>
        <p:spPr>
          <a:xfrm>
            <a:off x="8028000" y="2924280"/>
            <a:ext cx="536400" cy="866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19640" y="5734080"/>
            <a:ext cx="2592360" cy="720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877000"/>
            <a:ext cx="431640" cy="287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5229360"/>
            <a:ext cx="64944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56720" y="5950080"/>
            <a:ext cx="431640" cy="287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932360" y="5373360"/>
            <a:ext cx="1079640" cy="36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80360" y="5373720"/>
            <a:ext cx="792000" cy="36036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9-02-23T12:21:00Z</dcterms:modified>
  <cp:revision>31</cp:revision>
  <dc:subject/>
  <dc:title>Diapozitiv 1</dc:title>
</cp:coreProperties>
</file>