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13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2F17-D7C4-4162-B586-50E2C7C49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B0DC-65B6-4841-ABF6-6C7DBBC7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D7B3-C45A-4B92-B9D7-57738C34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2C0D-E21E-40F7-9359-16DF172A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666F-3AA7-4E38-AE4F-14D8061D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5386-E512-48F6-BDFC-3726642E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E79B-E33D-46DA-8C54-1818E720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44D7-A497-4384-9EE4-28F4E080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B44F-95D9-44B4-97BC-EE6ED394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52D0-0940-48F4-A88E-469FC44D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B84B-B5F6-49F7-8FCB-09320758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967A-5B18-4B6B-9CB7-64E45B19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7957-2757-4FB9-B479-EBCE050E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597E-97CC-4BF0-9284-A34D99B5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A3B7-6B2E-4368-A805-3B3CB445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E750-EFCC-41AE-BD6D-EC112EDCD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8B3F-609A-4BE4-9D2D-FB83DB77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00EE-F895-4644-8E12-242D87D9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2FF3-E2DC-4AD6-9DC7-46F87492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D395-6C0B-432D-AA9D-C9160029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20AB-0A33-4F81-B9E5-B87FF76B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1C4A-BBC0-463F-9EDD-D36A3473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1178-0318-4CC0-B4FA-5769B731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F123-6155-4DF6-A1AA-9CA7EF9E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6467-A03C-4929-809A-2CC0D8BCC57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FCEB-8738-4B08-B322-F857EC7C203D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OPAZOVANJE I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692360" y="4868640"/>
            <a:ext cx="694368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99"/>
                </a:solidFill>
                <a:latin typeface="Verdana"/>
              </a:rPr>
              <a:t>Blaž Mesec in Liljana Rihter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OPAZO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6666"/>
                </a:solidFill>
                <a:latin typeface="Verdana"/>
              </a:rPr>
              <a:t>VRSTE OPAZOVANJ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3. Glede na </a:t>
            </a:r>
            <a:r>
              <a:rPr b="1" lang="sl-SI" sz="2800" spc="-1" strike="noStrike">
                <a:solidFill>
                  <a:srgbClr val="006699"/>
                </a:solidFill>
                <a:latin typeface="Verdana"/>
              </a:rPr>
              <a:t>odnos opazovalca do objekta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sl-SI" sz="2800" spc="-1" strike="noStrike">
                <a:solidFill>
                  <a:srgbClr val="006699"/>
                </a:solidFill>
                <a:latin typeface="Verdana"/>
              </a:rPr>
              <a:t>raziskovanja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opazovanje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brez udeležbe 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(opazovalec ni član skupine, ki jo opazuje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opazovanje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z delno udeležbo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(opazovalec vključen v skupino, ki jo opazuje, ni polnopravni član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opazovanje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s popolno udeležbo 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(opazovalec član skupine, ki jo opazuje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OPAZO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VRSTE OPAZOVAN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4. Glede na to, ali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opazovani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ljudje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vedo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da so opazovani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odkrito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opazovanje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prikrito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opazovanj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380360" y="2781360"/>
            <a:ext cx="1431720" cy="1800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364000" y="4724280"/>
            <a:ext cx="18162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OPAZO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VRSTE OPAZOVAN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5. Glede na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predmet opazovanja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pazovanje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posameznikov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pazovanje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skupin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pazovanje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skupnosti in organizacij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pazovanje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množic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OPAZO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VRSTE OPAZOVAN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6. Glede na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pogoje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opazovanja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laboratorijsko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pazovanje v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ustanovah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terensko ali naravno opazovanj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564000" y="2492280"/>
            <a:ext cx="985680" cy="1224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451640" y="5410080"/>
            <a:ext cx="1692360" cy="144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5867280" y="4076640"/>
            <a:ext cx="6462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OPAZO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VRSTE OPAZOVAN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7. Glede na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stopnjo in vrsto aktivnosti opazovalca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pasivni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opazovalec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pazovalec je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udeležen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(nevtralno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pazovalec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manipulira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pogoj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pazovalec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aktivis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OPAZO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6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TIPOLOGIJA OPAZOVANJ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glede na kriterij udeležbe in prikritosti/odkritosti opazovanja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95280" y="3141720"/>
          <a:ext cx="8229600" cy="2690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38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UDELEŽBA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ODKRITOST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prikrito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odkrito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brez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delna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popolna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OPAZO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TIPOLOGIJA OPAZOVANJ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c99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Prikrito opazovanje brez udeležb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e obvestimo o opazovanj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e sodelujemo v dogajanj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ribližek idealu objektivnega znanstvenega opazovanj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tični in metodološki pomisleki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primer: opazovanje otroške igre (Toličič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51640" y="4581360"/>
            <a:ext cx="61452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OPAZO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TIPOLOGIJA OPAZOVANJ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2. Odkrito opazovanje brez udeležb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bvestimo o opazovanj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e sodelujemo v dogajanj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ežko izvedljivo v vsakdanjih okoljih;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z vidika etike primerna metod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pazovani se vedejo drugače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rimer: opazovanja v izkustvenih skupinah skupinske dinamik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8101080" y="4292640"/>
            <a:ext cx="64764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OPAZO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TIPOLOGIJA OPAZOVANJ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3. Prikrito opazovanje z delno udeležb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e obvestimo o opazovanj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prejmemo določeno vlog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pazovanje skupin v naravnih pogojih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rimer:mladoletni prestopniki v različnih kulturah (Sherif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OPAZO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TIPOLOGIJA OPAZOVANJ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4. Odkrito opazovanje z delno udeležb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bvestimo o opazovanj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prejmemo določeno vlog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pazovanje skupin v naravnih pogojih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rimer: opazovanje v etnologiji (Makarovič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OPAZO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KAJ JE OPAZOVANJ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140360" y="206064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443640" y="3933720"/>
            <a:ext cx="1795320" cy="1833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116000" y="3500280"/>
            <a:ext cx="20145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OPAZO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TIPOLOGIJA OPAZOVANJ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5. Prikrito opazovanje s popolno udeležbo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(znanstveno vohunjenje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e obvestimo o opazovanj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opolna vključitev v skupino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ridemo do ‘skritih’ podatkov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zguba raziskovalne distance, etično vprašljiv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rimer: zdrav na nezdravem kraju (Rosenhanov eksperiment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451640" y="4221000"/>
            <a:ext cx="647640" cy="4194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3348000" y="5300640"/>
            <a:ext cx="64764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OPAZO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TIPOLOGIJA OPAZOVANJ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6. Odkrito opazovanje s popolno udeležbo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bvestimo o opazovanj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opolna vključitev v skupin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ridemo do ‘skritih’ podatkov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zguba raziskovalne distance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rimer: socialno-terapevtska kolonija na Rakitni (Stritih, Mesec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740720" y="3716280"/>
            <a:ext cx="647640" cy="4190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7740720" y="4292640"/>
            <a:ext cx="64764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OPAZO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ostopki </a:t>
            </a: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zbiranja izkustvenega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gradiva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eposredno: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opazovanj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osredno: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spraševanje; dokumenti;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predmeti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materialne in duhovne kultur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Viri izkustvenega gradiva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primarni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 z opazovanjem, spraševanjem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sekundarni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 drugo pisno gradivo in predmeti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8345520" y="3645000"/>
            <a:ext cx="798480" cy="1120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8023320" y="2060640"/>
            <a:ext cx="1120680" cy="11412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732720" y="3789360"/>
            <a:ext cx="104292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OPAZO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DEFINICIJA POJMA </a:t>
            </a:r>
            <a:r>
              <a:rPr b="1" lang="en-US" sz="3200" spc="-1" strike="noStrike">
                <a:solidFill>
                  <a:srgbClr val="cc99ff"/>
                </a:solidFill>
                <a:latin typeface="Verdana"/>
              </a:rPr>
              <a:t>OPAZOVANJE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širše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vsi postopki zbiranja izkustvenega gradiv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ožje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posebna metoda zbiranja izkustvenega gradiva z neposrednim čutnim zaznavanjem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OPAZO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OPAZOVANJE </a:t>
            </a:r>
            <a:r>
              <a:rPr b="1" lang="en-US" sz="2800" spc="-1" strike="noStrike">
                <a:solidFill>
                  <a:srgbClr val="cc99ff"/>
                </a:solidFill>
                <a:latin typeface="Verdana"/>
              </a:rPr>
              <a:t>V SOCIALNEM DELU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aziskovalno-razvojni projekti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erapevtske kolonije za otroke z motnjami v vedenju (Stritih idr.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rojekti prostovoljnega socialnega dela z otroki in mladino (Mesec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ri delu z otroki v krajevni skupnosti (Čačinovič Vogrinčič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ri delu v mladinskem klubu (Dekleva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ri delu z osebami z demenco v domovih za stare (Flaker idr.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OPAZO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REDNOSTI OPAZOVAN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Neposrednos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Celovitost in realističnos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Proučevanje procesov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Proučevanje pojavov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, o katerih se ne moremo poučiti s spraševanjem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588000" y="1052640"/>
            <a:ext cx="20876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OPAZO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Verdana"/>
              </a:rPr>
              <a:t>POMANJKLJIVOSTI OPAZOVANJA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pazujemo dogajanja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v sedanjosti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pazujemo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vedenje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e pa misli in doživljan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pazujemo sorazmerno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kratkotrajna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dogajan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pazujemo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javna dogajanja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(etika!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Težje odkrijemo pomen veden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732720" y="1197000"/>
            <a:ext cx="129528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OPAZO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VRSTE OPAZOVAN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lede na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namen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vsakdanje opazovanje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(trenutne praktične potrebe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znanstveno opazovanje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(sredstvo znanstvenega spoznavanja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OPAZOVANJ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VRSTE OPAZOVANJ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2. Glede na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sistematičnost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sistematično opazovanj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motrno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načrtno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usmerjeno na jasno opredeljen objek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zčrpno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eleženje z uporabo pripomočkov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naliziranje podatkov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nesistematično opazovanj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2:13:44Z</dcterms:created>
  <dc:creator>Liljana Rihter</dc:creator>
  <dc:description/>
  <dc:language>en-US</dc:language>
  <cp:lastModifiedBy>Liljana Rihter</cp:lastModifiedBy>
  <dcterms:modified xsi:type="dcterms:W3CDTF">2009-02-23T12:21:05Z</dcterms:modified>
  <cp:revision>36</cp:revision>
  <dc:subject/>
  <dc:title>Diapozitiv 1</dc:title>
</cp:coreProperties>
</file>