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C8BF-4A86-4585-9C99-5424CC5945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D9E5-1618-4DC0-ACA7-D34221F014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393-68BA-4469-AC90-29319EE9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898-B3FA-4652-BB03-0C8DDE7D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F86-5AFA-45AA-A8C8-89A01941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83F-CB83-430C-BB08-9B41C20D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DDB-B4CE-4152-A20F-39CFB026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210-A1F4-408F-9D1F-55804A58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4D0-4620-4B89-91C3-4E6CDF86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D86-E246-414F-801D-A87EC10F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B14-CA03-4B70-A30C-B4C662BD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EE3-1619-4251-B9E8-83C5B4FC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B8A-7ACC-49CB-B60A-9419B7E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008-C66A-4C92-84BB-6245DAB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7F36-EB73-4109-B0D7-1D189E7E0E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8280" y="347400"/>
            <a:ext cx="415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8280" y="1595520"/>
            <a:ext cx="463860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nisem imuna na to, kar hoče č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Kastelčevo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5:10:24Z</cp:lastPrinted>
  <dcterms:modified xsi:type="dcterms:W3CDTF">2014-10-02T05:18:05Z</dcterms:modified>
  <cp:revision>60</cp:revision>
  <dc:subject/>
  <dc:title>TITLE</dc:title>
</cp:coreProperties>
</file>