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7345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73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96840" y="730080"/>
            <a:ext cx="4864320" cy="364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624560"/>
            <a:ext cx="5486400" cy="43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924552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924552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B9FB8-21E1-4D8C-BF66-9F3521BA9357}" type="slidenum">
              <a:rPr b="0" lang="es-UY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996840" y="730080"/>
            <a:ext cx="4864320" cy="364968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624560"/>
            <a:ext cx="548640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3 Marcador de número de diapositiva"/>
          <p:cNvSpPr/>
          <p:nvPr/>
        </p:nvSpPr>
        <p:spPr>
          <a:xfrm>
            <a:off x="3884760" y="924552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CA060-BE4A-4179-9892-3533AD72306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5BF0-69A6-47ED-B3DB-737BA9E48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FD18-BD50-442F-B54E-6B956B552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3619-877A-4C1D-8C8B-5D19255F5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7700-0A30-45EC-993B-F74EA25F9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DB515-1BBB-4197-A064-7A0EC5C6A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72C08-9E39-46A2-9C81-9E417BAA4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91546-88A4-4C73-B108-2E715ACE7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93C8D-C6A2-4502-A3F3-679848442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532B0-5F83-4AC8-9DFE-5009BB590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48155-2CA6-48F2-AE89-37E4B1AE6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023C4-1EAA-4B4C-8504-244D424C6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4A65-6A9C-4759-B5AC-2A1D15AB3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F0D7D-973D-4D6E-A8E9-03371615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C6281-55AF-45D9-8770-801E210C7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A3585-59E5-4A4C-86ED-F8D3A924C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3DA11-FB3D-46EA-82F6-BEEAA8910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965BA-2B04-4B6A-9E39-F53E7EC9D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8B7D-9F33-41D0-95B0-3E4D0B46B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B917-0925-4471-B838-13D9D01D1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9118-4231-4B8D-B307-E38D76E3E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B65B-79CA-4516-A4FD-B8812EC59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7E77-C92E-422B-AA00-B3549F0C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61B4-A5B3-43D4-A68A-2BE0987B1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1643-9C2E-446F-B6ED-138358F1C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E099B-0D9D-4F26-A6E0-0E67EBF02C4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lika 1" descr=""/>
          <p:cNvPicPr/>
          <p:nvPr/>
        </p:nvPicPr>
        <p:blipFill>
          <a:blip r:embed="rId2"/>
          <a:stretch/>
        </p:blipFill>
        <p:spPr>
          <a:xfrm>
            <a:off x="0" y="95400"/>
            <a:ext cx="9144000" cy="666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lika 1" descr=""/>
          <p:cNvPicPr/>
          <p:nvPr/>
        </p:nvPicPr>
        <p:blipFill>
          <a:blip r:embed="rId2"/>
          <a:stretch/>
        </p:blipFill>
        <p:spPr>
          <a:xfrm>
            <a:off x="0" y="95400"/>
            <a:ext cx="9144000" cy="6667200"/>
          </a:xfrm>
          <a:prstGeom prst="rect">
            <a:avLst/>
          </a:prstGeom>
          <a:ln w="0">
            <a:noFill/>
          </a:ln>
        </p:spPr>
      </p:pic>
      <p:pic>
        <p:nvPicPr>
          <p:cNvPr id="43" name="Slika 7" descr=""/>
          <p:cNvPicPr/>
          <p:nvPr/>
        </p:nvPicPr>
        <p:blipFill>
          <a:blip r:embed="rId3"/>
          <a:stretch/>
        </p:blipFill>
        <p:spPr>
          <a:xfrm>
            <a:off x="6297480" y="4863960"/>
            <a:ext cx="1212840" cy="908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ndalus"/>
                <a:ea typeface="Andalu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ndalus"/>
                <a:ea typeface="Andalus"/>
              </a:rPr>
              <a:t>Stična, 02. oktober 20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C01B3-393C-471B-A273-E28DDDDF012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31640" y="259920"/>
            <a:ext cx="55450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ndalus"/>
                <a:ea typeface="Andalus"/>
              </a:rPr>
              <a:t>VABI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32000" y="1196640"/>
            <a:ext cx="6184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Prijatelji dragi, svet je okrogel in nekam hitro se vrt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Komaj človek okrog se obrne, se štiridesetkrat zakotal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Kakor nihče, tako niti jaz nisem imuna na to, kar hoče čas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zato vas vabim, da skup‘ proslavimo, skup‘ eno dobro fešto nar‘dimo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Za vsakogar se našel bo krožnik dobrot, pa kak kozarček in kapljica not‘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Verjemite, da mi bo v največje veselje, da z vami bom skupaj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To so moje želje, saj – kdo bi lahko si mogel kaj več želeti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Kot v najboljši družbi svoje žlahte se dobro imeti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ndalus"/>
                <a:ea typeface="Andalus"/>
              </a:rPr>
              <a:t>Pridite torej </a:t>
            </a:r>
            <a:r>
              <a:rPr b="1" lang="sl-SI" sz="1600" spc="-1" strike="noStrike">
                <a:solidFill>
                  <a:srgbClr val="000000"/>
                </a:solidFill>
                <a:latin typeface="Andalus"/>
                <a:ea typeface="Andalus"/>
              </a:rPr>
              <a:t>25. oktobra ob 17.00 uri n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ndalus"/>
                <a:ea typeface="Andalus"/>
              </a:rPr>
              <a:t>našo  domačijo</a:t>
            </a:r>
            <a:r>
              <a:rPr b="0" lang="sl-SI" sz="1600" spc="-1" strike="noStrike">
                <a:solidFill>
                  <a:srgbClr val="000000"/>
                </a:solidFill>
                <a:latin typeface="Andalus"/>
                <a:ea typeface="Andalus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ndalus"/>
                <a:ea typeface="Andalus"/>
              </a:rPr>
              <a:t>z veseljem vas pričakuj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ndalus"/>
                <a:ea typeface="Andalus"/>
              </a:rPr>
              <a:t>                                               </a:t>
            </a:r>
            <a:r>
              <a:rPr b="0" lang="sl-SI" sz="1600" spc="-1" strike="noStrike">
                <a:solidFill>
                  <a:srgbClr val="000000"/>
                </a:solidFill>
                <a:latin typeface="Andalus"/>
                <a:ea typeface="Andalus"/>
              </a:rPr>
              <a:t>Melita Žlajpa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Andalus"/>
                <a:ea typeface="Andalus"/>
              </a:rPr>
              <a:t>Stična, 02. oktober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Melita</cp:lastModifiedBy>
  <cp:lastPrinted>2014-10-02T08:33:03Z</cp:lastPrinted>
  <dcterms:modified xsi:type="dcterms:W3CDTF">2014-10-02T08:47:27Z</dcterms:modified>
  <cp:revision>72</cp:revision>
  <dc:subject/>
  <dc:title>TITLE</dc:title>
</cp:coreProperties>
</file>