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C499-1DA5-4403-8BAA-7770A8AEDA37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413F-C413-4E5F-9930-13210B5270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621-5746-4D44-AF2E-D98A3B93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6D1-C813-4501-8FA6-D23394E7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013-B6F8-41C1-AE30-B260FBEA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2DF-347E-4F9F-9F0E-2B779D5B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AD57-BCCB-46C0-A2DF-5EACB95C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524E-A65C-46B1-8446-DD0113E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485-BB05-46AA-B7CA-CD0BE55A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55C2-77C0-4AE3-9C6D-A7FFDB85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F397-9F44-494B-905F-42ADD673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375-62EB-4D53-8A75-7AEBA56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9E73-AC11-4022-B469-17E28EE6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DCE-E8CB-4ADF-AB44-53140A4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6057-BA56-484F-A9B7-2946586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EA29-5361-4F11-844A-30197E8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87E1-1B41-459B-82D3-FA575E2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A217-B858-4E48-8E2F-C048A38F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BDC4-3658-4FE1-85F3-D9D9E271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AAA-8032-47F5-A9E0-AC31AA5C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477-34AA-4B27-91FD-C96C2B3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4B1-19AA-4466-81B7-CBE10C28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339-F401-4882-BFA3-4E61A7B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764-1601-474A-A687-40FA175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BA9-9EC1-4E94-B2C3-64C8187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596-51FA-4072-929A-C6FF3F07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D3F-FF6B-4BBB-83C0-24BE843585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593-2E59-4EE7-856D-95FBE2751B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18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 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 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 nisem imuna na to, kar hoče č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 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 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 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 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našo 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02T08:47:27Z</dcterms:modified>
  <cp:revision>72</cp:revision>
  <dc:subject/>
  <dc:title>TITLE</dc:title>
</cp:coreProperties>
</file>