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FE24-83CE-4E81-9983-15E3732B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CED9-60F4-4B11-BDDC-1EEB63C9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9D17-E0EC-4761-BE41-41795BC79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E849-FE72-4185-BD07-A80C1328E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FF7A-480A-457C-A738-4C5BB1DF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C6BF-8CE5-48AD-AA64-6739D43E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42EE-2CFB-4FBF-B305-83C17E22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F344-CDCA-408B-8C4D-37F834CF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FF28-8C72-4EE2-951D-93487973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ED38-1B3E-4B04-AA9D-38BC09FB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6138-F9CA-4507-80C1-4437532A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1E33-0056-446C-92E8-E74631D3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941A-AB9D-45B1-919F-EBE32CCBE7E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Harrington"/>
                <a:ea typeface="Calibri"/>
              </a:rPr>
              <a:t>VABILO</a:t>
            </a:r>
            <a:br>
              <a:rPr sz="1800"/>
            </a:b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Zabava, smeh in razveseljevanje bližnjih ve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č</a:t>
            </a: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ajo življenjsko sre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č</a:t>
            </a: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o.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Življenje je lovljenje ravnotežja med odgovornostmi, delom, po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č</a:t>
            </a: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itkom in zabavo.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Vse ima svoje mesto v velikem zemljevidu življenja. Zato se je treba nagraditi s 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č</a:t>
            </a: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asom za zabavo.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Ta te napolni z energijo, ki jo potrebuješ, da se sre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č</a:t>
            </a: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a lahko obnavlja.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Zato te prisr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č</a:t>
            </a: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no vabim, da se poveseliš z mano - ob mojem prihajajo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č</a:t>
            </a: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em 40. rojstnem dnevu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 </a:t>
            </a:r>
            <a:br>
              <a:rPr sz="1800"/>
            </a:br>
            <a:r>
              <a:rPr b="0" lang="sl-SI" sz="18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dne 23. oktobra 2014 ob 14.10 minut.</a:t>
            </a:r>
            <a:br>
              <a:rPr sz="1800"/>
            </a:b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Se dobimo na parkiriš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č</a:t>
            </a: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u za osnovnošolsko šolo in skupaj odidemo v neznano.</a:t>
            </a:r>
            <a:br>
              <a:rPr sz="1800"/>
            </a:br>
            <a:r>
              <a:rPr b="1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 </a:t>
            </a:r>
            <a:br>
              <a:rPr sz="1800"/>
            </a:br>
            <a:r>
              <a:rPr b="1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Melita Žlajpa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elita</cp:lastModifiedBy>
  <dcterms:modified xsi:type="dcterms:W3CDTF">2014-10-13T09:35:48Z</dcterms:modified>
  <cp:revision>27</cp:revision>
  <dc:subject/>
  <dc:title>TITLE</dc:title>
</cp:coreProperties>
</file>