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0640" y="730080"/>
            <a:ext cx="27367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5964-D6AA-453A-9804-1AA5B23C10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2060640" y="730080"/>
            <a:ext cx="2736720" cy="36496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6062-D6D8-47B9-8F02-D3A3D98983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A5F-A251-4814-B790-CF2CB59E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031-0236-4861-9E66-BB23695A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A05-15AE-4C7B-89C9-2C252798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8CD-3F5D-4BEA-BD93-3E40182E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A51-128D-4495-A954-36AF309D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4B0-446E-43DD-8A26-B4D58B1B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E50-27B2-4A77-B2A9-0976F819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86C-119A-428D-B03C-E1816071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BBA-7F20-4735-BE5C-2F81B04E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1DC-E596-46C8-8F4F-DCBA6951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C65-BF7D-4111-B142-77F0BFEC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428-8990-4F4C-A1A2-485472C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FDED-0BE5-4FE3-9843-7499A63376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8280" y="347400"/>
            <a:ext cx="415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8280" y="1595520"/>
            <a:ext cx="4638600" cy="64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rijatelji dragi, svet je okro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in nekam hitro se vr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maj človek okrog se obr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e štiridesetkrat zako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akor nihče, tako niti j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nisem imuna na to, kar hoče č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to vas vabim, da skup‘ proslav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kup‘ eno dobro fešto nar‘d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 vsakogar se našel bo krožnik dobro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a kak kozarček in kapljica not‘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Verjemite, da mi bo v največje vesel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da z vami bom skupa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To so moje žel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aj – kdo bi lahko si mogel kaj več želet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t v najboljši družbi svoje žlahte se dobro imet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Pridite torej </a:t>
            </a: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25. oktobra ob 17.00 uri na Kastelčevo domačijo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z veseljem vas pričakuj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Melita Žlaj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5:10:24Z</cp:lastPrinted>
  <dcterms:modified xsi:type="dcterms:W3CDTF">2014-10-02T05:18:05Z</dcterms:modified>
  <cp:revision>60</cp:revision>
  <dc:subject/>
  <dc:title>TITLE</dc:title>
</cp:coreProperties>
</file>