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734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73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6840" y="730080"/>
            <a:ext cx="4864320" cy="364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624560"/>
            <a:ext cx="548640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924552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924552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CE57-03D0-4D1D-95B7-60995A5EE9B5}" type="slidenum">
              <a:rPr b="0" lang="es-UY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96840" y="730080"/>
            <a:ext cx="4864320" cy="36496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624560"/>
            <a:ext cx="548640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4760" y="924552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4A28-8516-484D-B2FA-4C610BB934B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E458-1A20-45EF-8030-F94DD8934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4187-3951-4A9C-89CC-951F86F2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264E-73BC-4D86-9618-DCFF2019A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736C-174F-4473-BE44-F38034E2E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6A07-1F85-4764-BE5C-71BE9D173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E075-899B-41C6-A26C-EBFC33D5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3F41-89AA-4C2E-B858-AFD791F2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653D-9654-4F13-BAC9-24E2A518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CED8-0686-4BF6-A44A-2FA7A233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CA14-2788-4057-ACE1-B37B1A1E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1612-D46A-4152-BEC5-23D361F7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F90F-99D7-44D0-8A62-F3C56F61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BAD1E-0775-42EE-93A3-7F87CCEB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65F5-F8EA-4BC6-9D16-EA16ED67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6A06-FB87-46EF-BDE2-AF457AFF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19FB-0886-444E-885C-087B4643D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DA08-1BB1-4043-8A17-6D7517112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CEAC-BE2C-4CD7-96D5-16D4C8DF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C837-8A4B-4104-B743-3BB194E0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C93E-9F69-4F74-9DDC-F31BFFBA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F8C5-4CA0-4836-B212-7867BA6B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E496-5679-4683-A7AA-4A30EA73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1578-9B23-42B7-9113-BD66B100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D9D3-04B3-4273-AB84-B89030A9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9457-7BEE-4ABC-AD4C-91DDA2579A4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lika 1" descr=""/>
          <p:cNvPicPr/>
          <p:nvPr/>
        </p:nvPicPr>
        <p:blipFill>
          <a:blip r:embed="rId2"/>
          <a:stretch/>
        </p:blipFill>
        <p:spPr>
          <a:xfrm>
            <a:off x="0" y="95400"/>
            <a:ext cx="9144000" cy="666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lika 1" descr=""/>
          <p:cNvPicPr/>
          <p:nvPr/>
        </p:nvPicPr>
        <p:blipFill>
          <a:blip r:embed="rId2"/>
          <a:stretch/>
        </p:blipFill>
        <p:spPr>
          <a:xfrm>
            <a:off x="0" y="95400"/>
            <a:ext cx="9144000" cy="6667200"/>
          </a:xfrm>
          <a:prstGeom prst="rect">
            <a:avLst/>
          </a:prstGeom>
          <a:ln w="0">
            <a:noFill/>
          </a:ln>
        </p:spPr>
      </p:pic>
      <p:pic>
        <p:nvPicPr>
          <p:cNvPr id="43" name="Slika 7" descr=""/>
          <p:cNvPicPr/>
          <p:nvPr/>
        </p:nvPicPr>
        <p:blipFill>
          <a:blip r:embed="rId3"/>
          <a:stretch/>
        </p:blipFill>
        <p:spPr>
          <a:xfrm>
            <a:off x="6297480" y="4863960"/>
            <a:ext cx="1212840" cy="908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ndalus"/>
                <a:ea typeface="Andalu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ndalus"/>
                <a:ea typeface="Andalus"/>
              </a:rPr>
              <a:t>Stična, 02. oktober 2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9135-E16F-40AF-92C2-FEE26BFC110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5545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ndalus"/>
                <a:ea typeface="Andalus"/>
              </a:rPr>
              <a:t>VABI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6184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Prijatelji dragi, svet je okrogel in nekam hitro se vr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Komaj človek okrog se obrne, se štiridesetkrat zako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Kakor nihče, tako niti jaz nisem imuna na to, kar hoče ča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zato vas vabim, da skup‘ proslavimo, skup‘ eno dobro fešto nar‘dimo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Za vsakogar se našel bo krožnik dobrot, pa kak kozarček in kapljica not‘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Verjemite, da mi bo v največje veselje, da z vami bom skupaj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To so moje želje, saj – kdo bi lahko si mogel kaj več želeti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Kot v najboljši družbi svoje žlahte se dobro imeti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Pridite torej </a:t>
            </a:r>
            <a:r>
              <a:rPr b="1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25. oktobra ob 17.00 uri 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našo  domačijo</a:t>
            </a: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z veseljem vas pričakuj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                                               </a:t>
            </a: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Melita Žlajpa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ndalus"/>
                <a:ea typeface="Andalus"/>
              </a:rPr>
              <a:t>Stična, 02. oktober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elita</cp:lastModifiedBy>
  <cp:lastPrinted>2014-10-02T08:33:03Z</cp:lastPrinted>
  <dcterms:modified xsi:type="dcterms:W3CDTF">2014-10-02T08:47:27Z</dcterms:modified>
  <cp:revision>72</cp:revision>
  <dc:subject/>
  <dc:title>TITLE</dc:title>
</cp:coreProperties>
</file>