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734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73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4320" cy="364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624560"/>
            <a:ext cx="548640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94EB-BAB9-4733-A2D0-50B0713430C2}" type="slidenum">
              <a:rPr b="0" lang="es-UY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4320" cy="36496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624560"/>
            <a:ext cx="54864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3360-4E8D-4D05-9F25-A56C0C0AEC9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D55E-C4B7-4E92-ACB3-3978BF766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02BB-9FB0-48DD-9801-A7CA1A49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6F08-9B26-4917-8FC5-1A75F07E3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A547-41EC-4978-9D9A-6301528D6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3E12-267F-48C8-B93F-871D59996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9DBE-9851-42FC-844B-E22E56CF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4071-CCA4-48C2-91EF-ADE9EBF3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7787-A4C1-4C7C-82E5-DEE6D981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DD97-D40A-4D67-AB35-D897E765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0FA8-8D4A-4032-8D2B-0675BA4A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E2F5-74A6-4A28-9347-523E4892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CED0-C39B-42F3-BEE4-5C0907AB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37D7-46DD-42FD-9014-B3DF3DC4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008C-67AD-4774-9618-8564365B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EED9-CA4E-48C5-BF2E-C6C1056C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DBE1-64C9-4002-819C-224EB0563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30F4-4023-435E-9018-66D4415DE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E288-EEF6-4495-8CCF-656791B3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B868-E61B-408F-B7E7-5C741FD3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4026-69F6-4E82-9DC0-2D3E1B9C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4C44-97B8-4BBC-9244-0D7B6360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B155-9C03-44EB-85E1-47580823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472B-4C55-4489-B47E-B712FF37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497F-A9FD-43E8-B433-AE3E8A29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3FCB-AB45-4E4C-9A73-11704092295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lika 1" descr=""/>
          <p:cNvPicPr/>
          <p:nvPr/>
        </p:nvPicPr>
        <p:blipFill>
          <a:blip r:embed="rId2"/>
          <a:stretch/>
        </p:blipFill>
        <p:spPr>
          <a:xfrm>
            <a:off x="0" y="95400"/>
            <a:ext cx="9144000" cy="666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lika 1" descr=""/>
          <p:cNvPicPr/>
          <p:nvPr/>
        </p:nvPicPr>
        <p:blipFill>
          <a:blip r:embed="rId2"/>
          <a:stretch/>
        </p:blipFill>
        <p:spPr>
          <a:xfrm>
            <a:off x="0" y="95400"/>
            <a:ext cx="9144000" cy="6667200"/>
          </a:xfrm>
          <a:prstGeom prst="rect">
            <a:avLst/>
          </a:prstGeom>
          <a:ln w="0">
            <a:noFill/>
          </a:ln>
        </p:spPr>
      </p:pic>
      <p:pic>
        <p:nvPicPr>
          <p:cNvPr id="43" name="Slika 7" descr=""/>
          <p:cNvPicPr/>
          <p:nvPr/>
        </p:nvPicPr>
        <p:blipFill>
          <a:blip r:embed="rId3"/>
          <a:stretch/>
        </p:blipFill>
        <p:spPr>
          <a:xfrm>
            <a:off x="6297480" y="4863960"/>
            <a:ext cx="1212840" cy="908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ndalus"/>
                <a:ea typeface="Andalu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ndalus"/>
                <a:ea typeface="Andalus"/>
              </a:rPr>
              <a:t>Stična, 02. oktober 2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D17F-0DA8-432F-9E85-98B6AE3CD49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5545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ndalus"/>
                <a:ea typeface="Andalus"/>
              </a:rPr>
              <a:t>VABI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6184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Prijatelji dragi, svet je okrogel in nekam hitro se vr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Komaj človek okrog se obrne, se štiridesetkrat zako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Kakor nihče, tako niti jaz nisem imuna na to, kar hoče ča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zato vas vabim, da skup‘ proslavimo, skup‘ eno dobro fešto nar‘dim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Za vsakogar se našel bo krožnik dobrot, pa kak kozarček in kapljica not‘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Verjemite, da mi bo v največje veselje, da z vami bom skupa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To so moje želje, saj – kdo bi lahko si mogel kaj več želet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Kot v najboljši družbi svoje žlahte se dobro imeti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Pridite torej </a:t>
            </a:r>
            <a:r>
              <a:rPr b="1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25. oktobra ob 17.00 uri 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našo  domačijo</a:t>
            </a: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z veseljem vas pričakuj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                                               </a:t>
            </a: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Melita Žlajpa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ndalus"/>
                <a:ea typeface="Andalus"/>
              </a:rPr>
              <a:t>Stična, 02. oktober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elita</cp:lastModifiedBy>
  <cp:lastPrinted>2014-10-02T08:33:03Z</cp:lastPrinted>
  <dcterms:modified xsi:type="dcterms:W3CDTF">2014-10-02T08:47:27Z</dcterms:modified>
  <cp:revision>72</cp:revision>
  <dc:subject/>
  <dc:title>TITLE</dc:title>
</cp:coreProperties>
</file>