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FE3-53A5-425D-9DF3-2AFEA475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EFA-6F4D-477A-A972-F7FBF979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0AB-4B49-4E8C-A7C0-2CB12A24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31E-B3CF-4D79-80B4-496E35F0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045-5BBB-4642-9B2A-7F1799D4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786-BE03-4AEE-A13A-B1415A4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D96-5B88-4AE6-A3A9-D264FF22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851-1A65-4FCA-BB4F-83FE6404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743-FBB2-4B2D-9721-F259C406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CA6-5DB6-4965-959B-F145B4C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7CD-B717-4A91-B892-3F709CA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F2C-8B85-45C0-97F2-4A5BE006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67A-EF5E-4BB4-9C7C-636398A536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Harrington"/>
                <a:ea typeface="Calibri"/>
              </a:rPr>
              <a:t>VABILO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bava, smeh in razveseljevanje bližnjih v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jo življenjsko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Življenje je lovljenje ravnotežja med odgovornostmi, delom, p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itkom in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Vse ima svoje mesto v velikem zemljevidu življenja. Zato se je treba nagraditi s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som za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Ta te napolni z energijo, ki jo potrebuješ, da se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 lahko obnavlja.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to te prisr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no vabim, da se poveseliš z mano - ob mojem prihajaj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em 40. rojstnem dnevu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ne 23. oktobra 2014 ob 14.10 minut.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Se dobimo na parkiriš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u za osnovnošolsko šolo in skupaj odidemo v neznano.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Melita Žlajp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dcterms:modified xsi:type="dcterms:W3CDTF">2014-10-13T09:35:48Z</dcterms:modified>
  <cp:revision>27</cp:revision>
  <dc:subject/>
  <dc:title>TITLE</dc:title>
</cp:coreProperties>
</file>