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144000"/>
  <p:notesSz cx="6858000" cy="97345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3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60640" y="730080"/>
            <a:ext cx="2736720" cy="364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24560"/>
            <a:ext cx="5486400" cy="43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4552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4552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22C7B-2347-443E-B6C3-421C47DB7E0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2060640" y="730080"/>
            <a:ext cx="2736720" cy="364968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624560"/>
            <a:ext cx="548640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3 Marcador de número de diapositiva"/>
          <p:cNvSpPr/>
          <p:nvPr/>
        </p:nvSpPr>
        <p:spPr>
          <a:xfrm>
            <a:off x="3884760" y="924552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81B8F-867E-489E-A007-1A7A9224BF2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EB40-C64C-4561-89D3-78E502464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8AD4-50E3-4BF8-B929-017E11771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2F4F-5FC1-4734-9BC5-6FF192D25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E3F4-D560-4671-9FA3-11DE034F2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481F-9DC5-4C04-B39B-785C685BE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8547-90C0-4D02-940E-6681A30EB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9557-D1B5-49C9-AA31-F24EFCE17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1622-176B-4A3A-B7BD-5F0E28C54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C292-1B28-4738-9AA8-77300746F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2DA7-832D-4122-B540-924237C3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339B-DE04-4885-A5E3-669A478A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1DF5-E877-43FF-BA48-7FDBD897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9D01D-478D-48FD-BEBF-EC2FC0885E4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8280" y="347400"/>
            <a:ext cx="415908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VABI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8280" y="1595520"/>
            <a:ext cx="4638600" cy="64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Prijatelji dragi, svet je okrog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in nekam hitro se vrt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Komaj človek okrog se obrn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se štiridesetkrat zakota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Kakor nihče, tako niti ja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nisem imuna na to, kar hoče č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Zato vas vabim, da skup‘ proslavimo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skup‘ eno dobro fešto nar‘dimo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Za vsakogar se našel bo krožnik dobro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pa kak kozarček in kapljica not‘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Verjemite, da mi bo v največje veselj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da z vami bom skupaj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To so moje želj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saj – kdo bi lahko si mogel kaj več želeti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Kot v najboljši družbi svoje žlahte se dobro imeti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ndalus"/>
                <a:ea typeface="Andalus"/>
              </a:rPr>
              <a:t>Pridite torej </a:t>
            </a:r>
            <a:r>
              <a:rPr b="1" lang="sl-SI" sz="1600" spc="-1" strike="noStrike">
                <a:solidFill>
                  <a:srgbClr val="000000"/>
                </a:solidFill>
                <a:latin typeface="Andalus"/>
                <a:ea typeface="Andalus"/>
              </a:rPr>
              <a:t>25. oktobra ob 17.00 uri na Kastelčevo domačijo</a:t>
            </a:r>
            <a:r>
              <a:rPr b="0" lang="sl-SI" sz="1600" spc="-1" strike="noStrike">
                <a:solidFill>
                  <a:srgbClr val="000000"/>
                </a:solidFill>
                <a:latin typeface="Andalus"/>
                <a:ea typeface="Andalus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ndalus"/>
                <a:ea typeface="Andalus"/>
              </a:rPr>
              <a:t>z veseljem vas pričakuj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ndalus"/>
                <a:ea typeface="Andalus"/>
              </a:rPr>
              <a:t>                                               </a:t>
            </a:r>
            <a:r>
              <a:rPr b="0" lang="sl-SI" sz="1600" spc="-1" strike="noStrike">
                <a:solidFill>
                  <a:srgbClr val="000000"/>
                </a:solidFill>
                <a:latin typeface="Andalus"/>
                <a:ea typeface="Andalus"/>
              </a:rPr>
              <a:t>Melita Žlajpa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Andalus"/>
                <a:ea typeface="Andalus"/>
              </a:rPr>
              <a:t>Stična, 02. oktober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Melita</cp:lastModifiedBy>
  <cp:lastPrinted>2014-10-02T05:10:24Z</cp:lastPrinted>
  <dcterms:modified xsi:type="dcterms:W3CDTF">2014-10-02T05:18:05Z</dcterms:modified>
  <cp:revision>60</cp:revision>
  <dc:subject/>
  <dc:title>TITLE</dc:title>
</cp:coreProperties>
</file>