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1C9-8E97-4DAE-AB31-2CEC361E680C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8E8E-13C9-4879-891E-4DB4D8AA36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F2D-CE57-4F7F-8F2A-48B2C70A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A9C-3AF8-453A-BAC6-622CC5FB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3E3-2288-4DBC-817D-76885457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C8F-F959-4DC7-B883-E4D13DF1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E129-0A42-4B4F-8314-DAD93D17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243A-FDB0-4DAB-966D-8349BDAC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581-2A05-467F-9810-6EA1984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4D6A-881E-4916-8A2D-C58C099A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C04E-B434-440D-9405-9B0A1939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242D-C725-46A8-B113-5C6DDD1C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1A29-AC59-4D06-9D8B-07F6C8AE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6DA-09C0-432B-8F30-02841B95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CDDA-79B8-41E3-81BB-AE1EAAE4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B055-1F57-400A-9E13-A3049154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E938-E8AE-49F8-98D1-8C9D278E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07DF-B110-429D-A872-8516D8AD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8B0A-EA33-439D-95B9-CC752DAC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17F-B10C-4896-BD9F-EFA5A3C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648-4F3C-4FC9-85DF-8A745E32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0F8-146B-4CD9-AD96-FB0A02A0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F62-B181-4B61-B019-DDD1D2EC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8BC-BB18-4A0D-B4C5-746A7CD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8D2-5518-4E2B-8A8D-BC7B666A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FEE-664D-45A7-A688-0F3A36CD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1AF3-8596-48D2-9AE0-EF25D6FFA0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017B-D048-4923-8D43-F1D9209CDB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6184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 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 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 nisem imuna na to, kar hoče ča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 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 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 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 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našo 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02T08:47:27Z</dcterms:modified>
  <cp:revision>72</cp:revision>
  <dc:subject/>
  <dc:title>TITLE</dc:title>
</cp:coreProperties>
</file>