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4E2-53CB-40B9-AFE9-755A2825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32D-D404-4FC8-8A54-D7E00115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894-0D7B-4B6B-8692-0A5BA4D9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C88-3E91-4FEF-B199-1E446720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F220-D575-4CE5-BC7F-03468F4F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F54A-274C-4645-9E68-9D2AF8EE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03DA-9E0A-49CE-A38C-41758AF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FC03-C45A-46D3-BBD1-2B747640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B8A9-F191-4A3A-9092-3329C5CF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9312-52C8-40B0-98EA-96DAA407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6B48-B5C1-4AA4-A658-9B758E4A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951-6023-48B0-AE26-5D1DBB91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C925-148F-42C0-8122-7B6B8E1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5F23-78E0-4D10-B447-73EDDA61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23B3-4E44-4C26-AE46-14BB777E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F3D0-C5BB-4E36-95DE-BAD1CD04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4DD0-6816-4F7C-99C8-40E3B138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067-0FBD-4530-AA5D-7B7E7DC5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E8B-495D-4390-BEB6-024A683C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6C2-A30A-414D-B742-0C8B0D70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88F-A3B4-4796-9627-5038BDF1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689-4D83-44C7-9A79-F539D3DC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AC7-950F-4385-953E-0222ABDA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316-780B-4357-B6CE-B246F8E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51F5-44EE-427E-ACEF-5EDD1ABA95E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2AD8-8918-4454-8040-E621B76AB10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). L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ahko je rečni ali srajčni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rokav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464520" cy="431820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0).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Žaba je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zaba_zelena_fotka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854680" cy="431820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0" name="zelena%20_zaba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2286000" cy="165096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1). Sinji……je največja živ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2" name="kit_sinji_fotka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905440" cy="4318200"/>
          </a:xfrm>
          <a:prstGeom prst="rect">
            <a:avLst/>
          </a:prstGeom>
          <a:ln w="57240">
            <a:solidFill>
              <a:srgbClr val="c9ddf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2). Reka , ki teče skozi Ptuj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4" name="Petovio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7010640" cy="3651120"/>
          </a:xfrm>
          <a:prstGeom prst="rect">
            <a:avLst/>
          </a:prstGeom>
          <a:ln w="57240">
            <a:solidFill>
              <a:srgbClr val="fac16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3). Proces pri katerem voda izginja v zrak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voda_para_fotka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829480" cy="431784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4). Mlaka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je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…… vod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8" name="mlaka_okolje_fotka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553440" cy="428148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47960" y="1066680"/>
            <a:ext cx="4190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5). Potok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je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…… vod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0" name="potok_fotka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3458880" cy="529596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7).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Bel cvet, ki raste na vodi je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lokvanj_beli_fotka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438960" cy="431784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7). Podvodni špor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potapljac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5397480" cy="3670200"/>
          </a:xfrm>
          <a:prstGeom prst="rect">
            <a:avLst/>
          </a:prstGeom>
          <a:ln w="57240">
            <a:solidFill>
              <a:srgbClr val="c9ddf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48320" y="106632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18). Padajoča tekoča voda iz višine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slap_savica_fotka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3619440" cy="540072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2). P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reko reke je speljan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3" name="SlikaSolkanskiMost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61320" cy="401328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76560" y="1294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3). Objekt za zajemanje vode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5" name="vodnjak_veselja" descr=""/>
          <p:cNvPicPr/>
          <p:nvPr/>
        </p:nvPicPr>
        <p:blipFill>
          <a:blip r:embed="rId1"/>
          <a:stretch/>
        </p:blipFill>
        <p:spPr>
          <a:xfrm>
            <a:off x="781200" y="1066680"/>
            <a:ext cx="4060800" cy="541044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2a3d7a"/>
                </a:solidFill>
                <a:latin typeface="Times New Roman"/>
              </a:rPr>
              <a:t>4). …...ima levi in desni breg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bregova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626080" cy="3797280"/>
          </a:xfrm>
          <a:prstGeom prst="rect">
            <a:avLst/>
          </a:prstGeom>
          <a:ln w="57240">
            <a:solidFill>
              <a:srgbClr val="fac16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5). Velika slana vod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morje_okolje_fotka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476760" cy="4630680"/>
          </a:xfrm>
          <a:prstGeom prst="rect">
            <a:avLst/>
          </a:prstGeom>
          <a:ln w="57240">
            <a:solidFill>
              <a:srgbClr val="b0ae6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6). Bela vodna ptic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1" name="galeb_rumenonogi_fotka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765760" cy="431784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7). Vodni špor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3" name="plavalci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740560" cy="431784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8).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Ladji na paro pravimo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5" name="parnik_crno_bel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969160" cy="4317840"/>
          </a:xfrm>
          <a:prstGeom prst="rect">
            <a:avLst/>
          </a:prstGeom>
          <a:ln w="57240">
            <a:solidFill>
              <a:srgbClr val="5b524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9). Velika stoječa voda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jezero_bled_fotka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578640" cy="4318200"/>
          </a:xfrm>
          <a:prstGeom prst="rect">
            <a:avLst/>
          </a:prstGeom>
          <a:ln w="57240">
            <a:solidFill>
              <a:srgbClr val="2a3d7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1-24T18:09:13Z</dcterms:modified>
  <cp:revision>16</cp:revision>
  <dc:subject/>
  <dc:title>1). Lahko je rečni ali srajčni</dc:title>
</cp:coreProperties>
</file>