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873-34F2-4BCA-B0F4-3BAA117B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AC1-721F-4216-8591-9A00333B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B6D-F80E-4B44-AE7D-9472BC9D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C1C-D452-4CDA-BDBB-E2AED5AE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0815-54D8-4718-BFC9-145902F6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DA46-A600-4534-8749-FA35B93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D820-B92C-4A77-B2AF-C60B7944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BE14-B54C-4F8F-A8EB-0EE8AA49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0858-092F-4F47-9BFD-3A915CC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BC61-20FE-4FAD-A7D9-B7D12FEA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8E07-45B5-473C-BDB1-AF3AFA9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DF4-2527-4E65-850C-89B5121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B413-D5FA-42CF-949F-6811E61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C625-28B0-4B3B-9423-315B7BB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D1AA-84A3-45D8-8F22-A92A5602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C527-6771-4DC7-B5EE-68496B1C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CD8A-8FF9-4D23-B0EA-9ECB0314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6F3-D20C-4C1F-A38F-C04E5B0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90E-B088-4525-8D27-484EA9CA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19F-5FF5-4143-9308-906AA5F8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D09-14CF-46BB-89BF-7612D32F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F1F-955D-4F0D-8AC4-4847799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763-12E4-4059-8741-B139753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AE6-B526-4D79-9861-C1BDE4A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15C7-0E3C-450F-8903-5F9241EFBD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7890-9436-41E5-9B7D-02714B5F46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599840"/>
            <a:ext cx="8353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c00e4"/>
                </a:solidFill>
                <a:latin typeface="Verdana"/>
              </a:rPr>
              <a:t>HIDROELETRAR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Prečrpalna hidroelektrar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4357800" cy="464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5508720" y="1844640"/>
            <a:ext cx="3456000" cy="360360"/>
          </a:xfrm>
          <a:prstGeom prst="borderCallout1">
            <a:avLst>
              <a:gd name="adj1" fmla="val 18750"/>
              <a:gd name="adj2" fmla="val -8333"/>
              <a:gd name="adj3" fmla="val 413217"/>
              <a:gd name="adj4" fmla="val -72439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Verdana"/>
              </a:rPr>
              <a:t>Fanciscova turbina poganj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08720" y="1341360"/>
            <a:ext cx="3456000" cy="360360"/>
          </a:xfrm>
          <a:prstGeom prst="borderCallout1">
            <a:avLst>
              <a:gd name="adj1" fmla="val 18750"/>
              <a:gd name="adj2" fmla="val -8333"/>
              <a:gd name="adj3" fmla="val 357708"/>
              <a:gd name="adj4" fmla="val -71013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ktrični gener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2349360"/>
            <a:ext cx="3456000" cy="865440"/>
          </a:xfrm>
          <a:prstGeom prst="borderCallout1">
            <a:avLst>
              <a:gd name="adj1" fmla="val 18750"/>
              <a:gd name="adj2" fmla="val -8333"/>
              <a:gd name="adj3" fmla="val 280185"/>
              <a:gd name="adj4" fmla="val -71013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 so centrifugalne črpalke odklopljene deluje postrojenje kot navadna hidroelektra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08720" y="3357720"/>
            <a:ext cx="3456000" cy="1296720"/>
          </a:xfrm>
          <a:prstGeom prst="borderCallout1">
            <a:avLst>
              <a:gd name="adj1" fmla="val 18750"/>
              <a:gd name="adj2" fmla="val -8333"/>
              <a:gd name="adj3" fmla="val 63157"/>
              <a:gd name="adj4" fmla="val -75240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 vključijo sklopko, turbina požene vodne črpalke. Generator se priključi na električno omrežje in deluje kot motor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08720" y="4797360"/>
            <a:ext cx="34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7953"/>
              <a:gd name="adj5" fmla="val -331509"/>
              <a:gd name="adj6" fmla="val -9572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tok vode v turbino se zapr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08720" y="5516640"/>
            <a:ext cx="344628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49837"/>
              <a:gd name="adj5" fmla="val -142699"/>
              <a:gd name="adj6" fmla="val -99449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pre pa se zasun na črpalki in voda ponovno priteka v j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Hidroelektrarna na bibavic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155760" cy="5068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732720" y="400536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39" y="4000"/>
                </a:moveTo>
                <a:lnTo>
                  <a:pt x="22920" y="4000"/>
                </a:lnTo>
                <a:lnTo>
                  <a:pt x="22920" y="-15188"/>
                </a:lnTo>
                <a:lnTo>
                  <a:pt x="-23829" y="-34481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por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5640" y="1628640"/>
            <a:ext cx="158436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33638"/>
                </a:lnTo>
                <a:lnTo>
                  <a:pt x="34370" y="4404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5640" y="400536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33638"/>
                </a:lnTo>
                <a:lnTo>
                  <a:pt x="34370" y="4404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1658880"/>
            <a:ext cx="2303280" cy="1409760"/>
          </a:xfrm>
          <a:prstGeom prst="borderCallout2">
            <a:avLst>
              <a:gd name="adj1" fmla="val 18750"/>
              <a:gd name="adj2" fmla="val -8333"/>
              <a:gd name="adj3" fmla="val 8106"/>
              <a:gd name="adj4" fmla="val -52310"/>
              <a:gd name="adj5" fmla="val 120495"/>
              <a:gd name="adj6" fmla="val -103171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ebna turbina, ki jih lahko žene vodni tok, ki priteka zdaj iz ene zdaj iz druge smer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Dravske elektrar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136000" cy="5065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84360" y="234936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av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40000" y="126828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uh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112536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35640" y="1773360"/>
            <a:ext cx="194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iborski o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236000" y="278136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Verdana"/>
              </a:rPr>
              <a:t>For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2000" y="386064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uze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16360" y="494172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žba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16360" y="4653000"/>
            <a:ext cx="1150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latolič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Hidroelektra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760" y="2512800"/>
            <a:ext cx="822960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Hidroelektrarne so objekti, v katerih se potencialna energija vode pretvarja s pomočjo vodnih in električnih generatorjev v električno energij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Sestavni del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480360" cy="43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7740720" y="1628640"/>
            <a:ext cx="121896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105990"/>
              <a:gd name="adj5" fmla="val 609092"/>
              <a:gd name="adj6" fmla="val -20963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ina i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56360" y="5950080"/>
            <a:ext cx="273672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34861"/>
              <a:gd name="adj5" fmla="val -262388"/>
              <a:gd name="adj6" fmla="val -6850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tonski tlačni cevov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40720" y="2349360"/>
            <a:ext cx="1218960" cy="35892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75523"/>
              <a:gd name="adj5" fmla="val 347347"/>
              <a:gd name="adj6" fmla="val -111981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oj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40720" y="2852640"/>
            <a:ext cx="1218960" cy="107964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-40495"/>
              <a:gd name="adj5" fmla="val 106324"/>
              <a:gd name="adj6" fmla="val -7148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sokonapetostni električni vo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740720" y="4064040"/>
            <a:ext cx="1218960" cy="588960"/>
          </a:xfrm>
          <a:prstGeom prst="borderCallout2">
            <a:avLst>
              <a:gd name="adj1" fmla="val 18750"/>
              <a:gd name="adj2" fmla="val -8333"/>
              <a:gd name="adj3" fmla="val 19407"/>
              <a:gd name="adj4" fmla="val -55078"/>
              <a:gd name="adj5" fmla="val 104314"/>
              <a:gd name="adj6" fmla="val -76041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ztok 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80000" y="5950080"/>
            <a:ext cx="121896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74481"/>
              <a:gd name="adj5" fmla="val -696458"/>
              <a:gd name="adj6" fmla="val -14531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por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5950080"/>
            <a:ext cx="1782720" cy="35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23" y="6881"/>
                </a:moveTo>
                <a:lnTo>
                  <a:pt x="22773" y="6881"/>
                </a:lnTo>
                <a:lnTo>
                  <a:pt x="22773" y="-67954"/>
                </a:lnTo>
                <a:lnTo>
                  <a:pt x="17272" y="-142981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šetke in fil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Od vodnega kolesa do turb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779480"/>
            <a:ext cx="8229600" cy="417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4643280" y="1341360"/>
            <a:ext cx="2089440" cy="35892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50379"/>
              <a:gd name="adj5" fmla="val 236282"/>
              <a:gd name="adj6" fmla="val -9954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da čez k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32000" y="6237360"/>
            <a:ext cx="236700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172166"/>
              <a:gd name="adj5" fmla="val -227875"/>
              <a:gd name="adj6" fmla="val 244467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da pod koles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Delovanje turb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727360" y="1600200"/>
            <a:ext cx="3687840" cy="45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8" name=""/>
          <p:cNvSpPr/>
          <p:nvPr/>
        </p:nvSpPr>
        <p:spPr>
          <a:xfrm>
            <a:off x="7093080" y="4354560"/>
            <a:ext cx="18000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120"/>
              <a:gd name="adj5" fmla="val 395671"/>
              <a:gd name="adj6" fmla="val -132009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ztok 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3357720"/>
            <a:ext cx="178272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68032"/>
              <a:gd name="adj5" fmla="val 127402"/>
              <a:gd name="adj6" fmla="val -13419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inska g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93080" y="3860640"/>
            <a:ext cx="179532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64458"/>
              <a:gd name="adj5" fmla="val 270194"/>
              <a:gd name="adj6" fmla="val -230856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tok 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93080" y="2492280"/>
            <a:ext cx="179532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59856"/>
              <a:gd name="adj5" fmla="val 66666"/>
              <a:gd name="adj6" fmla="val -117504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gneti na rotor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93080" y="1700280"/>
            <a:ext cx="179532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91421"/>
              <a:gd name="adj5" fmla="val 172175"/>
              <a:gd name="adj6" fmla="val -182050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vitje na stator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Franciscova reakcijska turb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413080" y="1706400"/>
            <a:ext cx="431640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Kaplanova aksialna turb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413080" y="1706400"/>
            <a:ext cx="431640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c00e4"/>
                </a:solidFill>
                <a:latin typeface="Verdana"/>
              </a:rPr>
              <a:t>Peltonova impulzna turb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413080" y="1706400"/>
            <a:ext cx="431640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00e4"/>
                </a:solidFill>
                <a:latin typeface="Verdana"/>
              </a:rPr>
              <a:t>Gener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235240" y="1706400"/>
            <a:ext cx="4672080" cy="43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7020000" y="101124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39" y="4000"/>
                </a:moveTo>
                <a:lnTo>
                  <a:pt x="22920" y="4000"/>
                </a:lnTo>
                <a:lnTo>
                  <a:pt x="22920" y="48544"/>
                </a:lnTo>
                <a:lnTo>
                  <a:pt x="-12034" y="9309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r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119700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40556"/>
                </a:lnTo>
                <a:lnTo>
                  <a:pt x="52463" y="77063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gneti rotor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2997360"/>
            <a:ext cx="158436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39" y="4000"/>
                </a:moveTo>
                <a:lnTo>
                  <a:pt x="-1320" y="4000"/>
                </a:lnTo>
                <a:lnTo>
                  <a:pt x="-1320" y="34763"/>
                </a:lnTo>
                <a:lnTo>
                  <a:pt x="63999" y="65644"/>
                </a:lnTo>
              </a:path>
            </a:pathLst>
          </a:cu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vitje stator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9040" y="6122880"/>
            <a:ext cx="309060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4189"/>
              <a:gd name="adj5" fmla="val -161537"/>
              <a:gd name="adj6" fmla="val -46740"/>
            </a:avLst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izvedena elektr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1T08:16:30Z</dcterms:created>
  <dc:creator>Ivo Zupanic</dc:creator>
  <dc:description/>
  <dc:language>en-US</dc:language>
  <cp:lastModifiedBy>Ivo</cp:lastModifiedBy>
  <dcterms:modified xsi:type="dcterms:W3CDTF">2004-02-19T08:19:55Z</dcterms:modified>
  <cp:revision>16</cp:revision>
  <dc:subject/>
  <dc:title>ZGRADBA RACUNALNIKA</dc:title>
</cp:coreProperties>
</file>