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52D-EC3F-4B4A-A2AC-26C454DB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B36-8C4E-4098-A1D6-0AA84B4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A17-83F7-4574-8EA5-394030C9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DC2-D760-465B-9BC6-B296DE2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413-E1E1-443C-BD3C-8D14ED71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58FA-3E1D-41B0-A0F7-9FB0124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3FF-0EEA-485F-B6E2-56424EA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5DC-F57F-41C8-89A7-779DFBE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F33-9413-4822-B37B-B129102F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D301-2B5B-441D-A15F-398ED00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B6DE-A51D-47AA-9F76-BD082FA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209-6329-4B55-84B3-6A8F403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09B6-9BC2-4F96-A916-C683FB4A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E03E-169E-4F5F-87FB-277D25A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D60-765B-4D80-97DC-9D706162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756-AB1C-4A76-B39F-9CDD5933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360-D9C2-484C-8B14-C5D5B353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BF0-DC4C-4A96-8073-FD6AD22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46C-44F2-44B2-A195-9B19691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EB5-02C1-48B5-B5BA-8CB2665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962-0F5F-4E44-8E1D-1AC29E4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A4D-31E4-4462-AAB5-7E20AF8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366-B848-4CE1-B6C5-76AA04B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BC2-7232-4434-A3C2-26A16CD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C5C-E31E-444B-B4DB-1C81FFB2E972}" type="slidenum">
              <a:rPr b="0" lang="sl-SI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22B-B8BC-4ED1-B14F-06FC18F413A5}" type="slidenum"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90680"/>
            <a:ext cx="708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333333"/>
                </a:solidFill>
                <a:latin typeface="Times New Roman"/>
              </a:rPr>
              <a:t>GOZDOVI SO BOGASTV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gozd_zima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238560" cy="4317840"/>
          </a:xfrm>
          <a:prstGeom prst="rect">
            <a:avLst/>
          </a:prstGeom>
          <a:ln w="0">
            <a:noFill/>
          </a:ln>
        </p:spPr>
      </p:pic>
      <p:pic>
        <p:nvPicPr>
          <p:cNvPr id="94" name="gozd_hlodovina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4800600" cy="35942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vrsta_macesen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3568680" cy="3593880"/>
          </a:xfrm>
          <a:prstGeom prst="rect">
            <a:avLst/>
          </a:prstGeom>
          <a:ln w="0">
            <a:noFill/>
          </a:ln>
        </p:spPr>
      </p:pic>
      <p:pic>
        <p:nvPicPr>
          <p:cNvPr id="128" name="vrsta_macesen_les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vrsta_oreh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267440" cy="3583080"/>
          </a:xfrm>
          <a:prstGeom prst="rect">
            <a:avLst/>
          </a:prstGeom>
          <a:ln w="0">
            <a:noFill/>
          </a:ln>
        </p:spPr>
      </p:pic>
      <p:pic>
        <p:nvPicPr>
          <p:cNvPr id="132" name="vrsta_oreh_les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vrsta_kostanj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454200" cy="3594240"/>
          </a:xfrm>
          <a:prstGeom prst="rect">
            <a:avLst/>
          </a:prstGeom>
          <a:ln w="0">
            <a:noFill/>
          </a:ln>
        </p:spPr>
      </p:pic>
      <p:pic>
        <p:nvPicPr>
          <p:cNvPr id="136" name="vrsta_kostanj_les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vrsta_gaber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343400" cy="3505320"/>
          </a:xfrm>
          <a:prstGeom prst="rect">
            <a:avLst/>
          </a:prstGeom>
          <a:ln w="0">
            <a:noFill/>
          </a:ln>
        </p:spPr>
      </p:pic>
      <p:pic>
        <p:nvPicPr>
          <p:cNvPr id="140" name="vrsta_gaber_les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Hvala za sodelovanj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gozd_mešan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9306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kšno vrsto gozda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gozd_mešan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5930640" cy="36907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vrsta_smreka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2654280" cy="3593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00" name="vrsta_smreka_les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5" name="vrsta_bukev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3848040" cy="3593880"/>
          </a:xfrm>
          <a:prstGeom prst="rect">
            <a:avLst/>
          </a:prstGeom>
          <a:ln w="0">
            <a:noFill/>
          </a:ln>
        </p:spPr>
      </p:pic>
      <p:pic>
        <p:nvPicPr>
          <p:cNvPr id="106" name="vrsta_bukev_les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vrsta_bor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3035160" cy="3593880"/>
          </a:xfrm>
          <a:prstGeom prst="rect">
            <a:avLst/>
          </a:prstGeom>
          <a:ln w="0">
            <a:noFill/>
          </a:ln>
        </p:spPr>
      </p:pic>
      <p:pic>
        <p:nvPicPr>
          <p:cNvPr id="108" name="vrsta_bor_les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rsta_hrast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4444920" cy="3593880"/>
          </a:xfrm>
          <a:prstGeom prst="rect">
            <a:avLst/>
          </a:prstGeom>
          <a:ln w="0">
            <a:noFill/>
          </a:ln>
        </p:spPr>
      </p:pic>
      <p:pic>
        <p:nvPicPr>
          <p:cNvPr id="112" name="vrsta_hrast_les" descr=""/>
          <p:cNvPicPr/>
          <p:nvPr/>
        </p:nvPicPr>
        <p:blipFill>
          <a:blip r:embed="rId3"/>
          <a:stretch/>
        </p:blipFill>
        <p:spPr>
          <a:xfrm>
            <a:off x="6019920" y="320040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vrsta_jelka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2793960" cy="3593880"/>
          </a:xfrm>
          <a:prstGeom prst="rect">
            <a:avLst/>
          </a:prstGeom>
          <a:ln w="0">
            <a:noFill/>
          </a:ln>
        </p:spPr>
      </p:pic>
      <p:pic>
        <p:nvPicPr>
          <p:cNvPr id="118" name="vrsta_jelka_les" descr=""/>
          <p:cNvPicPr/>
          <p:nvPr/>
        </p:nvPicPr>
        <p:blipFill>
          <a:blip r:embed="rId3"/>
          <a:stretch/>
        </p:blipFill>
        <p:spPr>
          <a:xfrm>
            <a:off x="7391520" y="327672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vrsta_lipa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3581640" cy="3593880"/>
          </a:xfrm>
          <a:prstGeom prst="rect">
            <a:avLst/>
          </a:prstGeom>
          <a:ln w="0">
            <a:noFill/>
          </a:ln>
        </p:spPr>
      </p:pic>
      <p:pic>
        <p:nvPicPr>
          <p:cNvPr id="120" name="vrsta_lipa_les" descr=""/>
          <p:cNvPicPr/>
          <p:nvPr/>
        </p:nvPicPr>
        <p:blipFill>
          <a:blip r:embed="rId3"/>
          <a:stretch/>
        </p:blipFill>
        <p:spPr>
          <a:xfrm>
            <a:off x="61722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rsta_jesen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3911760" cy="3593880"/>
          </a:xfrm>
          <a:prstGeom prst="rect">
            <a:avLst/>
          </a:prstGeom>
          <a:ln w="0">
            <a:noFill/>
          </a:ln>
        </p:spPr>
      </p:pic>
      <p:pic>
        <p:nvPicPr>
          <p:cNvPr id="124" name="vrsta_jesen_les" descr=""/>
          <p:cNvPicPr/>
          <p:nvPr/>
        </p:nvPicPr>
        <p:blipFill>
          <a:blip r:embed="rId3"/>
          <a:stretch/>
        </p:blipFill>
        <p:spPr>
          <a:xfrm>
            <a:off x="72388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0:47:14Z</dcterms:created>
  <dc:creator>Šola</dc:creator>
  <dc:description/>
  <dc:language>en-US</dc:language>
  <cp:lastModifiedBy>Administrator</cp:lastModifiedBy>
  <dcterms:modified xsi:type="dcterms:W3CDTF">2002-04-09T20:58:14Z</dcterms:modified>
  <cp:revision>265</cp:revision>
  <dc:subject/>
  <dc:title>No Slide Title</dc:title>
</cp:coreProperties>
</file>