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42F-FA77-4EA9-A64D-4D929F8C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9EF-D212-48D6-A1FE-CFA19C86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06B-6298-4D15-9E80-2A4213E3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4D3-CF71-4FDB-ADD2-57A88882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DB12-C153-4763-A9B6-B966C3D2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06F7-4103-4843-A759-E2901457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0AB1-EECC-4604-8018-10C7E44D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B28E-1C9A-404A-BF18-27DA49F3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1503-0471-4096-8A85-400C911C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735B-4A32-41ED-97ED-A6258D1D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ED14-A955-46A0-8CC6-38670256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01A-F230-4FF4-B955-4C89976F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FAC-ADF0-42D0-A046-02C45892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870E-D1CE-47AC-BC45-48689045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C1A7-E6E7-4046-A9B7-B85E003D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6A45-5850-49F7-96EE-E80C9DF8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1707-C05D-49F4-82A0-E8DEAA3E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095-7A8E-4CC1-80C6-7AB8496A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061-2DCB-41ED-81DF-18362D4C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1AC-55AE-48FA-A97D-7078D43D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C6E-18B3-48C4-B821-5EAA3F9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40C-C62A-4411-9556-257B158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F1C-0349-4475-AE14-492840B5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E9A-AFF6-46FB-B106-F6497B7B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7DCF-4A62-4307-97B5-426B8F78BD5B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77F6-2988-4189-8C52-8FC548E9F0D2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76720" y="19807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Vlada naj en sam, vsi drugi naj ubogajo.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39933"/>
                </a:solidFill>
                <a:latin typeface="Times New Roman"/>
              </a:rPr>
              <a:t>MARIJA TEREZ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lada v habsburški monarhiji v letih        1740-1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prta s Friderikom II. Prusk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arija_treza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350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DRUŽINA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5" name="304" descr=""/>
          <p:cNvPicPr/>
          <p:nvPr/>
        </p:nvPicPr>
        <p:blipFill>
          <a:blip r:embed="rId2"/>
          <a:stretch/>
        </p:blipFill>
        <p:spPr>
          <a:xfrm>
            <a:off x="1371600" y="2273400"/>
            <a:ext cx="3733920" cy="3530520"/>
          </a:xfrm>
          <a:prstGeom prst="rect">
            <a:avLst/>
          </a:prstGeom>
          <a:ln w="57240">
            <a:solidFill>
              <a:srgbClr val="78695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2514600" y="2133720"/>
            <a:ext cx="3962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1480" y="22860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ož Franc Štefan Lotarin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 1708- 1756)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z Marijo Terezijo je imel 16 otr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PRVI DOM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5333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chonbrunska palača na Duna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dunaj-schonbrun-L" descr=""/>
          <p:cNvPicPr/>
          <p:nvPr/>
        </p:nvPicPr>
        <p:blipFill>
          <a:blip r:embed="rId2"/>
          <a:stretch/>
        </p:blipFill>
        <p:spPr>
          <a:xfrm>
            <a:off x="2819520" y="1827360"/>
            <a:ext cx="4800600" cy="3354120"/>
          </a:xfrm>
          <a:prstGeom prst="rect">
            <a:avLst/>
          </a:prstGeom>
          <a:ln w="57240">
            <a:solidFill>
              <a:srgbClr val="7869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DRUŽINA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38320" y="2209320"/>
            <a:ext cx="3124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arija Terezija z možem in naslednikom Jožefom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303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3733920" cy="3733920"/>
          </a:xfrm>
          <a:prstGeom prst="rect">
            <a:avLst/>
          </a:prstGeom>
          <a:ln w="57240">
            <a:solidFill>
              <a:srgbClr val="7869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DRUŽINA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81480" y="2057040"/>
            <a:ext cx="3353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esarska družina na terasi gradu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chonbru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302" descr=""/>
          <p:cNvPicPr/>
          <p:nvPr/>
        </p:nvPicPr>
        <p:blipFill>
          <a:blip r:embed="rId2"/>
          <a:stretch/>
        </p:blipFill>
        <p:spPr>
          <a:xfrm>
            <a:off x="1371600" y="2001960"/>
            <a:ext cx="3733920" cy="4071960"/>
          </a:xfrm>
          <a:prstGeom prst="rect">
            <a:avLst/>
          </a:prstGeom>
          <a:ln cap="sq" w="57240">
            <a:solidFill>
              <a:srgbClr val="7869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REFORME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PRAVNE - ozemlja je razdelila na okrož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AVČNE - z davki obremeni tudi plemič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OJAŠKE - splošna vojaška obvez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 KORIST KMETU -odpravi triletno kolobarjenje, uvede nove pasme živali, sodi mu sod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ŠTETJE PREBIVALSTVA IN HIŠNE ŠTEVIL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VEDBA SPLOŠNE ŠOLSKE OBVEZ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ZDA KAZENSKI ZAKONIK - odpravi smrtno kazen in muč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9933"/>
                </a:solidFill>
                <a:latin typeface="Times New Roman"/>
              </a:rPr>
              <a:t>   </a:t>
            </a:r>
            <a:r>
              <a:rPr b="1" lang="sl-SI" sz="3600" spc="-1" strike="noStrike">
                <a:solidFill>
                  <a:srgbClr val="339933"/>
                </a:solidFill>
                <a:latin typeface="Times New Roman"/>
              </a:rPr>
              <a:t>JOŽEF 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in Marije Terez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lada v habsburški monarhiji v letih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780 -1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rancek_jozek%20_mlad" descr=""/>
          <p:cNvPicPr/>
          <p:nvPr/>
        </p:nvPicPr>
        <p:blipFill>
          <a:blip r:embed="rId2"/>
          <a:stretch/>
        </p:blipFill>
        <p:spPr>
          <a:xfrm>
            <a:off x="1965240" y="1371600"/>
            <a:ext cx="250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DRUŽINA JOŽEFA II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oproga Marija Izabela  Parm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305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32097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REFORME JOŽEFA II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EJEVOLNIŠKI PATENT ali zakon o osebni svobodi km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OLERANČNI PATENT – ZAKON O VERSKI TOLERA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DPRAVI romanja in božje poti, zapre nekatere bogate samost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720" y="2133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Ljudje so bili najprej vsi enaki.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1371240"/>
            <a:ext cx="5486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Vsak človek ima pravico do življenja, svobode in sreče.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720" y="2133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Država, to sem jaz!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720" y="2133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d54f41"/>
                </a:solidFill>
                <a:latin typeface="Times New Roman"/>
              </a:rPr>
              <a:t>RAZSVETLJENI</a:t>
            </a:r>
            <a:r>
              <a:rPr b="1" lang="sl-SI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sl-SI" sz="4800" spc="-1" strike="noStrike">
                <a:solidFill>
                  <a:srgbClr val="d54f41"/>
                </a:solidFill>
                <a:latin typeface="Times New Roman"/>
              </a:rPr>
              <a:t>ABSOLUTIZEM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7617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KAJ JE RAZSVETLJENI ABSOLUTIZEM?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91120" y="274320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Je vladanje po načelih razsvetljencev</a:t>
            </a:r>
            <a:endParaRPr b="0" lang="en-US" sz="36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7240" y="380880"/>
            <a:ext cx="518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1905120"/>
            <a:ext cx="469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9933"/>
                </a:solidFill>
                <a:latin typeface="Times New Roman"/>
              </a:rPr>
              <a:t>FRIDERIK II. PRU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9933"/>
                </a:solidFill>
                <a:latin typeface="Times New Roman"/>
              </a:rPr>
              <a:t>KATARINA VEL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276720"/>
            <a:ext cx="46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9933"/>
                </a:solidFill>
                <a:latin typeface="Times New Roman"/>
              </a:rPr>
              <a:t>MARIJA TEREZ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62520"/>
            <a:ext cx="46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9933"/>
                </a:solidFill>
                <a:latin typeface="Times New Roman"/>
              </a:rPr>
              <a:t>JOŽEF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3735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39933"/>
                </a:solidFill>
                <a:latin typeface="Times New Roman"/>
              </a:rPr>
              <a:t>FRIDERIK II. PRU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oveča moč pruske države s številnimi ukrepi ( podpira novosti v kmetijstvu, obrti, industriji, pospešuje trgovino, gradnjo c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ojaška 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zavzema se za versko strp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plošna šolska obvez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riederik_prusek" descr=""/>
          <p:cNvPicPr/>
          <p:nvPr/>
        </p:nvPicPr>
        <p:blipFill>
          <a:blip r:embed="rId2"/>
          <a:stretch/>
        </p:blipFill>
        <p:spPr>
          <a:xfrm>
            <a:off x="1444680" y="1600200"/>
            <a:ext cx="3562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360" y="1600200"/>
            <a:ext cx="373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KATARINA VELI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uska ca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762-17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e najpametnejša mati domovi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zasluga: Rusija dobi akademijo zn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vodi vojno proti Turč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katica_velika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353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4:17:04Z</dcterms:created>
  <dc:creator>SUZANA</dc:creator>
  <dc:description/>
  <dc:language>en-US</dc:language>
  <cp:lastModifiedBy>Administrator</cp:lastModifiedBy>
  <dcterms:modified xsi:type="dcterms:W3CDTF">2003-01-20T17:51:26Z</dcterms:modified>
  <cp:revision>31</cp:revision>
  <dc:subject/>
  <dc:title>PowerPoint Presentation</dc:title>
</cp:coreProperties>
</file>